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711-0B7D-4C49-A7E7-F8B40121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7591-CB72-40E5-B99E-E5BFE0E5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2A7-B0DC-4792-81D2-33EDB67D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3D3-D16B-4ECE-BC9A-D6E37228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D5AE-F557-4C89-B8EC-F8B2C9A5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05F3-071B-4F49-92D2-87044338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C31F-F9F1-4BD8-AA4A-F3434AE1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291B-3B97-48C4-969E-128F6875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030F-DEEE-49DC-BD80-AA8CC952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632B-A6B2-4560-9853-4F7C1D06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2F92-39CD-4ADC-8A90-DD9FC62E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104-8A39-4E19-9B27-D60665C7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0D92-40DC-4CD9-A4D0-CF62DD28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CCA4-5F95-42C9-B8CE-A57E9CFE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32C9-1219-499A-B057-F22AFAB5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0B4E-D073-43B5-BF6F-E0A46FCB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CDDF-81BD-40F8-879A-2A658016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08D-4F87-4E03-9C62-91E4EE2B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DC5-5E52-43EA-8ACD-11FD0546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D3B-77D4-4DCE-854D-78A7F8A7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253-1613-432C-AF97-018CCF46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D99-8C56-483F-9190-9A6F2413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F84-C553-4F75-B0CC-A8111DA8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65C-8214-4DB3-8824-45DC32A0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C40D-6607-4A49-B02E-5D6ABE9038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5AB5-96F5-451E-BA91-723B69F7C7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PIDEMIOLO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ŠKI NADZOR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.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d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orana Deljan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Medicinski fakultet Ni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Katedra infektivnih bolesti i epidemiolog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10896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KE IZMEĐU NADZORA 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ODNIH KONCEP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1600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epidemi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ensko epidemiološko ispitivanje (istraživanj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419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ori podatak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aze podataka, informacioni sistemi i s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571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kriptivni meto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inicij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škog nad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z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94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Prikupljanja podatak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Njihove analiz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rpretacije,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Disemin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i nadzor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stavlja stalno, sistematsko prikupljanje, analizu i tumačenje podataka o određenoj pojavi vezanoj za zdravlje, kao i povratnu informaciju onima koji učestvuju u prikupljanju podataka ili njihovom korišćenju, a u cilju sprečavanja i suzbijanja poremećaja zdravlja</a:t>
            </a:r>
            <a:r>
              <a:rPr b="1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95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 nadzor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iše kao skup stručnjaka i aktivnosti kojima se održava i zahvaljujući kojima funkcioniše epidemiološki nadz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257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č koja vodi poreklo iz francuskog (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iller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znači bdeti, odnosno pomno posmatra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95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okrug epidemiološkog rad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zdravstven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sanitarn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dz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35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1460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ljev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zo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21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agledavanje deskriptivno-epidemioloških karakteristika ispitivanog događaja vezanog za zdravlje. Ovaj aspekt nadzora obuhvata: a) identifikovanje posebno ugroženih grupa; b) uočavanje prostorne raspodele obolevanja, i c) praćenje vremenskog kretanja učestalosti poremećaja zdravlja, uključujući otkrivanje epidemija kao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kteristike osoba, mesta i vrem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Pomoć u radu zdravstvene službe. Tipičan primer je aktiviranje epidemiološke službe, bilo da se radi o rutinskom preduzimanju mera na osnovu prijave zarazne bolesti ili o posebnom epidemiološkom istraživanju zbog sumnje na epidemiju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Pomoć u naučnom radu. Kako počiva na deskriptivnom epidemiološkom metodu, nadzor može da pokrene i usmeri naučno istraživanj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1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2133720"/>
            <a:ext cx="8686800" cy="39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Predviđanje trenda. Ne samo učestalost bolesti, već i učestalost izlaganja faktorima rizika, određenim navikama i oblicima ponašanja u prošlosti i sadašnjosti služe za projekciju budućih dešavanja. Takvi podaci, prikupljeni nadzorom, nužni su ne samo za organizovanje zdravstvene službe, već i za preduzimanje mera (preventivni programi i sl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Informisanje i donošenje odluka. Svrha nadzora se ostvaruje ako se, osim stručnjaka, o rezultatima izveštavaju političari koji donose odluke vezane za zdravlje, kao i javnost, kako bi vršila pritisak na političa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522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Ocena efekta intervencija. Rezultati uvođenja neke preventivne mer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je komplikovan, dugotrajan, a često i teško izvodljiv postupak u praksi, pa veliku pomoć pružaju nadzorom dobijeni podaci o tzv. vremenskim serijama, tj. razlikama koje se uočavaju pre i posle intervenci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STE EPIDEMIOLOŠKOG NADZO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90512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ktivni nadz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ganizacija koja sprovodi nadzor, tj. epidemiolo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a služba odgovorna za rešavanje određenog zdravstvenog problema, i sama se angažuje u prikupljanju podataka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 vrsta nadzora zahteva periodične (obično u nedeljnim intervalima) telefonske kontakte ili lične posete ustanovama od kojih se očekuje prijavljivanje bolesti, odnosno drugih događaja koji su predmet nadzora, u cilju sakupljanja željenih podataka. Takav pristup zahteva veće napore i troškove, pa se, osim u posebnim situacijama, relativno retko kori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197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sivni nadzor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ganizacija koja sprovodi nadzor ne stupa u kontakt sa ustanovama i pojedincima na terenu, već im prepušta inicijativu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znači da se onima koji su dužni da pružaju podatke (lekari, laboratorije, bolnice) samo šalju odgovarajući obrasci i instrukcije, uz očekivanje da uredno izvršavaju svoju obavezu prijavljivanja. Nadzor koji se obavlja na rutinskoj osnovi obično ima pasivni karak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 načinu prikupljanja podataka nadzor se deli 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ktivni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vn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43480" y="3200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43480" y="3200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ela 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 predmetu nadzor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219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zor nad bolesti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198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zor nad sindromim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zor nad vakcinacija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733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zor nad faktorima rizik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4495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zor nad ponašanjem koje ugrožava zdravlj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5257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zor nakon puštanja leka na tržiš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5867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ale vrste nadzo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808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dostrožni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li, kako se još zove, stražarski)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dzo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zasnovan na uzorcima populacije, izabranim na n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n da predstavljaju važna 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va određenih grupa stanovništva, a ne da budureprezentativni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begava mu se kad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radi o događajima koji se retko javljaju, ali su mogući vesnici zdravstvenih problema širih razmer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895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ni ili upozoravajući zdravstveni događa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8098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ojanje sistema nadzora određuje se zakonskim ili drugim aktom (uredbom, propisom i sl.). Pritom se definišu svi elementi potrebni za njegovo uspešno funkcionisanje, kao što su posmatrani događaj, populacija obuhvaćena ovom merom, izvori podataka, način njihovog prikupljanja i cirkulisanja (uključujući tajnost podataka), administrativna podrška i s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3962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4267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876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5410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5943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581280" y="5715000"/>
            <a:ext cx="23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obine sistem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4648320"/>
            <a:ext cx="68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juterska obrada i povezivanje baza podatak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160" y="36576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erljiv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2590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isanost učes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7800" y="144792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ička podrš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7080" y="457200"/>
            <a:ext cx="68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Činioci koji utiču na funkcionisanje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512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obine sistema nadzor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219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zitivn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1828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čn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243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vidljivost pozitivnog nala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048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zentativn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3657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ovremen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4343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stavn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5029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ksibiln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571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hvatljiv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9:55:22Z</dcterms:created>
  <dc:creator>Bata</dc:creator>
  <dc:description/>
  <dc:language>en-US</dc:language>
  <cp:lastModifiedBy>parazitologija1n</cp:lastModifiedBy>
  <dcterms:modified xsi:type="dcterms:W3CDTF">2012-11-29T08:22:41Z</dcterms:modified>
  <cp:revision>5</cp:revision>
  <dc:subject/>
  <dc:title>EPIDEMIOLOŠKI NADZOR ISTRAŽIVANJE EPIDEMIJA</dc:title>
</cp:coreProperties>
</file>