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7A7-F24D-4F29-8D1E-F9B51E37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BBF-DA78-4BCA-A535-BE55CFA7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5D3-A65D-4215-9172-5B87F9CF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399-F277-4E41-99B5-A43DB209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B34C9-6CD1-417A-8EA0-601D69E4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8826A-4B03-4052-AE48-9C6002FD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653C-2C6F-4EDB-A64A-409BD25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DAB45-16BD-45E5-A1A3-A7C9F3D6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90B39-31CD-48B8-9FD4-865B2E8E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EDA26-163D-4890-8462-3877BBEF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C0891-CA3E-4CBE-A40E-C11632B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B22-3719-42CB-A299-C390F816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95DB4-D477-4D6B-9395-14EC0C8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941F7-289D-4559-8EBD-100772A4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6CF6E-E25E-4E1B-984E-92F2F8DF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05B65-B74A-4B3A-8F32-F2142B24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06E24-E925-487A-8648-F7955826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29B-10DC-4760-8C3B-B9D68134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A2A-C604-45FE-A8BB-DAB98B42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201-5447-424B-8448-47A0BF72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CCE-7143-432C-B8B2-1B54EE6E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452-7870-4457-A454-B6C1CC29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7D6-F728-4E69-B374-2DD1FCE9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707-6A32-49F0-A450-D57D8854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EDD7-4A02-4BDE-A109-406341970BA2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9651-5802-45D5-BDCD-DBAF6C5B2398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PRIRODNO</a:t>
            </a:r>
            <a:r>
              <a:rPr b="1" lang="sr-Latn-CS" sz="4400" spc="-1" strike="noStrike">
                <a:solidFill>
                  <a:srgbClr val="ffcc00"/>
                </a:solidFill>
                <a:latin typeface="Tahoma"/>
                <a:ea typeface="Tahoma"/>
              </a:rPr>
              <a:t>Ž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AR</a:t>
            </a:r>
            <a:r>
              <a:rPr b="1" lang="sr-Latn-CS" sz="4400" spc="-1" strike="noStrike">
                <a:solidFill>
                  <a:srgbClr val="ffcc00"/>
                </a:solidFill>
                <a:latin typeface="Tahoma"/>
                <a:ea typeface="Tahoma"/>
              </a:rPr>
              <a:t>IŠNE INFEKCIJE</a:t>
            </a: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Prof. dr Zoran Veličkov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Tahoma"/>
                <a:ea typeface="Tahoma"/>
              </a:rPr>
              <a:t>Aktivnost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 pr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  <a:ea typeface="Tahoma"/>
              </a:rPr>
              <a:t>irodnih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žarišta je različita tokom pojedinih godišnjih doba u odnosu na </a:t>
            </a:r>
            <a:r>
              <a:rPr b="1" lang="sr-Latn-CS" sz="3600" spc="-1" strike="noStrike">
                <a:solidFill>
                  <a:srgbClr val="ffcc00"/>
                </a:solidFill>
                <a:latin typeface="Tahoma"/>
                <a:ea typeface="Tahoma"/>
              </a:rPr>
              <a:t>vektore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1" lang="sr-Latn-CS" sz="3600" spc="-1" strike="noStrike">
                <a:solidFill>
                  <a:srgbClr val="ffcc00"/>
                </a:solidFill>
                <a:latin typeface="Tahoma"/>
                <a:ea typeface="Tahoma"/>
              </a:rPr>
              <a:t>uzročnike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 i </a:t>
            </a:r>
            <a:r>
              <a:rPr b="1" lang="sr-Latn-CS" sz="3600" spc="-1" strike="noStrike">
                <a:solidFill>
                  <a:srgbClr val="ffcc00"/>
                </a:solidFill>
                <a:latin typeface="Tahoma"/>
                <a:ea typeface="Tahoma"/>
              </a:rPr>
              <a:t>razmnožavanje divljih životinja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 (naročito glodara), kao i </a:t>
            </a:r>
            <a:r>
              <a:rPr b="1" lang="sr-Latn-CS" sz="3600" spc="-1" strike="noStrike">
                <a:solidFill>
                  <a:srgbClr val="ffcc00"/>
                </a:solidFill>
                <a:latin typeface="Tahoma"/>
                <a:ea typeface="Tahoma"/>
              </a:rPr>
              <a:t>tokom pojedinih godina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Tako je, van tropskog pojasa, brojnost vektora najveća u prolećno-letnjim mesecima, a poznate su tzv. “mišje godine” kada je populacija miševa i pacova izrazito brojna (ratovi, poplave, potresi).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507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Velika brojnost vektora, mikroorganizama i divljih životinja, posebno glodara, može da utiče na učestalost nekih zoonoza i među ljudima (hemoragijske groznice, tularemija, kuga i dr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507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Prirodna žaršta i oboljenja vezana za njih mogu da menjaju i svoj geografski raspored.</a:t>
            </a:r>
            <a:br>
              <a:rPr sz="3200"/>
            </a:br>
            <a:br>
              <a:rPr sz="3200"/>
            </a:br>
            <a:br>
              <a:rPr sz="1200"/>
            </a:br>
            <a:r>
              <a:rPr b="1" lang="sr-Latn-CS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507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sr-Latn-CS" sz="1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Žarište može da se </a:t>
            </a: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ugasi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spontano, ako ne postoje uslovi za nesmetano kruženje uzročnika bolesti ili se gasi delovanjem čoveka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Žarišta se gase ljudskom aktivnošću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u toku osvajanja prirode (krčenje šuma) ili smišljenom borbom protiv žarišta (dezinsekcija, deratizacija)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12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Osim udaljavanja prirodnih žarišta od čoveka, moguće je i njihovo </a:t>
            </a: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približavanje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čoveku, što se dešava kada se životinje primiču ljudskim naseljima u potrazi za hranom (u jesen nakon žetve, približavcanje glodara zbog razbacane hrane oko logora ili naselja itd.)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8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Epidemijski proces se u prirodnom žarištu odvija nezavisno od čoveka. 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Ukoliko čovek slučajno dospe u žarište, obavljajući profesionalne ili druge aktivnosti (šumari, naučno-istraživačke ekipe, lovci, planinari) on će biti napadnut kao novi izvor hrane.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8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Čovek se najčešće zaražava preko vektora, a ređe ostalim putevima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Učestalost zaražavanja ljudi zavisi od: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dužine boravka ljudi u žarištu,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broja ljudi i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“apetita” vekto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9640" y="3933720"/>
            <a:ext cx="345456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488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Sve vrste mikroorganizama mogu biti uzročnici infekcija. </a:t>
            </a:r>
            <a:br>
              <a:rPr sz="3200"/>
            </a:br>
            <a:br>
              <a:rPr sz="10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Najčešći uzročnici su virusi, a zatim rikecije i spirohete.</a:t>
            </a:r>
            <a:br>
              <a:rPr sz="3200"/>
            </a:br>
            <a:br>
              <a:rPr sz="10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Zavisno od kriterijuma, postoje različite podele prirodnožarišnih infekcija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48836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Kada se govori o ovim infekcijama uvek se misli na zoonoze, tj. zarazna oboljenja životinja (divljih i domaćih), koja se u prirodnim uslovima mogu preneti na ljude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353440" cy="587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Podrazumeva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se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ž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ivotna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z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ajednica u kojoj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uzročnici bolesti neprestano cirkulišu između divljih životinje kao davalaca i primalaca infekcije i zglavkara kao prenosioca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48836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Danas se zna da zoonoze čine više od trećine svih zaraznih bolesti od kojih mogu da obole ljudi, odnosno računa se da postoji blizu dve stotine prirodnožarišnih infekcija i ovaj broj se stalno povećava.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137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Kod nas se za neka žarišta zna, neka su još nedovoljno ispitana, a neka upavo nastaju promenom geomorfološkog sastava životne sredine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137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Od poznatijih bolesti, kod nas su 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prisutna žarišta </a:t>
            </a:r>
            <a:r>
              <a:rPr b="0" i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bruceloze, tularemije, </a:t>
            </a:r>
            <a:br>
              <a:rPr sz="3200"/>
            </a:br>
            <a:r>
              <a:rPr b="0" i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Q-groznice, hemoragijske groznice </a:t>
            </a:r>
            <a:br>
              <a:rPr sz="3200"/>
            </a:br>
            <a:r>
              <a:rPr b="0" i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sa bubrežnim sindromom, krimsko-kongo hemoragijske groznice, trihineloze i drugih.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Zaštita od ovih oboljenja sastoji se, u principu u maksimalnom 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smanjivanju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ili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onemogućavanju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kontakta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ljudi sa rezervoarima i prenosiocima uzročnika infekcije, kao i 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smanjivanju brojnosti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i 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rezervoara i prenosilaca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uzročnika na tolerantan nivo, kada se praktično prekida prenošenje uzročnik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000"/>
            </a:b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Osim navedene opšte zaštite u borbi, postoji i tzv. specifična zaštita, odnosno upotreba odgovarajućih </a:t>
            </a:r>
            <a:r>
              <a:rPr b="1" lang="sr-Latn-CS" sz="3600" spc="-1" strike="noStrike">
                <a:solidFill>
                  <a:srgbClr val="ffcc00"/>
                </a:solidFill>
                <a:latin typeface="Tahoma"/>
                <a:ea typeface="Tahoma"/>
              </a:rPr>
              <a:t>seruma i vakcina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3023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Tahoma"/>
                <a:ea typeface="Tahoma"/>
              </a:rPr>
              <a:t>Podela prirodnožarišnih infekc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907920"/>
          <a:ext cx="8424720" cy="5950080"/>
        </p:xfrm>
        <a:graphic>
          <a:graphicData uri="http://schemas.openxmlformats.org/drawingml/2006/table">
            <a:tbl>
              <a:tblPr/>
              <a:tblGrid>
                <a:gridCol w="2519280"/>
                <a:gridCol w="590544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riterijum za pode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Vrsta prirodnžarišnih infekc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tiolog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cc00"/>
                          </a:solidFill>
                          <a:latin typeface="Tahoma"/>
                          <a:ea typeface="Tahoma"/>
                        </a:rPr>
                        <a:t>Bakterijska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: bruceloza, tularemija, leptospiroze, antraks, kuga, sakag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cc00"/>
                          </a:solidFill>
                          <a:latin typeface="Tahoma"/>
                          <a:ea typeface="Tahoma"/>
                        </a:rPr>
                        <a:t>Virusna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: besnilo, virusne hemoragijske groznice, sezonski meningoencefalitisi, ornitoza-psitako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cc00"/>
                          </a:solidFill>
                          <a:latin typeface="Tahoma"/>
                          <a:ea typeface="Tahoma"/>
                        </a:rPr>
                        <a:t>Rikecijska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: Q-groznica, marseljska groznica, murini pegav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cc00"/>
                          </a:solidFill>
                          <a:latin typeface="Tahoma"/>
                          <a:ea typeface="Tahoma"/>
                        </a:rPr>
                        <a:t>Protozoalna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: toksoplazmoza, lajšmanijaza, šistozomija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cc00"/>
                          </a:solidFill>
                          <a:latin typeface="Tahoma"/>
                          <a:ea typeface="Tahoma"/>
                        </a:rPr>
                        <a:t>Helmintoza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: trihineloza, ehinokokoza, tenija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roj vrsta uzročn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JEDNOUZROČNA I VIŠEUZROČ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roj vrsta domać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Jednodomaćinska i višedomaćins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roj vrsta vekto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Jednovektorska i viševektors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4652640"/>
            <a:ext cx="8147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ff00"/>
                </a:solidFill>
                <a:latin typeface="Arial"/>
              </a:rPr>
              <a:t>HVALA NA PAŽNJI 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Rectangle 3" descr=""/>
          <p:cNvPicPr/>
          <p:nvPr/>
        </p:nvPicPr>
        <p:blipFill>
          <a:blip r:embed="rId1"/>
          <a:srcRect l="4207" t="5712" r="3219" b="25914"/>
          <a:stretch/>
        </p:blipFill>
        <p:spPr>
          <a:xfrm>
            <a:off x="1116000" y="765000"/>
            <a:ext cx="66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353440" cy="587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Prirodna žarišta predstavljaju, teritorije na kojima među divljim životinjama tinjaju zarazne bolesti životinja (zoonoze), opasne i za ljude kao i za neke vrste domaćih životinja.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Postojanje prirodnih žarišta u divljoj prirodi nezavisno je od prisustva čoveka.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Ona su nastala u davnoj prošlosti i održala su se do danas u divljoj prirodi zbog toga što su uzročnici bolesti uspeli da cirkulišu u beskonačnom nizu generacije zglavkara kao prenosioca infek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Životnu zajednicu (biocenozu) prirodnog žarišta čine četiri člana: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divlja životinj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, nosilac uzročnika, kao davalac (donor) ili izvor zaraze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patogeni uzročnik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koji kruži u prirodi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živi prenosilac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(razne vrste insekata i krpelja) koji siše krv davaoca, zaražava se i prenosi infekciju na zdrave životinje i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4. </a:t>
            </a: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zdrava divlja životinj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kao primalac (recipijent), koji prima uzročnika od prenosioca i 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že postati davalac (donor) u daljem kruženju uzročnika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684360" y="260280"/>
            <a:ext cx="7773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CIKLUS KRETANJA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 UZROČNIKA U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PRIRODNOM 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Ž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AR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IŠ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0" name="Group 12"/>
          <p:cNvGrpSpPr/>
          <p:nvPr/>
        </p:nvGrpSpPr>
        <p:grpSpPr>
          <a:xfrm>
            <a:off x="250920" y="1557360"/>
            <a:ext cx="8713800" cy="4680000"/>
            <a:chOff x="250920" y="1557360"/>
            <a:chExt cx="8713800" cy="4680000"/>
          </a:xfrm>
        </p:grpSpPr>
        <p:grpSp>
          <p:nvGrpSpPr>
            <p:cNvPr id="91" name="Group 10"/>
            <p:cNvGrpSpPr/>
            <p:nvPr/>
          </p:nvGrpSpPr>
          <p:grpSpPr>
            <a:xfrm>
              <a:off x="250920" y="1557360"/>
              <a:ext cx="8713800" cy="4680000"/>
              <a:chOff x="250920" y="1557360"/>
              <a:chExt cx="8713800" cy="4680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250920" y="1557360"/>
                <a:ext cx="8713800" cy="4680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3" name="Group 8"/>
              <p:cNvGrpSpPr/>
              <p:nvPr/>
            </p:nvGrpSpPr>
            <p:grpSpPr>
              <a:xfrm>
                <a:off x="395280" y="1771560"/>
                <a:ext cx="8424720" cy="3975120"/>
                <a:chOff x="395280" y="1771560"/>
                <a:chExt cx="8424720" cy="3975120"/>
              </a:xfrm>
            </p:grpSpPr>
            <p:pic>
              <p:nvPicPr>
                <p:cNvPr id="94" name="Picture 3" descr="spir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5280" y="1771560"/>
                  <a:ext cx="8424720" cy="39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Line 7"/>
                <p:cNvSpPr/>
                <p:nvPr/>
              </p:nvSpPr>
              <p:spPr>
                <a:xfrm flipH="1">
                  <a:off x="8532720" y="5157720"/>
                  <a:ext cx="144720" cy="358920"/>
                </a:xfrm>
                <a:prstGeom prst="line">
                  <a:avLst/>
                </a:prstGeom>
                <a:ln w="38160">
                  <a:solidFill>
                    <a:srgbClr val="00000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6" name="Oval 9"/>
              <p:cNvSpPr/>
              <p:nvPr/>
            </p:nvSpPr>
            <p:spPr>
              <a:xfrm>
                <a:off x="3735360" y="2171880"/>
                <a:ext cx="287280" cy="28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7" name="Text Box 11"/>
            <p:cNvSpPr/>
            <p:nvPr/>
          </p:nvSpPr>
          <p:spPr>
            <a:xfrm>
              <a:off x="3675240" y="21272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8"/>
                  </a:solidFill>
                  <a:latin typeface="Arial Unicode MS"/>
                </a:rPr>
                <a:t>Č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9308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Teritorije na kojima se održavaju prirodna žarišta nazivaju se biotopima.</a:t>
            </a:r>
            <a:br>
              <a:rPr sz="3200"/>
            </a:br>
            <a:br>
              <a:rPr sz="14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Biotopi mogu biti prostorno 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ograničeni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(lokalizovani) ili </a:t>
            </a: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difuzni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9308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Lokalizovana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se nazivaju i elementarnim žarištima i to su obično rupe glodara, jazbine ili pećine u kojima žive zajedno uzročnik, domaćin i vektor (prenosilac). </a:t>
            </a:r>
            <a:br>
              <a:rPr sz="3200"/>
            </a:br>
            <a:br>
              <a:rPr sz="1200"/>
            </a:b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Difuzn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a predstavljaju širi geografski predeli kao što su livade, pašnjaci, šume, savane, džungle i sl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9:44:06Z</dcterms:created>
  <dc:creator>zoran</dc:creator>
  <dc:description/>
  <dc:language>en-US</dc:language>
  <cp:lastModifiedBy>zoran velickovic</cp:lastModifiedBy>
  <dcterms:modified xsi:type="dcterms:W3CDTF">2013-06-03T08:53:00Z</dcterms:modified>
  <cp:revision>78</cp:revision>
  <dc:subject/>
  <dc:title>PROFILAKSA ZARAZNIH BOLESTI</dc:title>
</cp:coreProperties>
</file>