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DE3-444F-4E86-AA03-D9CCEFEE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97B-F9D0-4B09-8D87-A6E1D8D5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A2F-CB7F-46D2-A27A-4649F24A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94E-9BD7-46D6-97CF-3CA2D2AA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2738-AF3A-4F73-9EE8-0EB14B2D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C76F-DDA3-4648-AFAF-FFB37203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591A-D579-4589-B148-3E1047D0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74A8-639A-4103-9341-BCD70A2E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AEDD-DF83-40D7-B238-1931FB83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3826-550D-4C3C-875D-D9980839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60D0-8093-49B5-BB3C-8502CD6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72D-C9CD-473F-8B9A-E0D8C93D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0C20-62BA-4356-88A6-578007E9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49BA-01FA-408E-977B-7F3A02A9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53CA-7469-487A-901B-72D9644E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C903-F8B6-4AAF-8F58-A6FC2EAA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9664-B851-473D-BE91-9BAF7A3F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2E8-5DEB-410C-B38F-05E5BC7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C34-782D-4C5F-9892-EAD1CBB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76D-BDF4-4F5D-8294-92F3E52E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354-17DF-4713-AE37-A947F5B5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04C-C253-414D-B16F-D2863482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B3E-D122-4FD2-AD05-4FB5F3A1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C5F-DF32-4F4A-9776-D0CA4FC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0607-5A60-4589-9A36-CD85CB2C98BD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59A4-8124-470A-A787-956711C8137F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tatistika u epidemiologij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of. dr Branislav Petrovi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incidencije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 2. Izračunati morbiditet od zaraznih bolesti u opštin Niš 1998. godine, ako je ukupan broj registrovanih zaraznih bolesti iznosio 3939, a broj stanovnika 24618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 =3939 X 100.000 : 246184 =393900000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 = 1600.02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j. na svakih 100.000 stanovnika od svih zaraznih bolesti obolelo je 1600.02 l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o prikazivanje stopa incidencije i morbid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893960" y="1905120"/>
          <a:ext cx="614664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1905120"/>
                    <a:ext cx="614664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oliko se ove stope izračunavaju za veliku grupu bolesti (npr. za sve zarazne bolesti), tada se govori o opštim stopama obolevanja (incidencije i morbiditeta), medjutim ukoliko se radi o pojedinim  bolestima, tada se govori o specifičnim stopama incidencije i morbidite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mer 3. U opštini Niš (246184 stanovnika) od varičele su 1998. godine obolele 1434 osobe. Specifična stopa obolevanja od varičele je iznosil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. = 1434 X 100.000 : 2461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 = 143400000: 2461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 = 582.49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li na svakih 100.000 stanovnika obolele su 582.49 osob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a stopa incidencije i morbiditeta može se računati i za osobe odredjenog pola, uzrasta, zanimanja i sl. Ukoliko se računaju specifične stope (prema polu, uzrastu, zanimanju...) potrebno je znati broj obolelih medju osobama sa posmatranim obeležjima i ukupan broj osoba sa tim istim obeležjim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(Mb) spec =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obolelih(medju osobama sa odredj. karakteristikama) X  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sr-Latn-C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. stanovnika sa odredjenim karakteristika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prema polu i uzrast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 4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enterokolita medju dečacima u uzrastu od 10-14 godina tokom jedne godine iznosio je 1280. Ukupan broj dečaka u uzrastu od 10-14 godina  u posmatranom periodu je iznosio 14.800. Specifična stopa obolevanja muške dece u pomenutom uzrastu u posmatranoj populaciji te godine je iznosio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b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280 X 10.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86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8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64.86  na 10.000 muške dece starosti 10-14 godina. Pošto je stopa obolevanja veoma visoka, može se izraziti u procentima, tj. procenat obolelih dečaka (10-14 god) je iznosio 8.65%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sečna godišnja stop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sečna godišnja sto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idencije (morbiditeta) za odredjeni period se računa tako što se ukupan broj novoobolelih u posmatranom periodu pomnoži sa konstantom (1000, 10.000 ili 100.000) i podeli sa ukupnim brojem stanovnika u tom period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(Mb) pros =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kupan br.novoob. u periodu T</a:t>
            </a:r>
            <a:r>
              <a:rPr b="1" i="1" lang="en-US" sz="1800" spc="-1" strike="noStrike" u="sng" baseline="-30000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Tn X 10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 stanovn u T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T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.......+T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sečna godišnja stop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7392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90000"/>
              </a:lnSpc>
              <a:spcBef>
                <a:spcPts val="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er 6. Broj obolelih od malignih bolesti u jenom kolektivu, kao i broj zaposlenih radnika prikazan je na tabeli broj 2. Izračunaj prosečnu godišnju incidenciju malignih bolesti u tom kolektiv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bela 2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oj novootkrivenih malignih bolesti u jednom kolektivu u periodu od 1993 do 1996. godin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 = (4+5+4+6) X100.000 : (1840+1856+1820+180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 = 19 X 100.000 : 7321= 259.52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jest, u posmatranom preduzeću prosečna godišnja incidencija je iznosila 259.52 na 100.000  zaposleni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07240" cy="138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evalen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pa” prevalencije se, takodje, računa na odredjeni broj stanovnika i ona može biti opšta i specifična. Za razliku od incidencije, ona posmat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upan broj oboleli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i starih slučajeva i novoobolelih) od neke bolesti na odredjenom području (u strogo odredjenoj populaciji) za odredjeni vremenski period (najčešće jednu godinu) ili u jednoj tački vremena - “point prevalence” (npr. na dan 31.12.1995. godine). Ona pokazuje koliko ukupno ljudi boluje na jednoj teritoriji od posmatrane bolesti (u datom momentu, odnosno u datoj godini), pa ne predstavlja pravu stopu, već proporciju (odnos dela celine prema celini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 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kupan broj obolelih X  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ličina populacije u odredjenom vremenskom perio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valenca neke bolesti, svakako zavisi od incidencije, ali i od dužine preživljavanja (smrtnosti) i obično se teško izračunava i zahteva posebna ispitivanja (tzv. studije prevalenc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prevalenci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: Terenskim ispitivanjem  je utvrdjeno da u jednom gradu, koji ima 15642 stanovnika, na dan 31. maja 1998. godine  živi  655 osoba obolelih od dijabeta (hipotetičan primer). “Stopa” prevalencije dijabeta bi iznosi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655 X 100.000 : 1564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65500000: 1564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4187. 44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li 4.19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evalencija primer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: Na dan 1.11.1998 godine u opštini Niš živi 28 osoba sa HIV infekcijom. Prevalencija HIV infekcije u opštini Niš iznos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28 X 100.000 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2800000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11.37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j. na svakih 100.000 stanovnika u opštini Niš 11.37 boluje od HIV infekcije (ili 0.0114%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783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ODN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37124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jjednostavniji relativni broj (u isto vreme i epidemiološka karakteristika) 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n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ji predstravlja poredjenje dve vrednosti (A i B), tj. koliko puta je jedna vrednost (A) veća ili manja od druge (B). Odnos dve vrednosti se izračunava njihovim deljenj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 primer, jednu populaciju sačinjavaj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54 muškar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80 že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Postavlja se pitanje kakav j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nos polov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u pomenutoj populaciji. On se računa tako što se broj muškaraca podeli sa brojem žen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uškarci : žene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4:980 =  1.28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j. broj muškaraca je 1.28 puta veći od broja žen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nosi se mogu računati kada su brojilac i imenilac dve različite veličine (muškarci- žene, pušači-nepušači) i kada se brojilac ne sadrži u imeniocu i obrnut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ortal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šte stope mortaliteta (odnosi se na ukupan broj umrlih) se izračunavaju po sledećoj formu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B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. umrlih u odredjenom periodu X  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 stanov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U Srbiji je 1990. ukupno umrlo 93729 osoba ( broj stanovnika Srbije 1990. je iznosio 9884993). Opšta stopa mortaliteta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93729 X 100.000 : 9.884.9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948.19 na 100.000 stanovni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mortal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 stope mortaliteta se odnose na odredjenu bolest ili  grupu bolesti, pol, uzrast ili neku drugu karakteristiku umrlih osob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spec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umrlih (od odredjene bolesti)        X  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. stanovnik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Tokom 1990. godine na teritoriji Srbije od svih zaraznih bolesti umrlo je 899 osoba (br. stanovnika je iznosio 9. 884.993) Specifični mortalitet od infektivnih bolesti iznosio j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. spec = (899 x 100.000) : 9.884.993 = 9.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j. 9. 09 na 100.000 stanovnika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mortal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8110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 stope mortaliteta mogu biti, ne samo prema vrsti bolesti, već i prema polu, uzrastu, zanimanju... One se računaju po sledećoj formu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t spec =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umrlih(medju osobama sa odredj. karak) X  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. stanovnika sa odredjenim karakteristika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U jednoj opštini, koja ima 18.000 stanovnika muškog pola u uzrastu od 30-60 godina, u istom uzrastu (30-60) od malignih bolesti umrlo je 60 muškaraca. Specifična stopa smrtnosti muškaraca u pomenutom uzrastu od malignih bolesti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spec =  (60 x 100.000) : 18.000 = 333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33.3 na 100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Letal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k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raža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 procent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nikako se ne može nazvati stopom jer govori samo o odnosu dela celine (broj umrlih od odredjene bolesti) prema celini (broj obolelih od odredjene bolesti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oj umrlih od odredjene bolesti X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odredjene bole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Tokom 1990. godine od tetanusa u Srbiji  obolele su 33 osobe, a 10 je umrlo. Letalitet od tetanusa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 = (10 X 100): 33 = 30.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rednje vrednost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85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itmetička sredina  ili pros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X - iks bar) je matematički dobijena veličina, koje najčešće nema u statističkom nizu, a računa se tako što se članovi statističkog niza saberu i podele sa brojem članov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x1 +x2+......xn) : n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mer:  Na osnovu podataka iz tabele broj 2. izračunati prosečan godišnji  broj zaposlenih u kolektivu, kao i prosečan godišnji broj obolelih od malignih bolesti u tom kolektivu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sečan godišnji broj zaposleni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 1840+1856+1820+1805) : 4 = 1807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sečan godišnji broj obolelih od malignih bolest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4+5+4+6) : 4 = 4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itmetička sredina se računa u slučaju kada su pojedine vrednosti u statističkom nizu ujednačene, tj. ukoliko nema velikih ostupanja medju njima (kod homogenih nizova). Tada aritmetička sredina adekvatno “predstavlja” sve članove niz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edi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dija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redstavlja centralnu vrednost u statističkom nizu koji je uredjen prema veličini  članova (na podjednakom je odstojanju od prvog i zadnjeg člana u nizu, tj. nalazi se na sredini niza) i računa se po formul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 = (n+1):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imer: Broj prijavljenih slučajeva  side u Jugoslaviji u periodu od 1985. do 1997. kretao se kako je prikazano na tabeli broj 3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jpre se pomenuti statistički niz (broj obolelih) mora urediti po veličini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,3,10,27,33,56,61,65,70,84,86,88,97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 zatim se medijana računa prema formuli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 = (n+1): 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 = (13+1):2 = 7, dakle, sedmi član u uredjenom nizu predstavlja medijanu (6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5907240" cy="1560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edi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računati medijanu za već uredjeni statistički ni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,5,36,40,45,50,59,6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 = (n+1): 2 = (8+1):2 = 4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 ovom slučaju medijana se nalazi izmedju četvrtog i petog člana serije i mora se matematički odredi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40+45): 2 = 85: 2 = 42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kle, kod serija sa parnim brojem članova medijana je fiktivna vrednost i, u ovom slučaju, iznosi 4.2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Tabelarno prikazivanje podatak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906880" cy="3487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Kružn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2438280"/>
          <a:ext cx="314316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419720" y="236232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Štapićast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066680" y="2438280"/>
          <a:ext cx="314352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31435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572000" y="251460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o prikazivanje odnos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819520"/>
          <a:ext cx="2485800" cy="169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24858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91120" y="251460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5146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Linijsk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90720" y="2057400"/>
          <a:ext cx="3124080" cy="21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3124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419720" y="281952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81952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66"/>
                </a:solidFill>
                <a:latin typeface="Verdana"/>
              </a:rPr>
              <a:t>Praktični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838080"/>
            <a:ext cx="914400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Zadata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zaraznih bolesti u jednoj opštini, koja ima 25000 stanovnika  iznosi 456. Izračunati morbidit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novoobolelih od malignih bolesti tokom jedne godine u gradu, koji ima 125000 stanovnika,  je 484, a u susednom selu, sa 228 stanovnika – 9.   U kojem od ovih naselja maligne bolesti imaju veću stopu incidencij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umrlih o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ih  zaraznih bolesti  tokom jedne godine u jednom naselju sa 895 stanovnika je 3. Koliki je mortalite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tetanusa u jednoj zemlji, koja ima 18000000 stanovnika tokom 2000. godine  iznosio je 136, a 15 osoba je umrlo od tetanusa. Koliki je mortalitet, a koliki letalitet od tetanu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drediti medijanu ili aritmetičku sredinu sledećeg ni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(odlučite se samo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jednu, validniju mogućnost)    2,6,45,32,5,18,13,21,36,55,52,7,19,15,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drediti medijanu ili aritmetičku sredinu sledećeg ni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(odlučite se samo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jednu, validniju mogućnost): 25,23,21,22,22,28,20,21,21,26,24,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ledeću tabelu prikazati grafički: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U strukturi neke pojave (P) obeležj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 ima 25 osoba, obeležje B – 20 osoba, obeležje C –5 osoba i obeležje D –50 osoba. Grafički predstaviti procentualnu strukturu pojave 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5638680" cy="860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6080"/>
            <a:ext cx="8162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por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ni bro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i pokazuje kakav 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nos dela celine prema celi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j. kada je brojilac deo imenioc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: (A+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 primer, od 120 obolelih žena od malignih bolesti 28 je bolovalo od karcinoma dojke, a  92 od drugih malignih bolesti. Koliki je udeo karcinoma dojke u ukupnom broju obolelih žena od malignih bolesti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ja karcinoma dojke medju obolelim ženama od malignih bolesti se izračunava na sledeći nači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porcija obolelih žena od Ca dojk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8: (28+92) =0.2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a proporcija  može se prikaza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o decimal (0.233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omak (28/120, 14/60, 7/3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li procenat (23.3%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2 (proporcija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U jednom odeljenju od 30 učenika 7 učenika imaju plavu kosu, 18 smedju, a 5 crnu. Kakav je proporcionalni odnos plavih, smedjih i crnih učenik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lavi       7: 30 = 0.233  ili 7/30  ili 23.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Smedji   18: 30 = 0.6  ili 18/30 (9/15; 3/5) ili 60,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rni         5: 30 = 0.166 ili 5/30(1/6) ili 16.6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Procenat se izračunava tako što se proporcija pomnoži sa 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Zbir svih proporcija iznosi 1 (ili 10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i prikaz primera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1981080"/>
          <a:ext cx="314316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19720" y="198108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9810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2514600" y="4343400"/>
          <a:ext cx="3143160" cy="2143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3434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top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kazuju kojom 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namik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ke pojave javljaju u odredjenoj populaciji. Dakle, za izračunavanje stopa potrebno je poznavati  kvantitet pojave (broj obolelih, umrlih, dogadjaja...) i veličinu populacije u odredjenom vremenskom periodu, a prikazuju se na 100, 1000, 10.000 ili 100.000 stanovnika. Najčešće se izračunavaj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pe incidencije, prevalencije, morbiditeta, mortaliteta i letalite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ve ove stope (osim letaliteta) mogu bit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standardizovan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računate na tzv.”standardno stanovništvo”)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nestandardizovan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računate na veličinu posmatranog stanovništva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š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matrane za veću grupu bolesti ili sve bolesti)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rema polu, uzrastu, bolesti, zanimanju...). U stvari, “stopa prevalencije” (kao i “kumulativna stopa incidencije i morbiditeta”) nije prava stopa, jer odražava odnos dela i celine, pa u stvari predstavlja proporciju, mada se u literaturi često naziva stopo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Incidencija i morbid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su osnovni pokazatelji obolevanja. Označavaj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oj novooboleli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d odredjene bolest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 odredjenom vremenskom period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najčešće u toku jedne kalendarske godine) u strog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isanoj populacij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 izražavaju se na 1.000, 10.000 ili 100.000 stanovnika. Incidencija se izračunava kod hroničnih, dugotrajnih bolesti, a morbiditet kod kratkotrajnih, akutnih (najčešće zaraznih) bolesti. Ukoliko bolest dugo traje, u jednoj populaciji postoje osobe koje su se razbolele ranijih godina, ali i osobe koje su se razbolele tokom posmatrane godine. Da se ne bi stvorila zabuna oko izračunavanja stopa obolevanja, za sve novoobolele se izračunava stopa incidencije, a ukupan broj obolelih (i stari i novi slučajevi) se izražava “stopom” prevalencije. Kod zaraznih bolesti (koje najčešće imaju akutni tok, osim nosilaštva HIV virusa, virusa hepatitisa B i C, tuberkuloze i još nekih) broj novoobolelih se izražava morbiditetom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(Mb) =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 novoobolelih tokom godine X 1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stanovnika tokom god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incidenci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zračunati stopu incidencije  dijabetes melitusa u Niškom okrugu 1991. godine, kada je ukupni broj novoregistrovanih slučajeva iznosio 806, a broj stanovnika 39604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= 806x100.000 : 396043 = 203.5 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100.000 – konstanta (može da bude različita u zavisnosti od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veličine populacije: 100,  1000, 10.000, 100.000..., ali se najčešće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koristi 100.00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kle, na svakih 100.000 stanovnika u Okrugu posmatrane godine obolelo je 203.5 osob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ZJZ</cp:lastModifiedBy>
  <dcterms:modified xsi:type="dcterms:W3CDTF">2010-10-18T11:20:49Z</dcterms:modified>
  <cp:revision>6</cp:revision>
  <dc:subject/>
  <dc:title>Statistika u epidemiologiji</dc:title>
</cp:coreProperties>
</file>