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D6D-519F-45EF-8565-C27D04BB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D1B-C246-44B5-A298-2B48BFAD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188-94E7-4089-8752-45B4DB19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7C8-C8F0-40E6-99E8-4D2428FA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F577-05C4-4A02-8211-9494D17E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574C-8AFC-441B-8A6F-0A96CC28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E7F4-A233-4C95-BA0D-115B8DF1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7CAB-080C-45FE-A352-BE796FD3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1380-A291-42E0-BF33-5A382D19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41EF-A204-44C3-BBE5-4939AB8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4D06-9CC0-4C1D-8112-F02D71C5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86A-ADE7-444A-B10D-85DDB24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882C-7D98-4674-9C4D-6E80F9D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5981-89EA-4DA2-AF37-1AF1E22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315-8CBA-4176-A375-4C1EEE0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2A14-498A-467C-9A0B-A3101BB4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517A-AADD-401B-A121-B178A8D4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EEC-2C1C-4E84-B105-6B5D563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1EF-7CC1-4D7C-A0BB-1F1B685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F08-69FA-43C8-A52D-3688310D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A19-449B-454D-B887-F95B40D5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982-8306-4E46-B047-40B7000C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6D7-5FA9-418A-BF26-2E66740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908-3BDC-4925-9B8A-1E688C6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6541-70E8-4EE5-8214-649F216A4227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CDD1-1CFE-4D6B-9A8E-1C0BD52D789C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EPIDEMIOLO</a:t>
            </a:r>
            <a:r>
              <a:rPr b="1" lang="sl-SI" sz="5400" spc="-1" strike="noStrike">
                <a:solidFill>
                  <a:srgbClr val="ff3300"/>
                </a:solidFill>
                <a:latin typeface="Arial"/>
              </a:rPr>
              <a:t>ŠKI METOD RADA</a:t>
            </a:r>
            <a:br>
              <a:rPr sz="54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l-SI" sz="4800" spc="-1" strike="noStrike">
                <a:solidFill>
                  <a:srgbClr val="ff3300"/>
                </a:solidFill>
                <a:latin typeface="Arial"/>
              </a:rPr>
              <a:t>Branislav Petrovi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olevanje od malignih bolesti u pojedinim 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ljama u svetu 199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7181640" cy="29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arijacije unutar drž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286000" y="1709640"/>
          <a:ext cx="6248520" cy="4686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9640"/>
                    <a:ext cx="6248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97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Lokalna distribucija boles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-17413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Topografska distribucija broja obolelih u epidemiji enterokolitisa u Dimitrovgradu avgusta 1989. godine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209680" y="2362320"/>
            <a:ext cx="6629040" cy="4038480"/>
            <a:chOff x="2209680" y="2362320"/>
            <a:chExt cx="6629040" cy="4038480"/>
          </a:xfrm>
        </p:grpSpPr>
        <p:grpSp>
          <p:nvGrpSpPr>
            <p:cNvPr id="445" name=""/>
            <p:cNvGrpSpPr/>
            <p:nvPr/>
          </p:nvGrpSpPr>
          <p:grpSpPr>
            <a:xfrm>
              <a:off x="2216520" y="2364120"/>
              <a:ext cx="6613920" cy="4034520"/>
              <a:chOff x="2216520" y="2364120"/>
              <a:chExt cx="6613920" cy="403452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2216520" y="2364120"/>
                <a:ext cx="759600" cy="349200"/>
                <a:chOff x="2216520" y="2364120"/>
                <a:chExt cx="759600" cy="3492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269440" y="2364120"/>
                  <a:ext cx="6534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R.br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216520" y="2364120"/>
                  <a:ext cx="7596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976480" y="2364120"/>
                <a:ext cx="1524600" cy="349200"/>
                <a:chOff x="2976480" y="2364120"/>
                <a:chExt cx="1524600" cy="349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029400" y="2364120"/>
                  <a:ext cx="14184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Ulic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976480" y="2364120"/>
                  <a:ext cx="15246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4501440" y="2364120"/>
                <a:ext cx="928800" cy="349200"/>
                <a:chOff x="4501440" y="2364120"/>
                <a:chExt cx="928800" cy="3492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54360" y="2364120"/>
                  <a:ext cx="8226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Br. oboleli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501440" y="2364120"/>
                  <a:ext cx="9288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430960" y="2364120"/>
                <a:ext cx="788400" cy="349200"/>
                <a:chOff x="5430960" y="2364120"/>
                <a:chExt cx="788400" cy="3492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483880" y="2364120"/>
                  <a:ext cx="682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R.broj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430960" y="2364120"/>
                  <a:ext cx="7884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6220080" y="2364120"/>
                <a:ext cx="1703160" cy="349200"/>
                <a:chOff x="6220080" y="2364120"/>
                <a:chExt cx="1703160" cy="3492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273000" y="2364120"/>
                  <a:ext cx="15969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Ulic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0080" y="2364120"/>
                  <a:ext cx="170316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923600" y="2364120"/>
                <a:ext cx="906840" cy="349200"/>
                <a:chOff x="7923600" y="2364120"/>
                <a:chExt cx="906840" cy="3492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976520" y="2364120"/>
                  <a:ext cx="8006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Broj oboleli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923600" y="2364120"/>
                  <a:ext cx="9068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216520" y="2713320"/>
                <a:ext cx="759600" cy="245520"/>
                <a:chOff x="2216520" y="2713320"/>
                <a:chExt cx="759600" cy="2455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269440" y="271332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216520" y="271332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2976480" y="2713320"/>
                <a:ext cx="1524600" cy="245520"/>
                <a:chOff x="2976480" y="2713320"/>
                <a:chExt cx="1524600" cy="2455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029400" y="271332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Mar{ala Tit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976480" y="271332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501440" y="2713320"/>
                <a:ext cx="928800" cy="245520"/>
                <a:chOff x="4501440" y="2713320"/>
                <a:chExt cx="928800" cy="2455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54360" y="271332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29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501440" y="271332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2713320"/>
                <a:ext cx="788400" cy="245520"/>
                <a:chOff x="5430960" y="2713320"/>
                <a:chExt cx="788400" cy="2455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83880" y="271332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4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271332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220080" y="2713320"/>
                <a:ext cx="1703160" cy="245520"/>
                <a:chOff x="6220080" y="2713320"/>
                <a:chExt cx="1703160" cy="2455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273000" y="271332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V.I.Cile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20080" y="271332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923600" y="2713320"/>
                <a:ext cx="906840" cy="245520"/>
                <a:chOff x="7923600" y="2713320"/>
                <a:chExt cx="906840" cy="245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976520" y="271332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2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923600" y="271332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2216520" y="2958840"/>
                <a:ext cx="759600" cy="245520"/>
                <a:chOff x="2216520" y="2958840"/>
                <a:chExt cx="759600" cy="245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269440" y="295884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16520" y="295884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976480" y="2958840"/>
                <a:ext cx="1524600" cy="245520"/>
                <a:chOff x="2976480" y="2958840"/>
                <a:chExt cx="1524600" cy="245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3029400" y="295884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8.mart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976480" y="295884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4501440" y="2958840"/>
                <a:ext cx="928800" cy="245520"/>
                <a:chOff x="4501440" y="2958840"/>
                <a:chExt cx="928800" cy="2455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554360" y="295884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06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501440" y="295884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30960" y="2958840"/>
                <a:ext cx="788400" cy="245520"/>
                <a:chOff x="5430960" y="2958840"/>
                <a:chExt cx="788400" cy="245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483880" y="295884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5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30960" y="295884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220080" y="2958840"/>
                <a:ext cx="1703160" cy="245520"/>
                <a:chOff x="6220080" y="2958840"/>
                <a:chExt cx="1703160" cy="2455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73000" y="295884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I.L.Ribar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20080" y="295884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923600" y="2958840"/>
                <a:ext cx="906840" cy="245520"/>
                <a:chOff x="7923600" y="2958840"/>
                <a:chExt cx="906840" cy="245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976520" y="295884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23600" y="295884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16520" y="3204720"/>
                <a:ext cx="759600" cy="245520"/>
                <a:chOff x="2216520" y="3204720"/>
                <a:chExt cx="759600" cy="245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69440" y="320472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216520" y="320472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976480" y="3204720"/>
                <a:ext cx="1524600" cy="245520"/>
                <a:chOff x="2976480" y="3204720"/>
                <a:chExt cx="1524600" cy="245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3029400" y="320472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Sutjesk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976480" y="320472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501440" y="3204720"/>
                <a:ext cx="928800" cy="245520"/>
                <a:chOff x="4501440" y="3204720"/>
                <a:chExt cx="928800" cy="2455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54360" y="320472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99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501440" y="320472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430960" y="3204720"/>
                <a:ext cx="788400" cy="245520"/>
                <a:chOff x="5430960" y="3204720"/>
                <a:chExt cx="788400" cy="2455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483880" y="320472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6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430960" y="320472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220080" y="3204720"/>
                <a:ext cx="1703160" cy="245520"/>
                <a:chOff x="6220080" y="3204720"/>
                <a:chExt cx="1703160" cy="245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273000" y="320472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Milentijevi}ev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20080" y="320472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923600" y="3204720"/>
                <a:ext cx="906840" cy="245520"/>
                <a:chOff x="7923600" y="3204720"/>
                <a:chExt cx="906840" cy="2455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976520" y="320472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923600" y="320472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216520" y="3450600"/>
                <a:ext cx="759600" cy="245520"/>
                <a:chOff x="2216520" y="3450600"/>
                <a:chExt cx="759600" cy="2455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269440" y="345060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216520" y="345060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976480" y="3450600"/>
                <a:ext cx="1524600" cy="245520"/>
                <a:chOff x="2976480" y="3450600"/>
                <a:chExt cx="1524600" cy="2455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029400" y="345060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Omlad.brigad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976480" y="345060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4501440" y="3450600"/>
                <a:ext cx="928800" cy="245520"/>
                <a:chOff x="4501440" y="3450600"/>
                <a:chExt cx="928800" cy="2455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554360" y="345060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88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501440" y="345060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430960" y="3450600"/>
                <a:ext cx="788400" cy="245520"/>
                <a:chOff x="5430960" y="3450600"/>
                <a:chExt cx="788400" cy="2455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483880" y="345060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7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430960" y="345060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220080" y="3450600"/>
                <a:ext cx="1703160" cy="245520"/>
                <a:chOff x="6220080" y="3450600"/>
                <a:chExt cx="1703160" cy="2455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273000" y="345060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Zabradje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220080" y="345060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923600" y="3450600"/>
                <a:ext cx="906840" cy="245520"/>
                <a:chOff x="7923600" y="3450600"/>
                <a:chExt cx="906840" cy="2455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976520" y="345060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923600" y="345060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216520" y="3696120"/>
                <a:ext cx="759600" cy="245520"/>
                <a:chOff x="2216520" y="3696120"/>
                <a:chExt cx="759600" cy="2455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269440" y="369612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5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16520" y="369612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2976480" y="3696120"/>
                <a:ext cx="1524600" cy="245520"/>
                <a:chOff x="2976480" y="3696120"/>
                <a:chExt cx="1524600" cy="2455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029400" y="369612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Ni{av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976480" y="369612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4501440" y="3696120"/>
                <a:ext cx="928800" cy="245520"/>
                <a:chOff x="4501440" y="3696120"/>
                <a:chExt cx="928800" cy="2455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554360" y="369612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70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501440" y="369612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430960" y="3696120"/>
                <a:ext cx="788400" cy="245520"/>
                <a:chOff x="5430960" y="3696120"/>
                <a:chExt cx="788400" cy="2455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483880" y="369612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8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430960" y="369612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220080" y="3696120"/>
                <a:ext cx="1703160" cy="245520"/>
                <a:chOff x="6220080" y="3696120"/>
                <a:chExt cx="1703160" cy="2455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273000" y="369612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S.Markovi}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220080" y="369612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923600" y="3696120"/>
                <a:ext cx="906840" cy="245520"/>
                <a:chOff x="7923600" y="3696120"/>
                <a:chExt cx="906840" cy="2455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976520" y="369612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923600" y="369612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216520" y="3942000"/>
                <a:ext cx="759600" cy="245520"/>
                <a:chOff x="2216520" y="3942000"/>
                <a:chExt cx="759600" cy="2455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269440" y="394200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216520" y="394200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976480" y="3942000"/>
                <a:ext cx="1524600" cy="245520"/>
                <a:chOff x="2976480" y="3942000"/>
                <a:chExt cx="1524600" cy="2455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3029400" y="394200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Bo{ka Buhe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976480" y="394200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4501440" y="3942000"/>
                <a:ext cx="928800" cy="245520"/>
                <a:chOff x="4501440" y="3942000"/>
                <a:chExt cx="928800" cy="2455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4554360" y="394200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54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501440" y="394200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5430960" y="3942000"/>
                <a:ext cx="788400" cy="245520"/>
                <a:chOff x="5430960" y="3942000"/>
                <a:chExt cx="788400" cy="2455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5483880" y="394200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9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430960" y="394200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6220080" y="3942000"/>
                <a:ext cx="1703160" cy="245520"/>
                <a:chOff x="6220080" y="3942000"/>
                <a:chExt cx="1703160" cy="2455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6273000" y="394200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7.jul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220080" y="394200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923600" y="3942000"/>
                <a:ext cx="906840" cy="245520"/>
                <a:chOff x="7923600" y="3942000"/>
                <a:chExt cx="906840" cy="2455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976520" y="394200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923600" y="394200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2216520" y="4187520"/>
                <a:ext cx="759600" cy="245520"/>
                <a:chOff x="2216520" y="4187520"/>
                <a:chExt cx="759600" cy="2455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269440" y="418752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7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216520" y="418752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976480" y="4187520"/>
                <a:ext cx="1524600" cy="245520"/>
                <a:chOff x="2976480" y="4187520"/>
                <a:chExt cx="1524600" cy="245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3029400" y="418752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V.Aleksov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976480" y="418752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4501440" y="4187520"/>
                <a:ext cx="928800" cy="245520"/>
                <a:chOff x="4501440" y="4187520"/>
                <a:chExt cx="928800" cy="245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4554360" y="418752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51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501440" y="418752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5430960" y="4187520"/>
                <a:ext cx="788400" cy="245520"/>
                <a:chOff x="5430960" y="4187520"/>
                <a:chExt cx="788400" cy="24552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483880" y="418752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0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430960" y="418752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20080" y="4187520"/>
                <a:ext cx="1703160" cy="245520"/>
                <a:chOff x="6220080" y="4187520"/>
                <a:chExt cx="1703160" cy="24552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273000" y="418752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E.Kardelj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220080" y="418752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7923600" y="4187520"/>
                <a:ext cx="906840" cy="245520"/>
                <a:chOff x="7923600" y="4187520"/>
                <a:chExt cx="906840" cy="24552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976520" y="418752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923600" y="418752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216520" y="4433040"/>
                <a:ext cx="759600" cy="245520"/>
                <a:chOff x="2216520" y="4433040"/>
                <a:chExt cx="759600" cy="24552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2269440" y="443304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8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16520" y="443304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2976480" y="4433040"/>
                <a:ext cx="1524600" cy="245520"/>
                <a:chOff x="2976480" y="4433040"/>
                <a:chExt cx="1524600" cy="2455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029400" y="443304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S.Milo{ev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976480" y="443304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501440" y="4433040"/>
                <a:ext cx="928800" cy="245520"/>
                <a:chOff x="4501440" y="4433040"/>
                <a:chExt cx="928800" cy="24552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554360" y="443304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51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501440" y="443304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430960" y="4433040"/>
                <a:ext cx="788400" cy="245520"/>
                <a:chOff x="5430960" y="4433040"/>
                <a:chExt cx="788400" cy="2455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483880" y="443304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1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430960" y="443304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6220080" y="4433040"/>
                <a:ext cx="1703160" cy="245520"/>
                <a:chOff x="6220080" y="4433040"/>
                <a:chExt cx="1703160" cy="2455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6273000" y="443304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AVNOJ-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220080" y="443304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7923600" y="4433040"/>
                <a:ext cx="906840" cy="245520"/>
                <a:chOff x="7923600" y="4433040"/>
                <a:chExt cx="906840" cy="2455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7976520" y="443304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923600" y="443304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2216520" y="4678920"/>
                <a:ext cx="759600" cy="245520"/>
                <a:chOff x="2216520" y="4678920"/>
                <a:chExt cx="759600" cy="2455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269440" y="467892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9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16520" y="467892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2976480" y="4678920"/>
                <a:ext cx="1524600" cy="245520"/>
                <a:chOff x="2976480" y="4678920"/>
                <a:chExt cx="1524600" cy="2455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3029400" y="467892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H.Botev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976480" y="467892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501440" y="4678920"/>
                <a:ext cx="928800" cy="245520"/>
                <a:chOff x="4501440" y="4678920"/>
                <a:chExt cx="928800" cy="2455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554360" y="467892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7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501440" y="467892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5430960" y="4678920"/>
                <a:ext cx="788400" cy="245520"/>
                <a:chOff x="5430960" y="4678920"/>
                <a:chExt cx="788400" cy="2455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5483880" y="467892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2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430960" y="467892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220080" y="4678920"/>
                <a:ext cx="1703160" cy="245520"/>
                <a:chOff x="6220080" y="4678920"/>
                <a:chExt cx="1703160" cy="2455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273000" y="467892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S.Aljende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220080" y="467892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7923600" y="4678920"/>
                <a:ext cx="906840" cy="245520"/>
                <a:chOff x="7923600" y="4678920"/>
                <a:chExt cx="906840" cy="2455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7976520" y="467892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923600" y="467892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2216520" y="4924440"/>
                <a:ext cx="759600" cy="245520"/>
                <a:chOff x="2216520" y="4924440"/>
                <a:chExt cx="759600" cy="24552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2269440" y="492444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0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216520" y="492444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2976480" y="4924440"/>
                <a:ext cx="1524600" cy="245520"/>
                <a:chOff x="2976480" y="4924440"/>
                <a:chExt cx="1524600" cy="24552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029400" y="492444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Car.part.odred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976480" y="492444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501440" y="4924440"/>
                <a:ext cx="928800" cy="245520"/>
                <a:chOff x="4501440" y="4924440"/>
                <a:chExt cx="928800" cy="24552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554360" y="492444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501440" y="492444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430960" y="4924440"/>
                <a:ext cx="788400" cy="245520"/>
                <a:chOff x="5430960" y="4924440"/>
                <a:chExt cx="788400" cy="24552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483880" y="492444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3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430960" y="492444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6220080" y="4924440"/>
                <a:ext cx="1703160" cy="245520"/>
                <a:chOff x="6220080" y="4924440"/>
                <a:chExt cx="1703160" cy="2455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6273000" y="492444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Skojevska 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220080" y="492444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7923600" y="4924440"/>
                <a:ext cx="906840" cy="245520"/>
                <a:chOff x="7923600" y="4924440"/>
                <a:chExt cx="906840" cy="2455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7976520" y="492444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923600" y="492444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2216520" y="5170320"/>
                <a:ext cx="759600" cy="245520"/>
                <a:chOff x="2216520" y="5170320"/>
                <a:chExt cx="759600" cy="24552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2269440" y="517032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1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216520" y="517032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2976480" y="5170320"/>
                <a:ext cx="1524600" cy="245520"/>
                <a:chOff x="2976480" y="5170320"/>
                <a:chExt cx="1524600" cy="2455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29400" y="517032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G.Dimitrov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976480" y="517032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501440" y="5170320"/>
                <a:ext cx="928800" cy="245520"/>
                <a:chOff x="4501440" y="5170320"/>
                <a:chExt cx="928800" cy="24552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4554360" y="517032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501440" y="517032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5430960" y="5170320"/>
                <a:ext cx="788400" cy="245520"/>
                <a:chOff x="5430960" y="5170320"/>
                <a:chExt cx="788400" cy="2455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5483880" y="517032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4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430960" y="517032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6220080" y="5170320"/>
                <a:ext cx="1703160" cy="245520"/>
                <a:chOff x="6220080" y="5170320"/>
                <a:chExt cx="1703160" cy="2455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6273000" y="517032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3.maj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220080" y="517032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7923600" y="5170320"/>
                <a:ext cx="906840" cy="245520"/>
                <a:chOff x="7923600" y="5170320"/>
                <a:chExt cx="906840" cy="24552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7976520" y="517032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923600" y="517032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2216520" y="5415840"/>
                <a:ext cx="759600" cy="245520"/>
                <a:chOff x="2216520" y="5415840"/>
                <a:chExt cx="759600" cy="24552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2269440" y="541584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2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16520" y="541584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2976480" y="5415840"/>
                <a:ext cx="1524600" cy="245520"/>
                <a:chOff x="2976480" y="5415840"/>
                <a:chExt cx="1524600" cy="2455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029400" y="541584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8.septembr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976480" y="541584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501440" y="5415840"/>
                <a:ext cx="928800" cy="245520"/>
                <a:chOff x="4501440" y="5415840"/>
                <a:chExt cx="928800" cy="24552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4554360" y="541584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3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501440" y="541584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430960" y="5415840"/>
                <a:ext cx="788400" cy="245520"/>
                <a:chOff x="5430960" y="5415840"/>
                <a:chExt cx="788400" cy="2455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483880" y="541584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5. 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430960" y="541584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6220080" y="5415840"/>
                <a:ext cx="1703160" cy="245520"/>
                <a:chOff x="6220080" y="5415840"/>
                <a:chExt cx="1703160" cy="2455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273000" y="541584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Vrelo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220080" y="541584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7923600" y="5415840"/>
                <a:ext cx="906840" cy="245520"/>
                <a:chOff x="7923600" y="5415840"/>
                <a:chExt cx="906840" cy="2455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7976520" y="541584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7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923600" y="541584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216520" y="5661720"/>
                <a:ext cx="759600" cy="245520"/>
                <a:chOff x="2216520" y="5661720"/>
                <a:chExt cx="759600" cy="2455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269440" y="566172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3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216520" y="566172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976480" y="5661720"/>
                <a:ext cx="1524600" cy="245520"/>
                <a:chOff x="2976480" y="5661720"/>
                <a:chExt cx="1524600" cy="2455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029400" y="566172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Mo{e Pijade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976480" y="566172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4501440" y="5661720"/>
                <a:ext cx="928800" cy="245520"/>
                <a:chOff x="4501440" y="5661720"/>
                <a:chExt cx="928800" cy="2455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554360" y="566172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9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01440" y="566172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430960" y="5661720"/>
                <a:ext cx="788400" cy="245520"/>
                <a:chOff x="5430960" y="5661720"/>
                <a:chExt cx="788400" cy="2455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483880" y="566172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6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430960" y="566172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220080" y="5661720"/>
                <a:ext cx="1703160" cy="245520"/>
                <a:chOff x="6220080" y="5661720"/>
                <a:chExt cx="1703160" cy="24552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273000" y="566172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V.Bakari}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220080" y="566172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7923600" y="5661720"/>
                <a:ext cx="906840" cy="245520"/>
                <a:chOff x="7923600" y="5661720"/>
                <a:chExt cx="906840" cy="24552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7976520" y="566172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7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923600" y="566172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2216520" y="5907240"/>
                <a:ext cx="759600" cy="245520"/>
                <a:chOff x="2216520" y="5907240"/>
                <a:chExt cx="759600" cy="24552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2269440" y="590724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4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216520" y="590724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976480" y="5907240"/>
                <a:ext cx="1524600" cy="245520"/>
                <a:chOff x="2976480" y="5907240"/>
                <a:chExt cx="1524600" cy="2455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029400" y="590724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Prvomajsk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976480" y="590724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4501440" y="5907240"/>
                <a:ext cx="928800" cy="245520"/>
                <a:chOff x="4501440" y="5907240"/>
                <a:chExt cx="928800" cy="2455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4554360" y="590724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9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501440" y="590724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5430960" y="5907240"/>
                <a:ext cx="788400" cy="245520"/>
                <a:chOff x="5430960" y="5907240"/>
                <a:chExt cx="788400" cy="2455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483880" y="590724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7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430960" y="590724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6220080" y="5907240"/>
                <a:ext cx="1703160" cy="245520"/>
                <a:chOff x="6220080" y="5907240"/>
                <a:chExt cx="1703160" cy="2455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6273000" y="590724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Partizansk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20080" y="590724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7923600" y="5907240"/>
                <a:ext cx="906840" cy="245520"/>
                <a:chOff x="7923600" y="5907240"/>
                <a:chExt cx="906840" cy="2455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7976520" y="590724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923600" y="590724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2216520" y="6153120"/>
                <a:ext cx="759600" cy="245520"/>
                <a:chOff x="2216520" y="6153120"/>
                <a:chExt cx="759600" cy="2455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2269440" y="6153120"/>
                  <a:ext cx="653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5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16520" y="6153120"/>
                  <a:ext cx="759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976480" y="6153120"/>
                <a:ext cx="1524600" cy="245520"/>
                <a:chOff x="2976480" y="6153120"/>
                <a:chExt cx="1524600" cy="2455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3029400" y="6153120"/>
                  <a:ext cx="14184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JNA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976480" y="6153120"/>
                  <a:ext cx="15246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4501440" y="6153120"/>
                <a:ext cx="928800" cy="245520"/>
                <a:chOff x="4501440" y="6153120"/>
                <a:chExt cx="928800" cy="2455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4554360" y="6153120"/>
                  <a:ext cx="8226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8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501440" y="6153120"/>
                  <a:ext cx="9288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5430960" y="6153120"/>
                <a:ext cx="788400" cy="245520"/>
                <a:chOff x="5430960" y="6153120"/>
                <a:chExt cx="788400" cy="2455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5483880" y="6153120"/>
                  <a:ext cx="6822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8.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430960" y="6153120"/>
                  <a:ext cx="78840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6220080" y="6153120"/>
                <a:ext cx="1703160" cy="245520"/>
                <a:chOff x="6220080" y="6153120"/>
                <a:chExt cx="1703160" cy="2455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273000" y="6153120"/>
                  <a:ext cx="159696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Tigrovo naselje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220080" y="6153120"/>
                  <a:ext cx="170316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7923600" y="6153120"/>
                <a:ext cx="906840" cy="245520"/>
                <a:chOff x="7923600" y="6153120"/>
                <a:chExt cx="906840" cy="24552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976520" y="6153120"/>
                  <a:ext cx="80064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923600" y="6153120"/>
                  <a:ext cx="906840" cy="24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4" name=""/>
            <p:cNvSpPr/>
            <p:nvPr/>
          </p:nvSpPr>
          <p:spPr>
            <a:xfrm>
              <a:off x="2209680" y="2362320"/>
              <a:ext cx="6629040" cy="4038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1676520" y="14479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Topografska distribucija broja obolelih u epidemiji enterokolitisa u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Dimitrovgradu avgusta 1989. godin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Hronolo{ka analiza obol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590920"/>
            <a:ext cx="716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sekularne 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koje se de{avaju tokom nekoliko decenija, pa i vekovima)</a:t>
            </a:r>
            <a:r>
              <a:rPr b="1" lang="sl-SI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cikli~ne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broj obolelih se, skoro pravilno, menja svakih nekoliko godina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ratkotrajne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- epidemije (varijacije obolevanja ili umiranja koje se de{avaju za kra}i vremenski period i koje nemaju pravilni, cikli~ni karakter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Sekularne prome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043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819520" y="3124080"/>
          <a:ext cx="5262480" cy="30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124080"/>
                    <a:ext cx="526248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304920" y="1676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Mortalitet `ena u SAD-u od raka plu}a i `eluca u periodu od 1930-19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(Parker SL et al. 1996, Cancer Statistics 1996: 46:5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520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33"/>
                </a:solidFill>
                <a:latin typeface="Times New Roman"/>
              </a:rPr>
              <a:t>želuda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915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33"/>
                </a:solidFill>
                <a:latin typeface="Times New Roman"/>
              </a:rPr>
              <a:t>pluć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76720" y="56386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33"/>
                </a:solidFill>
                <a:latin typeface="Times New Roman"/>
              </a:rPr>
              <a:t>1930                60                    9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Rak želuca u Japanu i SA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7391520" cy="304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4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Razlike u distribuciji bolesti unutar zemlje</a:t>
            </a:r>
            <a:r>
              <a:rPr b="0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371600" y="198108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Broj obolelih i morbiditet od tetanusa u Jugoslaviji 1996 godi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676520" y="2971800"/>
            <a:ext cx="6400440" cy="3338640"/>
            <a:chOff x="1676520" y="2971800"/>
            <a:chExt cx="6400440" cy="3338640"/>
          </a:xfrm>
        </p:grpSpPr>
        <p:grpSp>
          <p:nvGrpSpPr>
            <p:cNvPr id="751" name=""/>
            <p:cNvGrpSpPr/>
            <p:nvPr/>
          </p:nvGrpSpPr>
          <p:grpSpPr>
            <a:xfrm>
              <a:off x="1684800" y="2975040"/>
              <a:ext cx="6382440" cy="3331080"/>
              <a:chOff x="1684800" y="2975040"/>
              <a:chExt cx="6382440" cy="333108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1684800" y="2975040"/>
                <a:ext cx="2081520" cy="485280"/>
                <a:chOff x="1684800" y="2975040"/>
                <a:chExt cx="2081520" cy="48528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1808640" y="2975040"/>
                  <a:ext cx="183384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684800" y="2975040"/>
                  <a:ext cx="208152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3766680" y="2975040"/>
                <a:ext cx="2046240" cy="485280"/>
                <a:chOff x="3766680" y="2975040"/>
                <a:chExt cx="2046240" cy="4852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3889800" y="2975040"/>
                  <a:ext cx="179964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Broj obolelih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766680" y="2975040"/>
                  <a:ext cx="204624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5813280" y="2975040"/>
                <a:ext cx="2253960" cy="485280"/>
                <a:chOff x="5813280" y="2975040"/>
                <a:chExt cx="2253960" cy="48528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5937120" y="2975040"/>
                  <a:ext cx="20062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Mb(1/100.000)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813280" y="2975040"/>
                  <a:ext cx="225396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1684800" y="3460320"/>
                <a:ext cx="2081520" cy="474120"/>
                <a:chOff x="1684800" y="3460320"/>
                <a:chExt cx="2081520" cy="47412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1808640" y="3460320"/>
                  <a:ext cx="1833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Jugoslavij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684800" y="3460320"/>
                  <a:ext cx="2081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3766680" y="3460320"/>
                <a:ext cx="2046240" cy="474120"/>
                <a:chOff x="3766680" y="3460320"/>
                <a:chExt cx="2046240" cy="47412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3889800" y="3460320"/>
                  <a:ext cx="17996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9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766680" y="3460320"/>
                  <a:ext cx="20462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5813280" y="3460320"/>
                <a:ext cx="2253960" cy="474120"/>
                <a:chOff x="5813280" y="3460320"/>
                <a:chExt cx="2253960" cy="4741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5937120" y="3460320"/>
                  <a:ext cx="200628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0.27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813280" y="3460320"/>
                  <a:ext cx="225396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1684800" y="3934440"/>
                <a:ext cx="2081520" cy="474120"/>
                <a:chOff x="1684800" y="3934440"/>
                <a:chExt cx="2081520" cy="47412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1808640" y="3934440"/>
                  <a:ext cx="1833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Crna Gor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684800" y="3934440"/>
                  <a:ext cx="2081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3766680" y="3934440"/>
                <a:ext cx="2046240" cy="474120"/>
                <a:chOff x="3766680" y="3934440"/>
                <a:chExt cx="2046240" cy="4741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3889800" y="3934440"/>
                  <a:ext cx="17996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-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766680" y="3934440"/>
                  <a:ext cx="20462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5813280" y="3934440"/>
                <a:ext cx="2253960" cy="474120"/>
                <a:chOff x="5813280" y="3934440"/>
                <a:chExt cx="2253960" cy="47412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5937120" y="3934440"/>
                  <a:ext cx="200628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-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813280" y="3934440"/>
                  <a:ext cx="225396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1684800" y="4408920"/>
                <a:ext cx="2081520" cy="474480"/>
                <a:chOff x="1684800" y="4408920"/>
                <a:chExt cx="2081520" cy="4744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808640" y="4408920"/>
                  <a:ext cx="183384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Srbij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684800" y="4408920"/>
                  <a:ext cx="208152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766680" y="4408920"/>
                <a:ext cx="2046240" cy="474480"/>
                <a:chOff x="3766680" y="4408920"/>
                <a:chExt cx="2046240" cy="47448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3889800" y="4408920"/>
                  <a:ext cx="179964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9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766680" y="4408920"/>
                  <a:ext cx="204624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5813280" y="4408920"/>
                <a:ext cx="2253960" cy="474480"/>
                <a:chOff x="5813280" y="4408920"/>
                <a:chExt cx="2253960" cy="47448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937120" y="4408920"/>
                  <a:ext cx="20062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0.29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813280" y="4408920"/>
                  <a:ext cx="225396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1684800" y="4883400"/>
                <a:ext cx="2081520" cy="474120"/>
                <a:chOff x="1684800" y="4883400"/>
                <a:chExt cx="2081520" cy="47412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1808640" y="4883400"/>
                  <a:ext cx="1833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Centralni deo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684800" y="4883400"/>
                  <a:ext cx="2081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3766680" y="4883400"/>
                <a:ext cx="2046240" cy="474120"/>
                <a:chOff x="3766680" y="4883400"/>
                <a:chExt cx="2046240" cy="47412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3889800" y="4883400"/>
                  <a:ext cx="17996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766680" y="4883400"/>
                  <a:ext cx="20462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5813280" y="4883400"/>
                <a:ext cx="2253960" cy="474120"/>
                <a:chOff x="5813280" y="4883400"/>
                <a:chExt cx="2253960" cy="47412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5937120" y="4883400"/>
                  <a:ext cx="200628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0.31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813280" y="4883400"/>
                  <a:ext cx="225396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1684800" y="5357520"/>
                <a:ext cx="2081520" cy="474480"/>
                <a:chOff x="1684800" y="5357520"/>
                <a:chExt cx="2081520" cy="47448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1808640" y="5357520"/>
                  <a:ext cx="183384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Vojvodin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684800" y="5357520"/>
                  <a:ext cx="208152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766680" y="5357520"/>
                <a:ext cx="2046240" cy="474480"/>
                <a:chOff x="3766680" y="5357520"/>
                <a:chExt cx="2046240" cy="4744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89800" y="5357520"/>
                  <a:ext cx="179964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766680" y="5357520"/>
                  <a:ext cx="204624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5813280" y="5357520"/>
                <a:ext cx="2253960" cy="474480"/>
                <a:chOff x="5813280" y="5357520"/>
                <a:chExt cx="2253960" cy="47448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5937120" y="5357520"/>
                  <a:ext cx="20062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0.30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813280" y="5357520"/>
                  <a:ext cx="225396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684800" y="5832000"/>
                <a:ext cx="2081520" cy="474120"/>
                <a:chOff x="1684800" y="5832000"/>
                <a:chExt cx="2081520" cy="4741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808640" y="5832000"/>
                  <a:ext cx="1833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Kosovo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684800" y="5832000"/>
                  <a:ext cx="2081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3766680" y="5832000"/>
                <a:ext cx="2046240" cy="474120"/>
                <a:chOff x="3766680" y="5832000"/>
                <a:chExt cx="2046240" cy="47412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3889800" y="5832000"/>
                  <a:ext cx="17996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66680" y="5832000"/>
                  <a:ext cx="20462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5813280" y="5832000"/>
                <a:ext cx="2253960" cy="474120"/>
                <a:chOff x="5813280" y="5832000"/>
                <a:chExt cx="2253960" cy="4741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5937120" y="5832000"/>
                  <a:ext cx="200628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0.23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813280" y="5832000"/>
                  <a:ext cx="225396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5" name=""/>
            <p:cNvSpPr/>
            <p:nvPr/>
          </p:nvSpPr>
          <p:spPr>
            <a:xfrm>
              <a:off x="1676520" y="2971800"/>
              <a:ext cx="6400440" cy="3338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Se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ono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286000" y="2819520"/>
          <a:ext cx="510552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19520"/>
                    <a:ext cx="51055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0" y="18288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Sezonska distribucijabroja obolelih od influence na podru~ju Ni{kog regiona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u periodu od 1976. do 1981. godine(Petrovi} B. Magistarski rad 1985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Ciklično kret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86236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905120" y="2133720"/>
          <a:ext cx="6476760" cy="39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64767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"/>
          <p:cNvSpPr/>
          <p:nvPr/>
        </p:nvSpPr>
        <p:spPr>
          <a:xfrm>
            <a:off x="2438280" y="15238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Broj obolelih od influence u Srbiji u periodu od 1958. do 1981. godin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90920" y="5410080"/>
            <a:ext cx="5638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33"/>
                </a:solidFill>
                <a:latin typeface="Times New Roman"/>
              </a:rPr>
              <a:t>1958                                                       198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Kratkotrajne vremenske prome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Hronolo{ka distribucija obolelih od enterokolita u Op{tini Ni{ od 1.8. do 9.10.1982. godin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19520" y="2590920"/>
            <a:ext cx="64116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roj obolelih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27939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YU-Times-New-Roman"/>
              </a:rPr>
              <a:t> 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2846520" y="2617920"/>
          <a:ext cx="4592520" cy="260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6520" y="2617920"/>
                    <a:ext cx="4592520" cy="26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2819520" y="48769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33"/>
                </a:solidFill>
                <a:latin typeface="Times New Roman"/>
              </a:rPr>
              <a:t>Avgust                           Septemb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3300"/>
                </a:solidFill>
                <a:latin typeface="Arial"/>
              </a:rPr>
              <a:t>EPIDEMIOLOŠKO ISPITI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U svakom nau~nom ispitivanju, pa i u svakodnevnoj praksi, epidemiolog zapo~inje svoje ispitivanje </a:t>
            </a:r>
            <a:r>
              <a:rPr b="1" i="1" lang="en-US" sz="2400" spc="-1" strike="noStrike">
                <a:solidFill>
                  <a:srgbClr val="0000ff"/>
                </a:solidFill>
                <a:latin typeface="YU-Times-New-Roman"/>
                <a:ea typeface="Times New Roman"/>
              </a:rPr>
              <a:t>posmatranjem i opisivanjem</a:t>
            </a:r>
            <a:r>
              <a:rPr b="1" lang="en-US" sz="2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pojave (bolesti) koju analizira i ovaj epidemiolo{ki metod se naziva </a:t>
            </a:r>
            <a:r>
              <a:rPr b="1" i="1" lang="en-US" sz="2400" spc="-1" strike="noStrike">
                <a:solidFill>
                  <a:srgbClr val="0000ff"/>
                </a:solidFill>
                <a:latin typeface="YU-Times-New-Roman"/>
                <a:ea typeface="Times New Roman"/>
              </a:rPr>
              <a:t>opisni ili deskriptivni (deskriptivna epidemiologija)</a:t>
            </a:r>
            <a:r>
              <a:rPr b="1" lang="en-US" sz="2400" spc="-1" strike="noStrike">
                <a:solidFill>
                  <a:srgbClr val="0000ff"/>
                </a:solidFill>
                <a:latin typeface="YU-Times-New-Roman"/>
                <a:ea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Slede}i, vi{i stupanj ispitivanja u epidemiologiji kojim se utvrdjuju etiolo{ki faktori ili faktori rizika, je tzv. </a:t>
            </a:r>
            <a:r>
              <a:rPr b="1" i="1" lang="en-US" sz="2400" spc="-1" strike="noStrike">
                <a:solidFill>
                  <a:srgbClr val="0000ff"/>
                </a:solidFill>
                <a:latin typeface="YU-Times-New-Roman"/>
                <a:ea typeface="Times New Roman"/>
              </a:rPr>
              <a:t>analiti~ki metod</a:t>
            </a:r>
            <a:r>
              <a:rPr b="1" lang="en-US" sz="2400" spc="-1" strike="noStrike">
                <a:solidFill>
                  <a:srgbClr val="0000ff"/>
                </a:solidFill>
                <a:latin typeface="YU-Times-New-Roman"/>
                <a:ea typeface="Times New Roman"/>
              </a:rPr>
              <a:t> rada (</a:t>
            </a:r>
            <a:r>
              <a:rPr b="1" i="1" lang="en-US" sz="2400" spc="-1" strike="noStrike">
                <a:solidFill>
                  <a:srgbClr val="0000ff"/>
                </a:solidFill>
                <a:latin typeface="YU-Times-New-Roman"/>
                <a:ea typeface="Times New Roman"/>
              </a:rPr>
              <a:t>analiti~ka epidemiologija</a:t>
            </a:r>
            <a:r>
              <a:rPr b="1" lang="en-US" sz="2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)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a metoda gde ispitiva~ aktivno u~estvuje menjaju}i odredjene faktore koji uti~u na pojavu bolesti ili bilo koji poreme}aj zdravlja, naziva se </a:t>
            </a:r>
            <a:r>
              <a:rPr b="1" i="1" lang="en-US" sz="2400" spc="-1" strike="noStrike">
                <a:solidFill>
                  <a:srgbClr val="0000ff"/>
                </a:solidFill>
                <a:latin typeface="YU-Times-New-Roman"/>
                <a:ea typeface="Times New Roman"/>
              </a:rPr>
              <a:t>eksperimentalni metod (eksperimentalna epidemiologija)</a:t>
            </a:r>
            <a:r>
              <a:rPr b="1" lang="en-US" sz="2400" spc="-1" strike="noStrike">
                <a:solidFill>
                  <a:srgbClr val="0000ff"/>
                </a:solidFill>
                <a:latin typeface="YU-Times-New-Roman"/>
                <a:ea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Analiza karakteristika obolelih oso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33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33"/>
                </a:solidFill>
                <a:latin typeface="Arial"/>
              </a:rPr>
              <a:t>Uzras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33"/>
                </a:solidFill>
                <a:latin typeface="Arial"/>
              </a:rPr>
              <a:t>Zanimanj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l i uz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1860480"/>
            <a:ext cx="91440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Stope mortaliteta raka mokra}ne be{ike u Ni{kom regionu prem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olu i uzrastu u periodu od 1986. do 1993. godin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639040" cy="422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Razlike u obolevanju zbog razlika u anatomsko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    fiziolo{koj    gradj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-259884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Incidencija (1/100.000) dijabeta kod mu{karaca i `ena u Ni{avskom okrugu u periodu od 1986. do 1996. godine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05120" y="3048120"/>
            <a:ext cx="5409360" cy="3276360"/>
            <a:chOff x="1905120" y="3048120"/>
            <a:chExt cx="5409360" cy="3276360"/>
          </a:xfrm>
        </p:grpSpPr>
        <p:grpSp>
          <p:nvGrpSpPr>
            <p:cNvPr id="843" name=""/>
            <p:cNvGrpSpPr/>
            <p:nvPr/>
          </p:nvGrpSpPr>
          <p:grpSpPr>
            <a:xfrm>
              <a:off x="1915560" y="3049200"/>
              <a:ext cx="5386680" cy="3273840"/>
              <a:chOff x="1915560" y="3049200"/>
              <a:chExt cx="5386680" cy="327384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1915560" y="3049200"/>
                <a:ext cx="1693440" cy="181800"/>
                <a:chOff x="1915560" y="3049200"/>
                <a:chExt cx="1693440" cy="18180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2071800" y="304920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Uzrast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915560" y="304920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3609720" y="3049200"/>
                <a:ext cx="2085840" cy="181800"/>
                <a:chOff x="3609720" y="3049200"/>
                <a:chExt cx="2085840" cy="1818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766320" y="304920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Mu{karci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609720" y="304920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5696280" y="3049200"/>
                <a:ext cx="1605960" cy="181800"/>
                <a:chOff x="5696280" y="3049200"/>
                <a:chExt cx="1605960" cy="18180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5852520" y="304920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@ene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696280" y="304920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1915560" y="3231000"/>
                <a:ext cx="1693440" cy="181800"/>
                <a:chOff x="1915560" y="3231000"/>
                <a:chExt cx="1693440" cy="1818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2071800" y="323100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0-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915560" y="323100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3609720" y="3231000"/>
                <a:ext cx="2085840" cy="181800"/>
                <a:chOff x="3609720" y="3231000"/>
                <a:chExt cx="2085840" cy="18180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3766320" y="323100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4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609720" y="323100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5696280" y="3231000"/>
                <a:ext cx="1605960" cy="181800"/>
                <a:chOff x="5696280" y="3231000"/>
                <a:chExt cx="1605960" cy="1818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5852520" y="323100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.7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696280" y="323100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1915560" y="3412800"/>
                <a:ext cx="1693440" cy="181800"/>
                <a:chOff x="1915560" y="3412800"/>
                <a:chExt cx="1693440" cy="1818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2071800" y="341280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5-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915560" y="341280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3609720" y="3412800"/>
                <a:ext cx="2085840" cy="181800"/>
                <a:chOff x="3609720" y="3412800"/>
                <a:chExt cx="2085840" cy="1818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766320" y="341280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609720" y="341280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5696280" y="3412800"/>
                <a:ext cx="1605960" cy="181800"/>
                <a:chOff x="5696280" y="3412800"/>
                <a:chExt cx="1605960" cy="18180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5852520" y="341280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1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696280" y="341280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915560" y="3594600"/>
                <a:ext cx="1693440" cy="181800"/>
                <a:chOff x="1915560" y="3594600"/>
                <a:chExt cx="1693440" cy="18180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2071800" y="359460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0-1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15560" y="359460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3609720" y="3594600"/>
                <a:ext cx="2085840" cy="181800"/>
                <a:chOff x="3609720" y="3594600"/>
                <a:chExt cx="2085840" cy="1818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3766320" y="359460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7.6   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609720" y="359460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5696280" y="3594600"/>
                <a:ext cx="1605960" cy="181800"/>
                <a:chOff x="5696280" y="3594600"/>
                <a:chExt cx="1605960" cy="18180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5852520" y="359460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.7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96280" y="359460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1915560" y="3776760"/>
                <a:ext cx="1693440" cy="181800"/>
                <a:chOff x="1915560" y="3776760"/>
                <a:chExt cx="1693440" cy="1818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2071800" y="377676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5-1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915560" y="377676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3609720" y="3776760"/>
                <a:ext cx="2085840" cy="181800"/>
                <a:chOff x="3609720" y="3776760"/>
                <a:chExt cx="2085840" cy="1818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766320" y="377676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609720" y="377676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5696280" y="3776760"/>
                <a:ext cx="1605960" cy="181800"/>
                <a:chOff x="5696280" y="3776760"/>
                <a:chExt cx="1605960" cy="18180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852520" y="377676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6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96280" y="377676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915560" y="3958560"/>
                <a:ext cx="1693440" cy="181800"/>
                <a:chOff x="1915560" y="3958560"/>
                <a:chExt cx="1693440" cy="18180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2071800" y="395856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0-2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915560" y="395856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3609720" y="3958560"/>
                <a:ext cx="2085840" cy="181800"/>
                <a:chOff x="3609720" y="3958560"/>
                <a:chExt cx="2085840" cy="18180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3766320" y="395856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5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609720" y="395856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5696280" y="3958560"/>
                <a:ext cx="1605960" cy="181800"/>
                <a:chOff x="5696280" y="3958560"/>
                <a:chExt cx="1605960" cy="1818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5852520" y="395856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8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696280" y="395856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15560" y="4140360"/>
                <a:ext cx="1693440" cy="181800"/>
                <a:chOff x="1915560" y="4140360"/>
                <a:chExt cx="1693440" cy="18180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2071800" y="414036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5-2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15560" y="414036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3609720" y="4140360"/>
                <a:ext cx="2085840" cy="181800"/>
                <a:chOff x="3609720" y="4140360"/>
                <a:chExt cx="2085840" cy="1818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766320" y="414036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3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609720" y="414036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5696280" y="4140360"/>
                <a:ext cx="1605960" cy="181800"/>
                <a:chOff x="5696280" y="4140360"/>
                <a:chExt cx="1605960" cy="18180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5852520" y="414036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2.5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696280" y="414036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1915560" y="4322160"/>
                <a:ext cx="1693440" cy="181800"/>
                <a:chOff x="1915560" y="4322160"/>
                <a:chExt cx="1693440" cy="18180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071800" y="432216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0-3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915560" y="432216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3609720" y="4322160"/>
                <a:ext cx="2085840" cy="181800"/>
                <a:chOff x="3609720" y="4322160"/>
                <a:chExt cx="2085840" cy="18180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3766320" y="432216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4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609720" y="432216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5696280" y="4322160"/>
                <a:ext cx="1605960" cy="181800"/>
                <a:chOff x="5696280" y="4322160"/>
                <a:chExt cx="1605960" cy="18180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5852520" y="432216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4.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696280" y="432216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1915560" y="4503960"/>
                <a:ext cx="1693440" cy="181800"/>
                <a:chOff x="1915560" y="4503960"/>
                <a:chExt cx="1693440" cy="18180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071800" y="450396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5-3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915560" y="450396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3609720" y="4503960"/>
                <a:ext cx="2085840" cy="181800"/>
                <a:chOff x="3609720" y="4503960"/>
                <a:chExt cx="2085840" cy="1818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766320" y="450396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57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609720" y="450396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5696280" y="4503960"/>
                <a:ext cx="1605960" cy="181800"/>
                <a:chOff x="5696280" y="4503960"/>
                <a:chExt cx="1605960" cy="18180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5852520" y="450396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54.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96280" y="450396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1915560" y="4686120"/>
                <a:ext cx="1693440" cy="181800"/>
                <a:chOff x="1915560" y="4686120"/>
                <a:chExt cx="1693440" cy="1818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071800" y="468612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40-4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1915560" y="468612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3609720" y="4686120"/>
                <a:ext cx="2085840" cy="181800"/>
                <a:chOff x="3609720" y="4686120"/>
                <a:chExt cx="2085840" cy="18180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3766320" y="468612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06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609720" y="468612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5696280" y="4686120"/>
                <a:ext cx="1605960" cy="181800"/>
                <a:chOff x="5696280" y="4686120"/>
                <a:chExt cx="1605960" cy="18180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852520" y="468612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82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696280" y="468612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915560" y="4867920"/>
                <a:ext cx="1693440" cy="181800"/>
                <a:chOff x="1915560" y="4867920"/>
                <a:chExt cx="1693440" cy="18180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2071800" y="486792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45-4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915560" y="486792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3609720" y="4867920"/>
                <a:ext cx="2085840" cy="181800"/>
                <a:chOff x="3609720" y="4867920"/>
                <a:chExt cx="2085840" cy="1818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766320" y="486792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05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609720" y="486792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5696280" y="4867920"/>
                <a:ext cx="1605960" cy="181800"/>
                <a:chOff x="5696280" y="4867920"/>
                <a:chExt cx="1605960" cy="18180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5852520" y="486792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24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696280" y="486792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1915560" y="5049720"/>
                <a:ext cx="1693440" cy="181800"/>
                <a:chOff x="1915560" y="5049720"/>
                <a:chExt cx="1693440" cy="18180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2071800" y="504972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50-5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915560" y="504972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609720" y="5049720"/>
                <a:ext cx="2085840" cy="181800"/>
                <a:chOff x="3609720" y="5049720"/>
                <a:chExt cx="2085840" cy="18180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766320" y="504972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45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609720" y="504972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5696280" y="5049720"/>
                <a:ext cx="1605960" cy="181800"/>
                <a:chOff x="5696280" y="5049720"/>
                <a:chExt cx="1605960" cy="18180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5852520" y="504972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69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696280" y="504972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1915560" y="5231880"/>
                <a:ext cx="1693440" cy="181800"/>
                <a:chOff x="1915560" y="5231880"/>
                <a:chExt cx="1693440" cy="1818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2071800" y="523188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55-5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1915560" y="523188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3609720" y="5231880"/>
                <a:ext cx="2085840" cy="181800"/>
                <a:chOff x="3609720" y="5231880"/>
                <a:chExt cx="2085840" cy="1818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3766320" y="523188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44.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609720" y="523188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5696280" y="5231880"/>
                <a:ext cx="1605960" cy="181800"/>
                <a:chOff x="5696280" y="5231880"/>
                <a:chExt cx="1605960" cy="18180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5852520" y="523188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71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696280" y="523188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1915560" y="5413680"/>
                <a:ext cx="1693440" cy="181800"/>
                <a:chOff x="1915560" y="5413680"/>
                <a:chExt cx="1693440" cy="18180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2071800" y="541368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60-6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15560" y="541368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3609720" y="5413680"/>
                <a:ext cx="2085840" cy="181800"/>
                <a:chOff x="3609720" y="5413680"/>
                <a:chExt cx="2085840" cy="1818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3766320" y="541368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411.5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609720" y="541368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5696280" y="5413680"/>
                <a:ext cx="1605960" cy="181800"/>
                <a:chOff x="5696280" y="5413680"/>
                <a:chExt cx="1605960" cy="18180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5852520" y="541368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66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696280" y="541368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1915560" y="5595480"/>
                <a:ext cx="1693440" cy="181800"/>
                <a:chOff x="1915560" y="5595480"/>
                <a:chExt cx="1693440" cy="18180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2071800" y="559548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65-6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915560" y="559548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3609720" y="5595480"/>
                <a:ext cx="2085840" cy="181800"/>
                <a:chOff x="3609720" y="5595480"/>
                <a:chExt cx="2085840" cy="18180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3766320" y="559548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31.5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609720" y="559548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696280" y="5595480"/>
                <a:ext cx="1605960" cy="181800"/>
                <a:chOff x="5696280" y="5595480"/>
                <a:chExt cx="1605960" cy="1818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5852520" y="559548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66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696280" y="559548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1915560" y="5777280"/>
                <a:ext cx="1693440" cy="181800"/>
                <a:chOff x="1915560" y="5777280"/>
                <a:chExt cx="1693440" cy="1818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2071800" y="577728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70-7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915560" y="577728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3609720" y="5777280"/>
                <a:ext cx="2085840" cy="181800"/>
                <a:chOff x="3609720" y="5777280"/>
                <a:chExt cx="2085840" cy="18180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3766320" y="577728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49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609720" y="577728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5696280" y="5777280"/>
                <a:ext cx="1605960" cy="181800"/>
                <a:chOff x="5696280" y="5777280"/>
                <a:chExt cx="1605960" cy="18180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5852520" y="577728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436.7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696280" y="577728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1915560" y="5959440"/>
                <a:ext cx="1693440" cy="181800"/>
                <a:chOff x="1915560" y="5959440"/>
                <a:chExt cx="1693440" cy="18180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2071800" y="595944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75+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1915560" y="595944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609720" y="5959440"/>
                <a:ext cx="2085840" cy="181800"/>
                <a:chOff x="3609720" y="5959440"/>
                <a:chExt cx="2085840" cy="1818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766320" y="595944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14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609720" y="595944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5696280" y="5959440"/>
                <a:ext cx="1605960" cy="181800"/>
                <a:chOff x="5696280" y="5959440"/>
                <a:chExt cx="1605960" cy="1818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5852520" y="595944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09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696280" y="595944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1915560" y="6141240"/>
                <a:ext cx="1693440" cy="181800"/>
                <a:chOff x="1915560" y="6141240"/>
                <a:chExt cx="1693440" cy="18180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2071800" y="6141240"/>
                  <a:ext cx="13802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Sveg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915560" y="6141240"/>
                  <a:ext cx="16934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3609720" y="6141240"/>
                <a:ext cx="2085840" cy="181800"/>
                <a:chOff x="3609720" y="6141240"/>
                <a:chExt cx="2085840" cy="18180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3766320" y="6141240"/>
                  <a:ext cx="17726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04.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609720" y="6141240"/>
                  <a:ext cx="208584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5696280" y="6141240"/>
                <a:ext cx="1605960" cy="181800"/>
                <a:chOff x="5696280" y="6141240"/>
                <a:chExt cx="1605960" cy="18180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5852520" y="6141240"/>
                  <a:ext cx="1293840" cy="18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48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96280" y="6141240"/>
                  <a:ext cx="1605960" cy="18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6" name=""/>
            <p:cNvSpPr/>
            <p:nvPr/>
          </p:nvSpPr>
          <p:spPr>
            <a:xfrm>
              <a:off x="1905120" y="3048120"/>
              <a:ext cx="5409360" cy="327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0" y="19051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Incidencija (1/100.000) dijabeta kod mu{karaca i `ena u Ni{avskom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krugu u periodu od 1986. do 1996. godi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Razlike u obolevanju medju polovima koje nastaj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     kao posledica razli~ite ekspozicij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200400" y="3048120"/>
            <a:ext cx="3733560" cy="2562120"/>
            <a:chOff x="3200400" y="3048120"/>
            <a:chExt cx="3733560" cy="2562120"/>
          </a:xfrm>
        </p:grpSpPr>
        <p:grpSp>
          <p:nvGrpSpPr>
            <p:cNvPr id="1010" name=""/>
            <p:cNvGrpSpPr/>
            <p:nvPr/>
          </p:nvGrpSpPr>
          <p:grpSpPr>
            <a:xfrm>
              <a:off x="3206520" y="3049920"/>
              <a:ext cx="3719880" cy="2558520"/>
              <a:chOff x="3206520" y="3049920"/>
              <a:chExt cx="3719880" cy="2558520"/>
            </a:xfrm>
          </p:grpSpPr>
          <p:grpSp>
            <p:nvGrpSpPr>
              <p:cNvPr id="1011" name=""/>
              <p:cNvGrpSpPr/>
              <p:nvPr/>
            </p:nvGrpSpPr>
            <p:grpSpPr>
              <a:xfrm>
                <a:off x="3206520" y="3049920"/>
                <a:ext cx="1658520" cy="324000"/>
                <a:chOff x="3206520" y="3049920"/>
                <a:chExt cx="1658520" cy="3240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3300480" y="3049920"/>
                  <a:ext cx="147096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Zanimanje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206520" y="3049920"/>
                  <a:ext cx="16585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4865400" y="3049920"/>
                <a:ext cx="1213560" cy="324000"/>
                <a:chOff x="4865400" y="3049920"/>
                <a:chExt cx="1213560" cy="3240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4959360" y="3049920"/>
                  <a:ext cx="102600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Mu{karci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865400" y="3049920"/>
                  <a:ext cx="121356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6079680" y="3049920"/>
                <a:ext cx="846720" cy="324000"/>
                <a:chOff x="6079680" y="3049920"/>
                <a:chExt cx="846720" cy="3240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6173640" y="3049920"/>
                  <a:ext cx="65916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@ene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079680" y="3049920"/>
                  <a:ext cx="8467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206520" y="3373920"/>
                <a:ext cx="1658520" cy="252000"/>
                <a:chOff x="3206520" y="3373920"/>
                <a:chExt cx="1658520" cy="2520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3300480" y="3373920"/>
                  <a:ext cx="14709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Mehani~ari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206520" y="3373920"/>
                  <a:ext cx="16585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4865400" y="3373920"/>
                <a:ext cx="1213560" cy="252000"/>
                <a:chOff x="4865400" y="3373920"/>
                <a:chExt cx="1213560" cy="2520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4959360" y="3373920"/>
                  <a:ext cx="1026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865400" y="3373920"/>
                  <a:ext cx="1213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6079680" y="3373920"/>
                <a:ext cx="846720" cy="252000"/>
                <a:chOff x="6079680" y="3373920"/>
                <a:chExt cx="846720" cy="2520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6173640" y="3373920"/>
                  <a:ext cx="6591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6079680" y="3373920"/>
                  <a:ext cx="84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3206520" y="3626280"/>
                <a:ext cx="1658520" cy="324360"/>
                <a:chOff x="3206520" y="3626280"/>
                <a:chExt cx="1658520" cy="32436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3300480" y="3626280"/>
                  <a:ext cx="147096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Tekst. i ko`. rad.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206520" y="3626280"/>
                  <a:ext cx="1658520" cy="32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4865400" y="3626280"/>
                <a:ext cx="1213560" cy="324360"/>
                <a:chOff x="4865400" y="3626280"/>
                <a:chExt cx="1213560" cy="3243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959360" y="3626280"/>
                  <a:ext cx="102600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865400" y="3626280"/>
                  <a:ext cx="1213560" cy="32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6079680" y="3626280"/>
                <a:ext cx="846720" cy="324360"/>
                <a:chOff x="6079680" y="3626280"/>
                <a:chExt cx="846720" cy="32436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6173640" y="3626280"/>
                  <a:ext cx="65916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079680" y="3626280"/>
                  <a:ext cx="846720" cy="32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206520" y="3950640"/>
                <a:ext cx="1658520" cy="252000"/>
                <a:chOff x="3206520" y="3950640"/>
                <a:chExt cx="1658520" cy="2520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3300480" y="3950640"/>
                  <a:ext cx="14709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Metalski rad.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206520" y="3950640"/>
                  <a:ext cx="16585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865400" y="3950640"/>
                <a:ext cx="1213560" cy="252000"/>
                <a:chOff x="4865400" y="3950640"/>
                <a:chExt cx="1213560" cy="2520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4959360" y="3950640"/>
                  <a:ext cx="1026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9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865400" y="3950640"/>
                  <a:ext cx="1213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6079680" y="3950640"/>
                <a:ext cx="846720" cy="252000"/>
                <a:chOff x="6079680" y="3950640"/>
                <a:chExt cx="846720" cy="2520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173640" y="3950640"/>
                  <a:ext cx="6591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0 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079680" y="3950640"/>
                  <a:ext cx="84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3206520" y="4203000"/>
                <a:ext cx="1658520" cy="252000"/>
                <a:chOff x="3206520" y="4203000"/>
                <a:chExt cx="1658520" cy="2520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3300480" y="4203000"/>
                  <a:ext cx="14709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Voza~i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206520" y="4203000"/>
                  <a:ext cx="16585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4865400" y="4203000"/>
                <a:ext cx="1213560" cy="252000"/>
                <a:chOff x="4865400" y="4203000"/>
                <a:chExt cx="1213560" cy="2520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4959360" y="4203000"/>
                  <a:ext cx="1026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865400" y="4203000"/>
                  <a:ext cx="1213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6079680" y="4203000"/>
                <a:ext cx="846720" cy="252000"/>
                <a:chOff x="6079680" y="4203000"/>
                <a:chExt cx="846720" cy="2520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6173640" y="4203000"/>
                  <a:ext cx="6591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079680" y="4203000"/>
                  <a:ext cx="84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206520" y="4455360"/>
                <a:ext cx="1658520" cy="324000"/>
                <a:chOff x="3206520" y="4455360"/>
                <a:chExt cx="1658520" cy="3240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3300480" y="4455360"/>
                  <a:ext cx="147096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Rad. na obezb.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206520" y="4455360"/>
                  <a:ext cx="16585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4865400" y="4455360"/>
                <a:ext cx="1213560" cy="324000"/>
                <a:chOff x="4865400" y="4455360"/>
                <a:chExt cx="1213560" cy="3240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4959360" y="4455360"/>
                  <a:ext cx="102600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865400" y="4455360"/>
                  <a:ext cx="121356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6079680" y="4455360"/>
                <a:ext cx="846720" cy="324000"/>
                <a:chOff x="6079680" y="4455360"/>
                <a:chExt cx="846720" cy="3240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173640" y="4455360"/>
                  <a:ext cx="65916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079680" y="4455360"/>
                  <a:ext cx="8467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3206520" y="4779360"/>
                <a:ext cx="1658520" cy="324000"/>
                <a:chOff x="3206520" y="4779360"/>
                <a:chExt cx="1658520" cy="3240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3300480" y="4779360"/>
                  <a:ext cx="147096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Zemljoradnici 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206520" y="4779360"/>
                  <a:ext cx="16585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4865400" y="4779360"/>
                <a:ext cx="1213560" cy="324000"/>
                <a:chOff x="4865400" y="4779360"/>
                <a:chExt cx="1213560" cy="3240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4959360" y="4779360"/>
                  <a:ext cx="102600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10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865400" y="4779360"/>
                  <a:ext cx="121356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6079680" y="4779360"/>
                <a:ext cx="846720" cy="324000"/>
                <a:chOff x="6079680" y="4779360"/>
                <a:chExt cx="846720" cy="3240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6173640" y="4779360"/>
                  <a:ext cx="65916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079680" y="4779360"/>
                  <a:ext cx="8467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206520" y="5103720"/>
                <a:ext cx="1658520" cy="252000"/>
                <a:chOff x="3206520" y="5103720"/>
                <a:chExt cx="1658520" cy="2520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3300480" y="5103720"/>
                  <a:ext cx="14709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Gradjevinari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206520" y="5103720"/>
                  <a:ext cx="16585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865400" y="5103720"/>
                <a:ext cx="1213560" cy="252000"/>
                <a:chOff x="4865400" y="5103720"/>
                <a:chExt cx="1213560" cy="2520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959360" y="5103720"/>
                  <a:ext cx="1026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865400" y="5103720"/>
                  <a:ext cx="1213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6079680" y="5103720"/>
                <a:ext cx="846720" cy="252000"/>
                <a:chOff x="6079680" y="5103720"/>
                <a:chExt cx="846720" cy="2520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6173640" y="5103720"/>
                  <a:ext cx="6591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079680" y="5103720"/>
                  <a:ext cx="84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3206520" y="5356080"/>
                <a:ext cx="1658520" cy="252360"/>
                <a:chOff x="3206520" y="5356080"/>
                <a:chExt cx="1658520" cy="25236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300480" y="5356080"/>
                  <a:ext cx="147096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Stolari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206520" y="5356080"/>
                  <a:ext cx="1658520" cy="25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4865400" y="5356080"/>
                <a:ext cx="1213560" cy="252360"/>
                <a:chOff x="4865400" y="5356080"/>
                <a:chExt cx="1213560" cy="25236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4959360" y="5356080"/>
                  <a:ext cx="102600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865400" y="5356080"/>
                  <a:ext cx="1213560" cy="25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6079680" y="5356080"/>
                <a:ext cx="846720" cy="252360"/>
                <a:chOff x="6079680" y="5356080"/>
                <a:chExt cx="846720" cy="2523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6173640" y="5356080"/>
                  <a:ext cx="65916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YU-Times-New-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079680" y="5356080"/>
                  <a:ext cx="846720" cy="25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2" name=""/>
            <p:cNvSpPr/>
            <p:nvPr/>
          </p:nvSpPr>
          <p:spPr>
            <a:xfrm>
              <a:off x="3200400" y="3048120"/>
              <a:ext cx="3733560" cy="2562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0" y="19051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Rizi~na zanimanja olelih  osoba od karcinoma mokra}ne be{ike prema pol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(Podaci anamnesti~ke studije radjene u okviru doktorata B.Petrovi}a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Zanim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455920" y="2209680"/>
            <a:ext cx="4232160" cy="4038480"/>
            <a:chOff x="2455920" y="2209680"/>
            <a:chExt cx="4232160" cy="4038480"/>
          </a:xfrm>
        </p:grpSpPr>
        <p:sp>
          <p:nvSpPr>
            <p:cNvPr id="1096" name=""/>
            <p:cNvSpPr/>
            <p:nvPr/>
          </p:nvSpPr>
          <p:spPr>
            <a:xfrm>
              <a:off x="2524320" y="5575320"/>
              <a:ext cx="21114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YU-Times-New-Roman"/>
                  <a:ea typeface="Times New Roman"/>
                </a:rPr>
                <a:t>Industrija gume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35720" y="5575320"/>
              <a:ext cx="18475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YU-Times-New-Roman"/>
                  <a:ea typeface="Times New Roman"/>
                </a:rPr>
                <a:t>leukemije, mokra}na be{ik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2455920" y="2209680"/>
              <a:ext cx="2247840" cy="336240"/>
              <a:chOff x="2455920" y="2209680"/>
              <a:chExt cx="2247840" cy="336240"/>
            </a:xfrm>
          </p:grpSpPr>
          <p:sp>
            <p:nvSpPr>
              <p:cNvPr id="1099" name=""/>
              <p:cNvSpPr/>
              <p:nvPr/>
            </p:nvSpPr>
            <p:spPr>
              <a:xfrm>
                <a:off x="2524320" y="220968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YU-Times-New-Roman"/>
                    <a:ea typeface="Times New Roman"/>
                  </a:rPr>
                  <a:t>Industrijski proces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455920" y="220968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4703760" y="2209680"/>
              <a:ext cx="1984320" cy="336240"/>
              <a:chOff x="4703760" y="2209680"/>
              <a:chExt cx="1984320" cy="3362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772160" y="220968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YU-Times-New-Roman"/>
                    <a:ea typeface="Times New Roman"/>
                  </a:rPr>
                  <a:t>Lokalizacija rak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703760" y="220968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2455920" y="2545920"/>
              <a:ext cx="2247840" cy="336240"/>
              <a:chOff x="2455920" y="2545920"/>
              <a:chExt cx="2247840" cy="336240"/>
            </a:xfrm>
          </p:grpSpPr>
          <p:sp>
            <p:nvSpPr>
              <p:cNvPr id="1105" name=""/>
              <p:cNvSpPr/>
              <p:nvPr/>
            </p:nvSpPr>
            <p:spPr>
              <a:xfrm>
                <a:off x="2524320" y="254592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Proizvodnja aluminijum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455920" y="254592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703760" y="2545920"/>
              <a:ext cx="1984320" cy="336240"/>
              <a:chOff x="4703760" y="2545920"/>
              <a:chExt cx="1984320" cy="336240"/>
            </a:xfrm>
          </p:grpSpPr>
          <p:sp>
            <p:nvSpPr>
              <p:cNvPr id="1108" name=""/>
              <p:cNvSpPr/>
              <p:nvPr/>
            </p:nvSpPr>
            <p:spPr>
              <a:xfrm>
                <a:off x="4772160" y="254592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plu}a, mokra}mna be{ik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703760" y="254592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2455920" y="2882520"/>
              <a:ext cx="2247840" cy="336600"/>
              <a:chOff x="2455920" y="2882520"/>
              <a:chExt cx="2247840" cy="336600"/>
            </a:xfrm>
          </p:grpSpPr>
          <p:sp>
            <p:nvSpPr>
              <p:cNvPr id="1111" name=""/>
              <p:cNvSpPr/>
              <p:nvPr/>
            </p:nvSpPr>
            <p:spPr>
              <a:xfrm>
                <a:off x="2524320" y="2882520"/>
                <a:ext cx="21114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Pravljenje auramin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455920" y="2882520"/>
                <a:ext cx="2247840" cy="33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4703760" y="2882520"/>
              <a:ext cx="1984320" cy="336600"/>
              <a:chOff x="4703760" y="2882520"/>
              <a:chExt cx="1984320" cy="336600"/>
            </a:xfrm>
          </p:grpSpPr>
          <p:sp>
            <p:nvSpPr>
              <p:cNvPr id="1114" name=""/>
              <p:cNvSpPr/>
              <p:nvPr/>
            </p:nvSpPr>
            <p:spPr>
              <a:xfrm>
                <a:off x="4772160" y="2882520"/>
                <a:ext cx="1847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mokra}na be{ik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703760" y="2882520"/>
                <a:ext cx="1984320" cy="33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2455920" y="3219480"/>
              <a:ext cx="2247840" cy="336240"/>
              <a:chOff x="2455920" y="3219480"/>
              <a:chExt cx="2247840" cy="336240"/>
            </a:xfrm>
          </p:grpSpPr>
          <p:sp>
            <p:nvSpPr>
              <p:cNvPr id="1117" name=""/>
              <p:cNvSpPr/>
              <p:nvPr/>
            </p:nvSpPr>
            <p:spPr>
              <a:xfrm>
                <a:off x="2524320" y="321948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Izrada i popravka obu}e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455920" y="321948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4703760" y="3219480"/>
              <a:ext cx="1984320" cy="336240"/>
              <a:chOff x="4703760" y="3219480"/>
              <a:chExt cx="1984320" cy="336240"/>
            </a:xfrm>
          </p:grpSpPr>
          <p:sp>
            <p:nvSpPr>
              <p:cNvPr id="1120" name=""/>
              <p:cNvSpPr/>
              <p:nvPr/>
            </p:nvSpPr>
            <p:spPr>
              <a:xfrm>
                <a:off x="4772160" y="321948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leukemije (kostna sr`)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03760" y="321948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2455920" y="3555720"/>
              <a:ext cx="2247840" cy="336240"/>
              <a:chOff x="2455920" y="3555720"/>
              <a:chExt cx="2247840" cy="336240"/>
            </a:xfrm>
          </p:grpSpPr>
          <p:sp>
            <p:nvSpPr>
              <p:cNvPr id="1123" name=""/>
              <p:cNvSpPr/>
              <p:nvPr/>
            </p:nvSpPr>
            <p:spPr>
              <a:xfrm>
                <a:off x="2524320" y="355572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Gasifikacija uglj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55920" y="355572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703760" y="3555720"/>
              <a:ext cx="1984320" cy="336240"/>
              <a:chOff x="4703760" y="3555720"/>
              <a:chExt cx="1984320" cy="336240"/>
            </a:xfrm>
          </p:grpSpPr>
          <p:sp>
            <p:nvSpPr>
              <p:cNvPr id="1126" name=""/>
              <p:cNvSpPr/>
              <p:nvPr/>
            </p:nvSpPr>
            <p:spPr>
              <a:xfrm>
                <a:off x="4772160" y="355572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plu}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03760" y="355572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2455920" y="3892320"/>
              <a:ext cx="2247840" cy="336240"/>
              <a:chOff x="2455920" y="3892320"/>
              <a:chExt cx="2247840" cy="336240"/>
            </a:xfrm>
          </p:grpSpPr>
          <p:sp>
            <p:nvSpPr>
              <p:cNvPr id="1129" name=""/>
              <p:cNvSpPr/>
              <p:nvPr/>
            </p:nvSpPr>
            <p:spPr>
              <a:xfrm>
                <a:off x="2524320" y="389232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Proizvodnja koks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455920" y="389232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4703760" y="3892320"/>
              <a:ext cx="1984320" cy="336240"/>
              <a:chOff x="4703760" y="3892320"/>
              <a:chExt cx="1984320" cy="336240"/>
            </a:xfrm>
          </p:grpSpPr>
          <p:sp>
            <p:nvSpPr>
              <p:cNvPr id="1132" name=""/>
              <p:cNvSpPr/>
              <p:nvPr/>
            </p:nvSpPr>
            <p:spPr>
              <a:xfrm>
                <a:off x="4772160" y="389232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ko`a, plu}a, bubreg, mokra}na b.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703760" y="389232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455920" y="4228920"/>
              <a:ext cx="2247840" cy="336600"/>
              <a:chOff x="2455920" y="4228920"/>
              <a:chExt cx="2247840" cy="336600"/>
            </a:xfrm>
          </p:grpSpPr>
          <p:sp>
            <p:nvSpPr>
              <p:cNvPr id="1135" name=""/>
              <p:cNvSpPr/>
              <p:nvPr/>
            </p:nvSpPr>
            <p:spPr>
              <a:xfrm>
                <a:off x="2524320" y="4228920"/>
                <a:ext cx="21114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Izrada name{taj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455920" y="4228920"/>
                <a:ext cx="2247840" cy="33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4703760" y="4228920"/>
              <a:ext cx="1984320" cy="336600"/>
              <a:chOff x="4703760" y="4228920"/>
              <a:chExt cx="1984320" cy="336600"/>
            </a:xfrm>
          </p:grpSpPr>
          <p:sp>
            <p:nvSpPr>
              <p:cNvPr id="1138" name=""/>
              <p:cNvSpPr/>
              <p:nvPr/>
            </p:nvSpPr>
            <p:spPr>
              <a:xfrm>
                <a:off x="4772160" y="4228920"/>
                <a:ext cx="1847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nos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703760" y="4228920"/>
                <a:ext cx="1984320" cy="33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2455920" y="4565520"/>
              <a:ext cx="2247840" cy="336240"/>
              <a:chOff x="2455920" y="4565520"/>
              <a:chExt cx="2247840" cy="336240"/>
            </a:xfrm>
          </p:grpSpPr>
          <p:sp>
            <p:nvSpPr>
              <p:cNvPr id="1141" name=""/>
              <p:cNvSpPr/>
              <p:nvPr/>
            </p:nvSpPr>
            <p:spPr>
              <a:xfrm>
                <a:off x="2524320" y="456552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Pravljenje izopropil alkohol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455920" y="456552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4703760" y="4565520"/>
              <a:ext cx="1984320" cy="336240"/>
              <a:chOff x="4703760" y="4565520"/>
              <a:chExt cx="1984320" cy="336240"/>
            </a:xfrm>
          </p:grpSpPr>
          <p:sp>
            <p:nvSpPr>
              <p:cNvPr id="1144" name=""/>
              <p:cNvSpPr/>
              <p:nvPr/>
            </p:nvSpPr>
            <p:spPr>
              <a:xfrm>
                <a:off x="4772160" y="456552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nos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760" y="456552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2455920" y="4902120"/>
              <a:ext cx="2247840" cy="336240"/>
              <a:chOff x="2455920" y="4902120"/>
              <a:chExt cx="2247840" cy="336240"/>
            </a:xfrm>
          </p:grpSpPr>
          <p:sp>
            <p:nvSpPr>
              <p:cNvPr id="1147" name=""/>
              <p:cNvSpPr/>
              <p:nvPr/>
            </p:nvSpPr>
            <p:spPr>
              <a:xfrm>
                <a:off x="2524320" y="490212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Livenje gvo`dja i ~elik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455920" y="490212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4703760" y="4902120"/>
              <a:ext cx="1984320" cy="336240"/>
              <a:chOff x="4703760" y="4902120"/>
              <a:chExt cx="1984320" cy="336240"/>
            </a:xfrm>
          </p:grpSpPr>
          <p:sp>
            <p:nvSpPr>
              <p:cNvPr id="1150" name=""/>
              <p:cNvSpPr/>
              <p:nvPr/>
            </p:nvSpPr>
            <p:spPr>
              <a:xfrm>
                <a:off x="4772160" y="490212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plu}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03760" y="490212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2455920" y="5238720"/>
              <a:ext cx="2247840" cy="336240"/>
              <a:chOff x="2455920" y="5238720"/>
              <a:chExt cx="2247840" cy="336240"/>
            </a:xfrm>
          </p:grpSpPr>
          <p:sp>
            <p:nvSpPr>
              <p:cNvPr id="1153" name=""/>
              <p:cNvSpPr/>
              <p:nvPr/>
            </p:nvSpPr>
            <p:spPr>
              <a:xfrm>
                <a:off x="2524320" y="523872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Izrada grimiznih boj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55920" y="523872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4703760" y="5238720"/>
              <a:ext cx="1984320" cy="336240"/>
              <a:chOff x="4703760" y="5238720"/>
              <a:chExt cx="1984320" cy="336240"/>
            </a:xfrm>
          </p:grpSpPr>
          <p:sp>
            <p:nvSpPr>
              <p:cNvPr id="1156" name=""/>
              <p:cNvSpPr/>
              <p:nvPr/>
            </p:nvSpPr>
            <p:spPr>
              <a:xfrm>
                <a:off x="4772160" y="523872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mokra}na be{ik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703760" y="523872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2455920" y="5911920"/>
              <a:ext cx="2247840" cy="336240"/>
              <a:chOff x="2455920" y="5911920"/>
              <a:chExt cx="2247840" cy="336240"/>
            </a:xfrm>
          </p:grpSpPr>
          <p:sp>
            <p:nvSpPr>
              <p:cNvPr id="1159" name=""/>
              <p:cNvSpPr/>
              <p:nvPr/>
            </p:nvSpPr>
            <p:spPr>
              <a:xfrm>
                <a:off x="2524320" y="5911920"/>
                <a:ext cx="2111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Kopanje hematit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455920" y="5911920"/>
                <a:ext cx="224784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703760" y="5911920"/>
              <a:ext cx="1984320" cy="336240"/>
              <a:chOff x="4703760" y="5911920"/>
              <a:chExt cx="1984320" cy="336240"/>
            </a:xfrm>
          </p:grpSpPr>
          <p:sp>
            <p:nvSpPr>
              <p:cNvPr id="1162" name=""/>
              <p:cNvSpPr/>
              <p:nvPr/>
            </p:nvSpPr>
            <p:spPr>
              <a:xfrm>
                <a:off x="4772160" y="5911920"/>
                <a:ext cx="1847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33"/>
                    </a:solidFill>
                    <a:latin typeface="YU-Times-New-Roman"/>
                    <a:ea typeface="Times New Roman"/>
                  </a:rPr>
                  <a:t>plu}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703760" y="5911920"/>
                <a:ext cx="1984320" cy="336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Ostala obele`ja obolelih oso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 </a:t>
            </a:r>
            <a:br>
              <a:rPr sz="1600"/>
            </a:br>
            <a:r>
              <a:rPr b="0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Rasna, etni~ka i verska pripadnos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- S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rpasta anemija je u~estalija kod crnaca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arcinom ko`e ~e{}i kod bele rase.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Razlike u oboljevanju medju rasama, raznim verskim i etni~kim zajednicama su naj~e{}e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posledica razli~itog na~ina `ivota, na~ina ishrane i tradicije, a ne posledica njihove ve}e ili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manje “vrednosti”.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Rak penisa je mnogo redji kod jevrejskog i muslimanskog stanovni{tva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zbog obi~aja cirkumscizij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Ciroza jetre je znatno redja kod adventista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zbog verske zabrane upotrebe alkohola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- J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japanci najvi{e obolevaju od raka `eluca zbog na~ina ishrane (dimljeno meso, konzerviranje namirnica usoljavanjem...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Socijalno-ekonomsko stanj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Lo{i socijalno-ekonomski uslovi su u tesnoj vezi sa nehigijenom, pothranjeno{}u, niskim nivoom zdravstvene kultur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pove}ano obolevanje od crev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zaraz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bolesti, hipovitaminoz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, pove}ana smrtnost odoj~adi, ko`no-veneri~ne bolest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...)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isok socijalno-ekonomski standard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porast “bolesti izobilja” - gojaznosti, hipertenzije, kardiovaskularnih bolesti...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</a:t>
            </a:r>
            <a:r>
              <a:rPr b="0" lang="sl-SI" sz="1600" spc="-1" strike="noStrike">
                <a:solidFill>
                  <a:srgbClr val="ff3300"/>
                </a:solidFill>
                <a:latin typeface="Times New Roman"/>
              </a:rPr>
              <a:t>Mu</a:t>
            </a:r>
            <a:r>
              <a:rPr b="0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ltifaktorijalna analiza: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na primer, prema polu, uzrastu i odredjenom zanimanju istovremeno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- O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d raka mokra}ne be{ike najvi{e boluju mu{karci, u uzrastu od 60 do 70 godina koji rade sa razli~itim hemijskim supstancama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- O</a:t>
            </a:r>
            <a:r>
              <a:rPr b="0" lang="en-US" sz="1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d {igeloznih infekcija najvi{e boluju mu{ka deca u uzrastu od 4 do 7 godina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MERE U^ESTALOSTI POREME]AJA    ZDRAVL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895480" y="2133720"/>
            <a:ext cx="5029200" cy="27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dnosi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roporcij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indeksi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stop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incidencij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prevalencij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letalit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l-SI" sz="2000" spc="-1" strike="noStrike">
                <a:solidFill>
                  <a:srgbClr val="ff3300"/>
                </a:solidFill>
                <a:latin typeface="Times New Roman"/>
              </a:rPr>
              <a:t>mortalitet</a:t>
            </a:r>
            <a:r>
              <a:rPr b="0" lang="en-US" sz="11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ANALITI^KA EPIDEMIOLOG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599840" y="2437920"/>
            <a:ext cx="7086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hortne (follow up) studij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Anamnesti~ke  (case-control) studije 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Longitudinalna ispitivanja i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Studije preseka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ohortna ispitivanj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od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kohortom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se, u epidemiolo{kom smislu, podrazumeva grupa ljudi koja ima neku zajedni~ku osobinu, karakteristiku ili iskustvo vezano za eksponiranost, prevenciju ili le~enje bolesti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Kohortu mogu ~initi osobe rodjene iste godine, osobe koje rade na istim radnim mestima, imaju iste `ivotne navike, eksponirani su istim faktorima i sl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Kohortna ispitivanja slu`e za utvrdjivanje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ovezanosti nastanka bolesti sa ekspozicijom nekom faktoru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odrezumevaju postojanje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ajmanje dve kohorte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kohortu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eksponiranih 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soba i kohortu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eeksponiranih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koje se prate odredjeno vreme i u kojima se registruju incidencije bolesti koja se ispituje. Odnos utvrdjenih incidencija (incidencija medju eksponiranima / incidencija medju neeksponiranima) predstavlja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relativni rizik (RR),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tj. koliko puta je incidencija bolesti medju eksponiranima ve}a od incidencije medju neeksponiranima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re po~etka ispitivanja moraju se jasno odrediti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ciljevi ispitivanja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mora se izvr{iti precizna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definicija kohorti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a~in pra}enja i du`ina pra}enja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Ciljevi ispitivanja podrazumevaju: koja bolest se posmatra kao posledica ekspozicije odredjenim faktorima. Bolest mora biti precizno definisana, kao i na~in na koji se postavlja dijagnoza, a ekspozicija podrazumeva definiciju faktora koji se dovode u vezu sa nastankom bolesti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Formiranje kohorti se bazira na eksponiranosti ispitivanim faktorima: kohortu eksponiranih osoba i kohortu neeksponiranih osoba. Prilikom formiranja kohorti mora se voditi ra~una da ekspozicija uvek prethodi nastanku bolesti, prema tome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u kohortu eksponiranih ulaze osobe koje su ve} (ili su jo{ uvek) eksponirane posmatranom faktoru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. Osobe koje na taj na~in udju u kohortu, do kraja ispitivanja ostaju u njoj, bez obzira na eksponiranost u toku pra}enja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ohortna ispitivanj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rilikom odredjivanja du`ine trajanja ispitivanja (pra}enja kohorti) mora se voditi ra~una o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indukcionom periodu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vremenu delovanja faktora za koje on mo`e da ispolji svoje puno dejstvo) i o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latentnom periodu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periodu od momenta indukcije do pojave prvih simptoma bolesti)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bi~no se zapo~inje sa pra}enjem kohorti nakon isteka vremena indukcije i latentnog perioda, ali u koliko su ovi periodi nepoznatog trajanja, sa pra}enjem se mo`e zapo~eti odmah nakon ekspozicije. Nakon eksplozije atomske bombe u Japanu, kohortno ispitivanje pojave malignih neoplazmi nije zapo~elo odmah, ve} tek posle nekoliko godina, ali, prakti~no traje jo{ i danas zbog jako dugog indukcionog i latentnog perioda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Kod hroni~ne ekspozicije definicija ekspozicije mo`e biti jako komplikovana. Ovde se mora voditi ra~una o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kumulativnom efektu ekspozicije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tj. tek kada se dostigne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“prag okidanja”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hroni~na ekspozicija mo`e pokazati svoj efekat. Kumulacija ekspozicije svakako zavisi od ja~ine ekspozicije i od du`ine eksponiranja. Kod ispitivanja ekspozicije profesionalnim noksama, vrlo ~esto se eksponiranost posmatra od momenta prvog kontakta eksponirane osobe sa noksom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Dakle, kada se defini{e {ta se podrazumeva pod ekspozicijom, pristupa se konkretnom odredjivanju kohortnih grupa. Prema postavljenim kriterijumima osobe se dele u eksponirane i neeksponirane i kada jednom udju u kohortu, kako je ve} nagla{eno, u njoj ostaju do kraja ispitivanja. Na primer, ukoliko se ispituje uticaj desetogodi{njeg pu{enja po dve pakle cigareta dnevno na smrtnost, u kohorti eksponiranih se nalaze osobe koje su po~ele da pu{e najmanje 10 godina pre po~etka ispitivanja po najmanje 2 pakle cigareta dnevno, bez prekida. Ukoliko kasnije prestanu da pu{e ili smanje pu{enje, one i dalje ostaju u kohorti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DESKRIPTIVNA EPIDEMIOLOGIJ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Samo ime - </a:t>
            </a:r>
            <a:r>
              <a:rPr b="1" lang="en-US" sz="2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“deskriptivni metod</a:t>
            </a: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” govori o “</a:t>
            </a:r>
            <a:r>
              <a:rPr b="1" lang="en-US" sz="2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deskripciji”,</a:t>
            </a: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tj. o “</a:t>
            </a:r>
            <a:r>
              <a:rPr b="1" lang="en-US" sz="2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pisivanju”</a:t>
            </a: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pojave koja se posmatra. Pod pojavom se podrazumevaju i bolesti, ali i stanja zdravlja, na~in `ivota, ishrana stanovni{tva, kulturne i druge sociolo{ke pojave, jednom re~ju sve pojave u ljudskoj zajednici koje su od interesa za epidemiologa - posmatra~a - istra`iva~a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Deskriptivni epidemiolo{ki metod rada treba da da odgovor na pitanje: </a:t>
            </a:r>
            <a:r>
              <a:rPr b="1" lang="en-US" sz="2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ko </a:t>
            </a: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(oboleva), </a:t>
            </a:r>
            <a:r>
              <a:rPr b="1" lang="en-US" sz="2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kada</a:t>
            </a: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oboleva), </a:t>
            </a:r>
            <a:r>
              <a:rPr b="1" lang="en-US" sz="2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gde</a:t>
            </a: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oboleva) i </a:t>
            </a:r>
            <a:r>
              <a:rPr b="1" lang="en-US" sz="2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d ~ega (</a:t>
            </a:r>
            <a:r>
              <a:rPr b="1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boleva)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ohortna ispitivanj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Zbog velikog broja ispitanika i zbog relativno dugog vremena pra}enja ovo su veoma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skupe studije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isu pogodne za retke bolesti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Nisu pogodne za ispitivanje bolesti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koje imaju dug latentni period.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Vreme pra}enja se mo`e skratiti tako {to se iz ve} postoje}ih registara pojedinih bolesti (recimo malignih) mogu prikupljati podaci o ekspoziciji i oboljenju. ^ak celokupno pra}enje, na ovaj na~in formiranih kohorti, se mo`e obaviti “u pro{losti” i onda se ovakve studije nazivaju “retrospektivne” ili “istorijske” kohortne studije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U nekim slu~ajevima neeksponirana kohorta ne mora ni postojati, ve} se za uporedjivanje incidencije koristi incidencija oboljevanja u op{toj populaciji. Ovo se mo`e uraditi kod onih bolesti kod kojih je ekspozicija ispitivanom faktoru u op{toj populaciji retka (kod recimo profesionalnih ekspozicija odredjenom hemijskom agensu koji se izuzetno retko koristi u op{toj populaciji)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Ako se registruje smrtnost od odredjene bolesti, kao izvor podataka i za kohortu i za op{tu populaciju moraju se koristiti samo potvrde o smrti. Smrtnost u kohorti se, u ovom slu~aju, ne sme posebno registrovati i na osnovu obdukcijskih nalaza, ili specijalnih ispitivanja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Kod kohortnih, prospektivnih ispitivanja, pra}enje osoba u kohortama mo`e biti jako ote`ano. Zbog velike du`ine pra}enja znatan broj osoba mo`e da se “izgubi” (odseli, promeni adresu i sl.), {to umanjuje vrednost ispitivanja. Ukoliko broj posmatranih osoba u kohortama opadne ispod 60%, rezultati takvih studija su, prakti~no, neupotrebljivi. Dozvoljeno osipanje broja ispitanika bi smelo da bude od 10-20%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ohortna ispitivanj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dredjivanje eksponiranosti, pa samim tim i formiranje kohorti mo`e se obaviti na dva na~ina: kod retkih ekspozicija, naj~e{}e profesionalne prirode, mogu se koristiti popisi radnih mesta i profesionalnih ekspozicija, ali kod ispitivanja uobi~ajenih, {iroko rasprostranjenih ekspozicija (pu{enje, upotreba OKS, na~in ishrane, upotreba pojedinih lekova) utvrdjivanje eksponiranosti se mora obaviti u direktnom kontaktu sa ispitanicima, naj~e{}e putem anket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akon zavr{enog ispitivanja izra~unava se relativni rizik na slede}i na~in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                 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Eksponirani        Neeksponiran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boleli               a                            b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eoboleli 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         c                            d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Incidencija obolevanja u kohorti eksponiranih iznosi a/ (a+c),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a incidencija obolevanja u kohorti neeksponiranih  b/(b+d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RR(relativni rizik) = (a/a+c):(b/b+d) i pokazuje koliko je incidencija obolevanja u eksponiranoj kohorti ve}a od incidencije obolevanja u kohorti neeksponiranih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8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Anamnestičke studij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Relativno su jeftine, kratko traju i pogodne su za ispitivanje retkih bolest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e mo`e se odrediti incidencija ispitivane bolesti, kao ni precizno merenje eksponiranosti ispitivanim etiolo{kim i faktorima rizika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javljaju se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enamerne gre{ke i odredjene nepreciznosti u davanju tra`enih podataka, zbog tzv. “gre{aka u se}anju” (recoll bias)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amnesti~ka ispitivanja podrazumevaju podelu ispitanika u dve grupe: grupu obolelih i kontrolnu grupu (osobe koje ne boluju od ispitivanog oboljenja)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Grupa obolelih se formira od osoba koje boluju od ispitivane bolesti, a kod kojih je dijagnoza bolesti postavljena na osnovu istih kriterijuma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Kontrolna grupa se formira od osoba koje ne boluju od ispitivane bolesti. Postoje razli~ite vrste kontrolnih grupa, a naj~e{}e se koriste : kontrolne grupe koje ~ine nasumice izabrane osobe iz zdrave populacije i kontrolne grupe koje ~ine osobe koje se ve} le~e u bolnici zbog nekih drugih bolesti (a koje, bar prema hipotezi, nemaju iste etiolo{ke faktore i faktore rizika sa ispitivanom bole{}u, npr zbog razli~itih povreda). Populacione kontrolne grupe se naj~e{}e formiraju na osnovu bira~kih spiskova, imena iz telefonskih imenika, od najbli`ih rodjaka obolelih ili od njihovih prvih kom{ija.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59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Anamnestičke studij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5486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ntrolna grupa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r>
              <a:rPr b="1" lang="sl-SI" sz="1400" spc="-1" strike="noStrike">
                <a:solidFill>
                  <a:srgbClr val="333333"/>
                </a:solidFill>
                <a:latin typeface="Times New Roman"/>
              </a:rPr>
              <a:t>može biti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eme~ovana (neuparena).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r>
              <a:rPr b="1" lang="sl-SI" sz="1400" spc="-1" strike="noStrike">
                <a:solidFill>
                  <a:srgbClr val="333333"/>
                </a:solidFill>
                <a:latin typeface="Times New Roman"/>
              </a:rPr>
              <a:t>ili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“me~ovan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” (uparen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) Kontrolnu grupu mo`e ~initi isti broj osoba  kao i u grupi obolelih, ali i dva, tri i vi{e puta ve}i broj. Broj ispitanika u grupama  zavisi od vrste ispitivanog oboljenja (njene incidencije) i od ra{irenosti ispitivanih faktora u populaciji (prevalenciji faktora rizika)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U anamnesti~kim studijama kao glavni instrument koristi se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epidemiolo{ki upitnik.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U njemu su definisana pitanja koja se odnose na ekspoziciju mogu}im etiolo{kim i faktorima rizika, na koja ispitanici obeju grupa moraju da odgovore. Pitanja moraju biti kratka, jasna, nedvosmislena, a  takvi moraju biti i dobijeni odgovori (koji se, ve} mogu i sugerisati ispitaniku). Na primer: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134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Anamnestičke studij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599840" y="1294920"/>
            <a:ext cx="7086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333333"/>
                </a:solidFill>
                <a:latin typeface="Times New Roman"/>
              </a:rPr>
              <a:t>Epidemiološki upitnik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1. Da li pu{ite :  1 - ne   2 -  da        3 -     ranije sam pu{io, a sada n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2. Ako ste ranije pu{ili, koliko godina ne pu{ite:_________ (upisati broj godina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3. Kolika Vam je du`ina pu{a~kog sta`a: _____________(upisati broj godina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4. Koliko ste najvi{e cigareta dnevno pu{ili: ___________( upisati broj cigareta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Cilj ovakvog ispitivanja je da utvrdi da li su, i koliko puta ~e{}e, obolele osobe (u odnosu na ~lanove kontrolne grupe), bile eksponirane ispitivanim faktorima. U tu svrhu se formira tzv. 2x2 tabela i izra~unava rizik, koji se u ovim studijama zove koli~nik {ansi, unakrsni indeks ili indeks eksponiranosti (“odd ratio”):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boleli        Zdravi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           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Eksponirani                  </a:t>
            </a:r>
            <a:r>
              <a:rPr b="0" lang="sl-SI" sz="1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a                 b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           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eeksponirani       </a:t>
            </a:r>
            <a:r>
              <a:rPr b="0" lang="sl-SI" sz="1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         c                 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dnos  a/c   predstavlja odnos eksponiranih i neeksponiranih medju obolelima, a odnos   b/d  predstavlja odnos eksponiranih i neeksponiranih u kontrolnoj grupi. Deobom ove dve vrednosti (a/c ): (b/d) dobija se koli~nik {ansi, indeks eksponiranosti (odd ratio) koji se obi~no zove relativni rizik (iako je relativni rizik “rezervisan” samo za kohortna ispitivanja)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Indeks eksponiranosti predstavlja broj koji pokazuje koliko su obolele osobe, u odnosu na osobe iz kontrolne grupe, bile ~e{}e  izlo`ene ispitivanom faktoru rizika. U literaturi se obele`ava sa “OR” (skra}eno od “odd ratio”) i izra~unava po formuli: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R = ad/cb 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Anamnestičke studij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Tuma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čenje relativnog rizik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RR = 1   </a:t>
            </a:r>
            <a:r>
              <a:rPr b="0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e postoji razlika u eksponiranosti grupa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RR veće od 1 =  </a:t>
            </a:r>
            <a:r>
              <a:rPr b="0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boleli 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su </a:t>
            </a:r>
            <a:r>
              <a:rPr b="0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vi{e bili eksponirani i  ispitivani faktor predstavlja faktor rizika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RR manje od 1 = </a:t>
            </a:r>
            <a:r>
              <a:rPr b="0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kontrolna grupa</a:t>
            </a: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 je</a:t>
            </a:r>
            <a:r>
              <a:rPr b="0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bila vi{e eksponirana od grupe obolelih i  ispitivani faktor predstavlja protektivni faktor u pojavi ispitivane bolesti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33"/>
                </a:solidFill>
                <a:latin typeface="Times New Roman"/>
              </a:rPr>
              <a:t>Statistička značajnost faktora rizika: Najčešće se odredjuje hi-kvadrat testom </a:t>
            </a: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Eksponirani    Neeksponiran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boleli            9                     9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Kontrola          5                     97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r = (9:93) : (5:97) = 1.88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 = 0.267  (ne pokazuje statisti~ku zna~ajnost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Eksponirani    Neeksponiran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boleli            90                   930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Kontrola          50                   970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R = (90:930) : ( 50:970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R = 1.88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 = 0.0004  (visoka statisti~ka zna~ajnost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Anamnestičke studij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Anamnesti~ke studije se mogu sprovoditi i kod </a:t>
            </a:r>
            <a:r>
              <a:rPr b="0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zaraznih bolesti.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Na primer, jednom  anamnesti~kom studijom obuhva}eno je 100 dece koja su tokom druge godine `ivota prebolela morbile, a u kontrolnoj grupi bilo je 100 dece koja tokom druge godine nisu prele`ala ovu bolest. Medju obolelom decom troje je bilo vakcinisano protiv morbila, a u kontrolnoj grupi broj vakcinisane dece je bio 10. Protektivno dejstvo vakcine je izra~unato na slede}i na~in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boleli                kontrol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evakcinisani                           97 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     10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vakcinisani                                3                    90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R = (97:100) : (10:9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R = 29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= 0.0000000 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to jest, nevakcinisana deca imala su  291 puta ve}u {ansu da obole nego vakcinisana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21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LOGITUDINALNE  I  STUDIJE  PRESE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Sve one studije koje  analiziraju podatke o obolelima ili o ekspoziciji odredjenim faktorima rizika za neki du`i vremenski period nazivaju se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longitudinalne studije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ostoje i  epidemiolo{ka ispitivanja, koja su dizajnirana tako da u 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jednom odredjenom trenutku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“snime” situaciju vezanu za broj obolelih od neke bolesti i  ekspoziciju odredjenim faktorima rizika. Takva ispitivanja se nazivju </a:t>
            </a: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studije preseka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i po{to njima mo`e da se odredi prevalencija neke bolesti obi~no se nazivaju i </a:t>
            </a:r>
            <a:r>
              <a:rPr b="1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studije prevalence.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a primer, ukoliko je namera ispitiva~a da odredi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ukupan broj obolelih od hipertenzije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u jednoj populaciji, takvo ispitivanje bi se sprovelo studijom preseka. Za sprovodjenje ove studije najpre mora da se defini{e sama bolest (koji su kriterijumi da bi se za neku osobu reklo da boluje od hipertenzije ili ne),  odredi populacija u kojoj se vr{i ispitivanje (npr. sve stanovni{tvo na teritoriji jedne op{tine) i  vreme  (zdravstveno stanje stanovni{tva odredjenog datuma, npr. 31.5.1998. godine). Prikupljanje svih podataka od ispitanika se odnosi na “prevalentni“ datum: da li ispitivana osoba 31.5.98 boluje od hipertenzije, da li je u momentu ispitivanja pu{a~, da li je gojazna, kakva joj je fizi~ka aktivnost ..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a ovaj na~in mo`e da se odredi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revalencija bolesti u ispitivanoj populaciji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koliki je ukupan broj obolelih) i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revalencija faktora rizika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Medjutim,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ije mogu}e odrediti du`inu eksponiranosti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faktorima rizika, a i kod tuma~enja rezultata vezanih za eksponiranost treba biti obazriv: mogu}e je da obolela osoba bude prvi put eksponirana  ispitivanom faktoru tek nakon pojave bolesti (po~ela je da pu{i nakon {to je dobila hipertenziju). Pored toga, uzro~no-posledi~ne veze (faktor rizika - bolest) mogu biti nejasne: utvrdjeno je da od diskopatija obi~no boluju punije osobe, ali ovakvom vrstom ispitivanja je nemogu}e utvrditi da li je diskopatija posledica gojaznosti, ili je gojaznost posledica bolesti (zbog smanjene fizi~ke aktivnosti obolelih)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EKSPERIMENTALNA EPIDEMIOLOGIJ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523880" y="114264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rovodjenje eksperimentalnih studija  koje 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buhvataju grupu ljudi, deo populacije ili celokupnu populaciju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. Eksperiment podrazumeva da istra`iva~ mora propisati striktne uslove pod kojima se eksperiment sprovodi, to jest na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ve{ta~ki na~in menja uslove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pod kojima ispitiva~i `ive, njihove navike, na~in ishrane, ekspoziciju odredjenim materijama, terapijske postupke i procedure i sli~n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Eksperiment podrazumeva podelu ispitanika u najmanje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dve grupe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: eksperimentalnu i kontrolnu grupu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Eksperimenti u epidemiolo{kim istra`ivanjima se sprovode na ljudima i ni u kom slu~aju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e smeju biti {tetni po zdravlje ispitanika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o, problem eti~ke prirode se postavlja i u slu~aju kada ho}e da se utvrdi da li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dredjeni faktori mogu spre~iti nastanak bolesti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: ne eksponiraju}i kontrolnu grupu protektivnom faktoru njeni ~lanovi dovode se u opasnost da obole. I ne ~ine}i ni{ta {tetno, ali i ne pru`aju}i mogu}u za{titu i ovde se medicinska etika dovodi u pitanj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I pored svega, naro~ito kod ispitivanja hroni~nih, tzv. nezaraznih bolesti, da bi do{lo do pojave oboljenja potrebna je veoma duga ekspozicija odredjenim etiolo{kim faktorima, a i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latentni period mo`e biti jako dug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{to predstavlja poseban problem u ovim ispitivanjima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Zbog svega navedenog, uticaj odredjenih faktora na nastanak bolesti se ~e{}e ispituje na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`ivotinjskom modelu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medjutim, ovakvi eksperimenti se ni u kom slu~aju ne mogu nazvati epidemiolo{kim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EKSPERIMENTALNA EPIDEMI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Eksperimentalna epidemiologija ima ograni~enu primenu i, uglavnom, se koristi za masovno ispitivanje razli~itih </a:t>
            </a:r>
            <a:r>
              <a:rPr b="1" lang="en-US" sz="18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reventivnih i terapijskih procedur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U okviru eksperimentalne epidemiologije razlikuje se nekoliko tipova studij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lini~ki eksperiment (Clinical trail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erenski eksperiment (field trail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33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pulacioni eksperiment (community intervention trail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3300"/>
                </a:solidFill>
                <a:latin typeface="Arial"/>
              </a:rPr>
              <a:t>IZVORI PODAT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a) Prijave zaraznih i nezaraznih bolest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b) Izve{taji o hospitalizaciji (bolni~ki morbiditet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c) Podaci ambulantnog morbidite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d) Podaci o odsustvovanju sa posl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e) Mortalitetni podaci (potvrde o smrti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KLINI^KI  EKSPERI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25748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To je vrsta eksperimenta gde su subjekti ispitivanja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bolele osobe (pacijenti).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Cilj im je, uglavnom, da izvr{e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evaluaciju jednog ili vi{e na~ina le~enja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neke bolesti ili stanja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a ovaj na~in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e mo`e da se izvr{i primarna  i sekundarna prevencija bolesti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{to je cilj preventivnih grana medicine, pa i epidemiologije, ali se spre~ava invalidite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sobe koje u~estvuju u ovakvom eksperimentu moraju imati ta~no, prema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odredjenim kriterijumima, postavljanu dijagnozu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{to skorije postavljenu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Isuvi{e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blagi ili te{ki oblici bolesti se isklju~uju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iz ispitivanja kako ne bi umanjili vrednost rezultata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Le~enje obolelih mora biti tako organizovano i sprovedeno da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isklju~i dejstvo spolja{njih, irelevantnih faktora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akon sprovedenog le~enja vr{i se </a:t>
            </a:r>
            <a:r>
              <a:rPr b="1" lang="en-US" sz="20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uporedjivanje efekata novog na~ina le~enja sa starim na~inom</a:t>
            </a:r>
            <a:r>
              <a:rPr b="1" lang="en-US" sz="20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a dobijeni rezultati se testiraju nekim od statisti~kih testova zna~ajnosti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TERENSKI  EKSPERI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066320" y="838080"/>
            <a:ext cx="8077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33"/>
                </a:solidFill>
                <a:latin typeface="Arial"/>
              </a:rPr>
              <a:t>TERENSKI EKSPERI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va ispitivanja se razlikuju od klini~kih po tome {to su </a:t>
            </a:r>
            <a:r>
              <a:rPr b="0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ispitanici jo{ uvek zdrave osobe i sprovode se na velikom broju ispitanika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a su zbog toga jako skupa i slo`enija su za izvodjenje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a terenski eksperiment se obavlja </a:t>
            </a:r>
            <a:r>
              <a:rPr b="0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a terenu,</a:t>
            </a: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po ku}ama gde ispitanici `ive, na njihovim radnim mestima, po {kolama i sli~no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ored velikog broja ispitanika, zahtevaju i veliki nau~no-istra`iva~ki tim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bzirom na sve ovo, ovakva ispitivanja se dosta retko sprovode i to sa ciljem prevencije obi~nih, veoma rasprostranjenih ili te{kih bolest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MERI TERENSKOG EKSPERI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371600" y="1295280"/>
            <a:ext cx="75438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Kao primer terenskog eksperimenta mo`e se navesti ispitivanje koje je sproveo Salk sredinom ovog veka sa ciljem da utvrdi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vrednost vakcine protiv poliomijelitisa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. Ispitivanjem je obuhva}eno preko  milion dece {kolskog uzrasta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U periodu od 1954. do 1960. godine u okviru Svetske zdravstvene organizacije u Osjeku i u Britanskoj Gvajani je sproveden veliki terenski eksperiment, koji je imao za cilj da izvr{i evaluaciju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vakcina protiv trbu{nog tifusa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. Tom prilikom je pokazano da fenolska tifusna vakcina daje dugotrajan i solidan imunitet, ali da je sama vakcina nestabilna. Zbog toga je 1960. godine sproveden novi terenski eksperiment koji je trebalo da utvrdi koja je vakcina bolja: fenolska ili acetonska. Eksperiment je sproveden u Pri{tini i u Bitolju i obuhvatio je preko 45000 ljudi koji su podeljeni u tri grupe: jednoj grupi je aplikovana fenolska, drugoj acetonska vakcina, a tre}oj grupi je dat tetanusni toksoid (kao “placebo”, tj. antigen koji nimalo ne uti~e na imunolo{ki odgovor prema tifusu). Posle vi{e od dve godine pra}enja utvrdjeno je da su i jedna i druga vakcina dobre, ali da je acetonska vakcina stabilnija i da daje bolju za{titu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samdesetih godina ovog veka izvr{eno je terensko ispitivanje koje je imalo za cilj da utvrdi uticaj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ishrane na nastanak infarkta miokarda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. U ispitivanje je bilo uklju~eno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12.866</a:t>
            </a:r>
            <a:r>
              <a:rPr b="1" lang="en-US" sz="16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osoba sa pove}anim rizikom (gojazne, sa pove}anim vrednostima holestertola), a tro{kovi su iznosili preko </a:t>
            </a:r>
            <a:r>
              <a:rPr b="1" lang="en-US" sz="16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100 miliona dolara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POPULACIONI  EKS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Za razliku od terenskog eksperimenta, gde su u~esnici u ispitivanju bili selektovani po odredjenim kriterijumima, dakle gde se radilo o delu jedne populacije, populacioni eksperimenti obuhvataju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celokupno stanovni{tvo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nekog naselja, op{tine ili dr`ave. Zbog toga se faktorima koji se ispituju ne eksponiraju u~esnici eksperimenta svaki ponaosob, ve} se posebnim na~inom aplikacije celokupno stanovni{tvo eksponira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rimer za ovo je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uticaj fluora na smanjenje javljanja karijesa.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U populacionom eksperimentu, sprovedenom u nekoliko razli~itih gradova, voda za pi}e je bila fluorisana, tako da su svi njeni korisnici bili podjednako izlo`eni dejstvu fluora. Smanjenje pojave karijesa u odnosu na period pre fluorizacije i u odnosu na populaciju koja je koristila nefluorisanu vodu je dovelo do zaklju~ka da se fluorizacija vode mo`e koristiti kao preventivna mera kod karijesa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rimer populacionog ispitivanja je i kori{}enje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masmedija u zdravstveno-vaspitne svrhe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i rezultati jedne takve kampanje. Sveobuhvatnom masmedijskom kampanjom u mnogim zemljama u svetu je poslednjih godina do{lo do opadanja polnih zaraznih bolesti, pa i side, bolesti protiv koje je ova kampanja prevenstveno bila namenjena. Ova kampanja je doprinela pove}anju kori{}enja prezervativa: u studentskoj populaciji u Ni{u pre kampanje svega 40% studenata je koristilo prezervativ, nakon kampanje ovaj procenat se pove}ao na blizu 60%. 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I ova istra`ivanja su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jako skupa, dugotrajna i zahtevaju veliku ekipu istra`iva~a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pa obi~no kao finansijer iza njih stoji dr`ava ili ~ak Svetska zdravstvena organizacija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U prirodnim uslovima se ~esto dogadjaju razne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epidemije zaraznih bolesti, prirodne i ekolo{ke katastrofe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koje u mnogome menjaju zdravstveno stanje stanovni{tva. Na taj na~in se odvija </a:t>
            </a:r>
            <a:r>
              <a:rPr b="0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prirodni, nekontrolisani eksperiment</a:t>
            </a:r>
            <a:r>
              <a:rPr b="0" lang="en-US" sz="14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, koji mo`e pru`iti izvanredne podatke (koji se sistematski prikupljaju, obradjuju i analiziraju) za dono{enje odredjenih zaklju~aka. Eksplozija atomske bombe, havarije nuklearnih podmornica i elektrana su, dogadjaji koji su se de{avali “nekontrolisano” mnogo su doprineli da se sagleda uticaj jonizuju}eg zra~enja na sve `ive organizme, pa i ~oveka i njihov zna~aj u nastanku, pre svega malignih bolesti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SREDJIVANJE PODATAK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Sredjivanje podataka podrazumeva njihovo </a:t>
            </a:r>
            <a:r>
              <a:rPr b="0" lang="en-US" sz="32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grupisanje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prema odredjenim obele`jima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33"/>
                </a:solidFill>
                <a:latin typeface="Arial"/>
              </a:rPr>
              <a:t>Pronalaženje </a:t>
            </a:r>
            <a:r>
              <a:rPr b="0" lang="sl-SI" sz="3200" spc="-1" strike="noStrike">
                <a:solidFill>
                  <a:srgbClr val="ff3300"/>
                </a:solidFill>
                <a:latin typeface="Arial"/>
              </a:rPr>
              <a:t>duplika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[ifriranje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podatak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33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zrada </a:t>
            </a:r>
            <a:r>
              <a:rPr b="0" lang="en-US" sz="32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tabela i grafikon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ANALIZA PODAT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Svi podaci koji se odnose na neko oboljenje analiziraju se, pa samim tim tabeliraju ili grafi~ki prikazuju u tri pravca: prema </a:t>
            </a: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mestu 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(gde se bolest odigrava), prema </a:t>
            </a: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vremenu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kada se bolest odigrava) i prema karakteristikama zahva}ene </a:t>
            </a:r>
            <a:r>
              <a:rPr b="1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populacije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 (pol, uzrast, zanimanje...).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Topografska analiz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           (Analiza prema mestu gde se bolest de{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Ova analiza obuhvata geografsku (topografsku) distribuciju oboljenja. Ukoliko se razmatraju podaci iz sveta, onda se naj~e{}e analiza morbiditeta (stope obolevanja) ili mortaliteta (stope umiranja) vr{i prema pojedinim dr`avama. Ukoliko se podaci odnose na jednu zemlju analiza mo`e da se  odnosi na rasprostranjenost bolesti u njenim sastavnim delovima, po op{tinama, naseljima ili, ~ak, po kvartovima, ulicama ili stambenim  jedinicama ({to je neophodno uraditi kod pojave epidemija nekih zaraznih bolesti)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Razlike u geografskoj distribuciji ukazuj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  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da su karakteristike obolelih osoba na dva podru~ja razli~ite (genetske razlike, razlike u na~inu ili stilu `ivota, razlike u zanimanju, polu i uzrastu i sli~no) il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  </a:t>
            </a:r>
            <a:r>
              <a:rPr b="0" lang="en-US" sz="32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da medju ispitivanim podru~jima postoje bitne razlike u postojanju faktora koji omogu}avaju pojavu bolesti, njeno odr`avanje ili {irenje u populaciji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Razlike u obolevanju i umiranju medju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dr`avama</a:t>
            </a:r>
            <a:r>
              <a:rPr b="0" lang="en-US" sz="4400" spc="-1" strike="noStrike">
                <a:solidFill>
                  <a:srgbClr val="000000"/>
                </a:solidFill>
                <a:latin typeface="YU-Times-New-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-477216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Nestandardizovane  stope mortaliteta od karcinoma `eluca 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u nekim zemljama u svetu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YU-Times-New-Roman"/>
                <a:ea typeface="Times New Roman"/>
              </a:rPr>
              <a:t> 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1905120"/>
            <a:ext cx="6705360" cy="4495680"/>
            <a:chOff x="2057400" y="1905120"/>
            <a:chExt cx="6705360" cy="4495680"/>
          </a:xfrm>
        </p:grpSpPr>
        <p:grpSp>
          <p:nvGrpSpPr>
            <p:cNvPr id="122" name=""/>
            <p:cNvGrpSpPr/>
            <p:nvPr/>
          </p:nvGrpSpPr>
          <p:grpSpPr>
            <a:xfrm>
              <a:off x="2065680" y="1906200"/>
              <a:ext cx="6687720" cy="4492440"/>
              <a:chOff x="2065680" y="1906200"/>
              <a:chExt cx="6687720" cy="44924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065680" y="1906200"/>
                <a:ext cx="2167560" cy="172800"/>
                <a:chOff x="2065680" y="1906200"/>
                <a:chExt cx="2167560" cy="1728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189520" y="1906200"/>
                  <a:ext cx="19198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Dr`av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065680" y="1906200"/>
                  <a:ext cx="216756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233600" y="1906200"/>
                <a:ext cx="1494720" cy="172800"/>
                <a:chOff x="4233600" y="1906200"/>
                <a:chExt cx="1494720" cy="172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357440" y="1906200"/>
                  <a:ext cx="12470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Godin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233600" y="1906200"/>
                  <a:ext cx="14947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728680" y="1906200"/>
                <a:ext cx="1788120" cy="172800"/>
                <a:chOff x="5728680" y="1906200"/>
                <a:chExt cx="1788120" cy="1728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852520" y="1906200"/>
                  <a:ext cx="15404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Mu{karci 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728680" y="1906200"/>
                  <a:ext cx="17881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517520" y="1906200"/>
                <a:ext cx="1235880" cy="172800"/>
                <a:chOff x="7517520" y="1906200"/>
                <a:chExt cx="1235880" cy="1728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640640" y="1906200"/>
                  <a:ext cx="98856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@ene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17520" y="1906200"/>
                  <a:ext cx="123588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065680" y="2079000"/>
                <a:ext cx="2167560" cy="172440"/>
                <a:chOff x="2065680" y="2079000"/>
                <a:chExt cx="2167560" cy="1724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189520" y="20790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Japa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065680" y="20790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233600" y="2079000"/>
                <a:ext cx="1494720" cy="172440"/>
                <a:chOff x="4233600" y="2079000"/>
                <a:chExt cx="1494720" cy="172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357440" y="20790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9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33600" y="20790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728680" y="2079000"/>
                <a:ext cx="1788120" cy="172440"/>
                <a:chOff x="5728680" y="2079000"/>
                <a:chExt cx="1788120" cy="172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852520" y="20790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9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728680" y="20790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517520" y="2079000"/>
                <a:ext cx="1235880" cy="172440"/>
                <a:chOff x="7517520" y="2079000"/>
                <a:chExt cx="1235880" cy="1724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640640" y="20790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8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517520" y="20790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065680" y="2251800"/>
                <a:ext cx="2167560" cy="172440"/>
                <a:chOff x="2065680" y="2251800"/>
                <a:chExt cx="2167560" cy="172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189520" y="22518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USS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065680" y="22518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233600" y="2251800"/>
                <a:ext cx="1494720" cy="172440"/>
                <a:chOff x="4233600" y="2251800"/>
                <a:chExt cx="1494720" cy="1724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357440" y="22518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33600" y="22518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728680" y="2251800"/>
                <a:ext cx="1788120" cy="172440"/>
                <a:chOff x="5728680" y="2251800"/>
                <a:chExt cx="1788120" cy="1724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852520" y="22518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5.7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728680" y="22518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517520" y="2251800"/>
                <a:ext cx="1235880" cy="172440"/>
                <a:chOff x="7517520" y="2251800"/>
                <a:chExt cx="1235880" cy="172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640640" y="22518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5.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17520" y="22518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065680" y="2424600"/>
                <a:ext cx="2167560" cy="172440"/>
                <a:chOff x="2065680" y="2424600"/>
                <a:chExt cx="2167560" cy="1724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189520" y="24246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Madjars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065680" y="24246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233600" y="2424600"/>
                <a:ext cx="1494720" cy="172440"/>
                <a:chOff x="4233600" y="2424600"/>
                <a:chExt cx="1494720" cy="172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357440" y="24246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9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233600" y="24246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728680" y="2424600"/>
                <a:ext cx="1788120" cy="172440"/>
                <a:chOff x="5728680" y="2424600"/>
                <a:chExt cx="1788120" cy="1724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852520" y="24246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35.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28680" y="24246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517520" y="2424600"/>
                <a:ext cx="1235880" cy="172440"/>
                <a:chOff x="7517520" y="2424600"/>
                <a:chExt cx="1235880" cy="172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0640" y="24246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1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517520" y="24246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065680" y="2597400"/>
                <a:ext cx="2167560" cy="172440"/>
                <a:chOff x="2065680" y="2597400"/>
                <a:chExt cx="2167560" cy="172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189520" y="25974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Bugars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065680" y="25974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233600" y="2597400"/>
                <a:ext cx="1494720" cy="172440"/>
                <a:chOff x="4233600" y="2597400"/>
                <a:chExt cx="1494720" cy="1724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357440" y="25974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9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33600" y="25974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728680" y="2597400"/>
                <a:ext cx="1788120" cy="172440"/>
                <a:chOff x="5728680" y="2597400"/>
                <a:chExt cx="1788120" cy="1724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852520" y="25974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9.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728680" y="25974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517520" y="2597400"/>
                <a:ext cx="1235880" cy="172440"/>
                <a:chOff x="7517520" y="2597400"/>
                <a:chExt cx="1235880" cy="1724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640640" y="25974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0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517520" y="25974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065680" y="2770200"/>
                <a:ext cx="2167560" cy="172800"/>
                <a:chOff x="2065680" y="2770200"/>
                <a:chExt cx="2167560" cy="172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189520" y="2770200"/>
                  <a:ext cx="19198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Austrij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065680" y="2770200"/>
                  <a:ext cx="216756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33600" y="2770200"/>
                <a:ext cx="1494720" cy="172800"/>
                <a:chOff x="4233600" y="2770200"/>
                <a:chExt cx="1494720" cy="172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357440" y="2770200"/>
                  <a:ext cx="12470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9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33600" y="2770200"/>
                  <a:ext cx="14947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728680" y="2770200"/>
                <a:ext cx="1788120" cy="172800"/>
                <a:chOff x="5728680" y="2770200"/>
                <a:chExt cx="1788120" cy="1728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852520" y="2770200"/>
                  <a:ext cx="15404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6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28680" y="2770200"/>
                  <a:ext cx="17881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517520" y="2770200"/>
                <a:ext cx="1235880" cy="172800"/>
                <a:chOff x="7517520" y="2770200"/>
                <a:chExt cx="1235880" cy="172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640640" y="2770200"/>
                  <a:ext cx="98856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1.5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17520" y="2770200"/>
                  <a:ext cx="123588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065680" y="2943000"/>
                <a:ext cx="2167560" cy="172440"/>
                <a:chOff x="2065680" y="2943000"/>
                <a:chExt cx="2167560" cy="1724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189520" y="29430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Rumunij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65680" y="29430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233600" y="2943000"/>
                <a:ext cx="1494720" cy="172440"/>
                <a:chOff x="4233600" y="2943000"/>
                <a:chExt cx="1494720" cy="172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357440" y="29430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233600" y="29430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728680" y="2943000"/>
                <a:ext cx="1788120" cy="172440"/>
                <a:chOff x="5728680" y="2943000"/>
                <a:chExt cx="1788120" cy="172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852520" y="29430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3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728680" y="29430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517520" y="2943000"/>
                <a:ext cx="1235880" cy="172440"/>
                <a:chOff x="7517520" y="2943000"/>
                <a:chExt cx="1235880" cy="1724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640640" y="29430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1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17520" y="29430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065680" y="3115800"/>
                <a:ext cx="2167560" cy="172440"/>
                <a:chOff x="2065680" y="3115800"/>
                <a:chExt cx="2167560" cy="172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189520" y="31158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[panij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065680" y="31158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233600" y="3115800"/>
                <a:ext cx="1494720" cy="172440"/>
                <a:chOff x="4233600" y="3115800"/>
                <a:chExt cx="1494720" cy="172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357440" y="31158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7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233600" y="31158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728680" y="3115800"/>
                <a:ext cx="1788120" cy="172440"/>
                <a:chOff x="5728680" y="3115800"/>
                <a:chExt cx="1788120" cy="1724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852520" y="31158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2.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728680" y="31158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517520" y="3115800"/>
                <a:ext cx="1235880" cy="172440"/>
                <a:chOff x="7517520" y="3115800"/>
                <a:chExt cx="1235880" cy="1724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640640" y="31158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5.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517520" y="31158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065680" y="3288600"/>
                <a:ext cx="2167560" cy="172440"/>
                <a:chOff x="2065680" y="3288600"/>
                <a:chExt cx="2167560" cy="1724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189520" y="32886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Jugoslavij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065680" y="32886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233600" y="3288600"/>
                <a:ext cx="1494720" cy="172440"/>
                <a:chOff x="4233600" y="3288600"/>
                <a:chExt cx="1494720" cy="1724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357440" y="32886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233600" y="32886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728680" y="3288600"/>
                <a:ext cx="1788120" cy="172440"/>
                <a:chOff x="5728680" y="3288600"/>
                <a:chExt cx="1788120" cy="1724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852520" y="32886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1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728680" y="32886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517520" y="3288600"/>
                <a:ext cx="1235880" cy="172440"/>
                <a:chOff x="7517520" y="3288600"/>
                <a:chExt cx="1235880" cy="172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640640" y="32886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1.7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17520" y="32886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065680" y="3461400"/>
                <a:ext cx="2167560" cy="172800"/>
                <a:chOff x="2065680" y="3461400"/>
                <a:chExt cx="2167560" cy="172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189520" y="3461400"/>
                  <a:ext cx="19198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Norve{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065680" y="3461400"/>
                  <a:ext cx="216756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233600" y="3461400"/>
                <a:ext cx="1494720" cy="172800"/>
                <a:chOff x="4233600" y="3461400"/>
                <a:chExt cx="1494720" cy="1728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357440" y="3461400"/>
                  <a:ext cx="12470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33600" y="3461400"/>
                  <a:ext cx="14947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728680" y="3461400"/>
                <a:ext cx="1788120" cy="172800"/>
                <a:chOff x="5728680" y="3461400"/>
                <a:chExt cx="1788120" cy="172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852520" y="3461400"/>
                  <a:ext cx="15404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20.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28680" y="3461400"/>
                  <a:ext cx="17881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517520" y="3461400"/>
                <a:ext cx="1235880" cy="172800"/>
                <a:chOff x="7517520" y="3461400"/>
                <a:chExt cx="1235880" cy="1728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640640" y="3461400"/>
                  <a:ext cx="98856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3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517520" y="3461400"/>
                  <a:ext cx="123588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065680" y="3634200"/>
                <a:ext cx="2167560" cy="172440"/>
                <a:chOff x="2065680" y="3634200"/>
                <a:chExt cx="2167560" cy="1724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189520" y="36342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Holandij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065680" y="36342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233600" y="3634200"/>
                <a:ext cx="1494720" cy="172440"/>
                <a:chOff x="4233600" y="3634200"/>
                <a:chExt cx="1494720" cy="1724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357440" y="36342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33600" y="36342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728680" y="3634200"/>
                <a:ext cx="1788120" cy="172440"/>
                <a:chOff x="5728680" y="3634200"/>
                <a:chExt cx="1788120" cy="1724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852520" y="36342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8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28680" y="36342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517520" y="3634200"/>
                <a:ext cx="1235880" cy="172440"/>
                <a:chOff x="7517520" y="3634200"/>
                <a:chExt cx="1235880" cy="1724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640640" y="36342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1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517520" y="36342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065680" y="3807000"/>
                <a:ext cx="2167560" cy="172440"/>
                <a:chOff x="2065680" y="3807000"/>
                <a:chExt cx="2167560" cy="1724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189520" y="38070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[veds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065680" y="38070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233600" y="3807000"/>
                <a:ext cx="1494720" cy="172440"/>
                <a:chOff x="4233600" y="3807000"/>
                <a:chExt cx="1494720" cy="1724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357440" y="38070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233600" y="38070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728680" y="3807000"/>
                <a:ext cx="1788120" cy="172440"/>
                <a:chOff x="5728680" y="3807000"/>
                <a:chExt cx="1788120" cy="1724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52520" y="38070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8.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728680" y="38070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517520" y="3807000"/>
                <a:ext cx="1235880" cy="172440"/>
                <a:chOff x="7517520" y="3807000"/>
                <a:chExt cx="1235880" cy="1724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640640" y="38070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2.5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17520" y="38070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065680" y="3979800"/>
                <a:ext cx="2167560" cy="172440"/>
                <a:chOff x="2065680" y="3979800"/>
                <a:chExt cx="2167560" cy="1724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189520" y="39798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Fins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65680" y="39798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233600" y="3979800"/>
                <a:ext cx="1494720" cy="172440"/>
                <a:chOff x="4233600" y="3979800"/>
                <a:chExt cx="1494720" cy="172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357440" y="39798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233600" y="39798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5728680" y="3979800"/>
                <a:ext cx="1788120" cy="172440"/>
                <a:chOff x="5728680" y="3979800"/>
                <a:chExt cx="1788120" cy="172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852520" y="39798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7.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28680" y="39798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517520" y="3979800"/>
                <a:ext cx="1235880" cy="172440"/>
                <a:chOff x="7517520" y="3979800"/>
                <a:chExt cx="1235880" cy="172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640640" y="39798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7.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517520" y="39798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2065680" y="4152600"/>
                <a:ext cx="2167560" cy="172800"/>
                <a:chOff x="2065680" y="4152600"/>
                <a:chExt cx="2167560" cy="172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189520" y="4152600"/>
                  <a:ext cx="19198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[vajcars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65680" y="4152600"/>
                  <a:ext cx="216756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233600" y="4152600"/>
                <a:ext cx="1494720" cy="172800"/>
                <a:chOff x="4233600" y="4152600"/>
                <a:chExt cx="1494720" cy="1728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357440" y="4152600"/>
                  <a:ext cx="12470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9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233600" y="4152600"/>
                  <a:ext cx="14947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728680" y="4152600"/>
                <a:ext cx="1788120" cy="172800"/>
                <a:chOff x="5728680" y="4152600"/>
                <a:chExt cx="1788120" cy="172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852520" y="4152600"/>
                  <a:ext cx="15404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6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728680" y="4152600"/>
                  <a:ext cx="17881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517520" y="4152600"/>
                <a:ext cx="1235880" cy="172800"/>
                <a:chOff x="7517520" y="4152600"/>
                <a:chExt cx="1235880" cy="1728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640640" y="4152600"/>
                  <a:ext cx="98856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0.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517520" y="4152600"/>
                  <a:ext cx="123588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065680" y="4325400"/>
                <a:ext cx="2167560" cy="172440"/>
                <a:chOff x="2065680" y="4325400"/>
                <a:chExt cx="2167560" cy="1724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189520" y="43254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Gr~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65680" y="43254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233600" y="4325400"/>
                <a:ext cx="1494720" cy="172440"/>
                <a:chOff x="4233600" y="4325400"/>
                <a:chExt cx="1494720" cy="1724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357440" y="43254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233600" y="43254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728680" y="4325400"/>
                <a:ext cx="1788120" cy="172440"/>
                <a:chOff x="5728680" y="4325400"/>
                <a:chExt cx="1788120" cy="172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852520" y="43254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5.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728680" y="43254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517520" y="4325400"/>
                <a:ext cx="1235880" cy="172440"/>
                <a:chOff x="7517520" y="4325400"/>
                <a:chExt cx="1235880" cy="1724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640640" y="43254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0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517520" y="43254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065680" y="4498200"/>
                <a:ext cx="2167560" cy="172440"/>
                <a:chOff x="2065680" y="4498200"/>
                <a:chExt cx="2167560" cy="1724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189520" y="44982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Francus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065680" y="44982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233600" y="4498200"/>
                <a:ext cx="1494720" cy="172440"/>
                <a:chOff x="4233600" y="4498200"/>
                <a:chExt cx="1494720" cy="1724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357440" y="44982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233600" y="44982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728680" y="4498200"/>
                <a:ext cx="1788120" cy="172440"/>
                <a:chOff x="5728680" y="4498200"/>
                <a:chExt cx="1788120" cy="172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852520" y="44982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4.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728680" y="44982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7517520" y="4498200"/>
                <a:ext cx="1235880" cy="172440"/>
                <a:chOff x="7517520" y="4498200"/>
                <a:chExt cx="1235880" cy="172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640640" y="44982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9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517520" y="44982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065680" y="4671000"/>
                <a:ext cx="2167560" cy="172440"/>
                <a:chOff x="2065680" y="4671000"/>
                <a:chExt cx="2167560" cy="172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189520" y="46710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Argentin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065680" y="46710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233600" y="4671000"/>
                <a:ext cx="1494720" cy="172440"/>
                <a:chOff x="4233600" y="4671000"/>
                <a:chExt cx="1494720" cy="1724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357440" y="46710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7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233600" y="46710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728680" y="4671000"/>
                <a:ext cx="1788120" cy="172440"/>
                <a:chOff x="5728680" y="4671000"/>
                <a:chExt cx="1788120" cy="1724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852520" y="46710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3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728680" y="46710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7517520" y="4671000"/>
                <a:ext cx="1235880" cy="172440"/>
                <a:chOff x="7517520" y="4671000"/>
                <a:chExt cx="1235880" cy="1724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640640" y="46710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7.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517520" y="46710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065680" y="4843800"/>
                <a:ext cx="2167560" cy="172800"/>
                <a:chOff x="2065680" y="4843800"/>
                <a:chExt cx="2167560" cy="1728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189520" y="4843800"/>
                  <a:ext cx="19198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Dansk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065680" y="4843800"/>
                  <a:ext cx="216756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233600" y="4843800"/>
                <a:ext cx="1494720" cy="172800"/>
                <a:chOff x="4233600" y="4843800"/>
                <a:chExt cx="1494720" cy="172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357440" y="4843800"/>
                  <a:ext cx="12470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233600" y="4843800"/>
                  <a:ext cx="14947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728680" y="4843800"/>
                <a:ext cx="1788120" cy="172800"/>
                <a:chOff x="5728680" y="4843800"/>
                <a:chExt cx="1788120" cy="1728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852520" y="4843800"/>
                  <a:ext cx="15404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2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728680" y="4843800"/>
                  <a:ext cx="17881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517520" y="4843800"/>
                <a:ext cx="1235880" cy="172800"/>
                <a:chOff x="7517520" y="4843800"/>
                <a:chExt cx="1235880" cy="1728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640640" y="4843800"/>
                  <a:ext cx="98856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0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517520" y="4843800"/>
                  <a:ext cx="123588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065680" y="5016600"/>
                <a:ext cx="2167560" cy="172440"/>
                <a:chOff x="2065680" y="5016600"/>
                <a:chExt cx="2167560" cy="172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189520" y="50166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Austrij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065680" y="50166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33600" y="5016600"/>
                <a:ext cx="1494720" cy="172440"/>
                <a:chOff x="4233600" y="5016600"/>
                <a:chExt cx="1494720" cy="172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357440" y="50166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33600" y="50166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728680" y="5016600"/>
                <a:ext cx="1788120" cy="172440"/>
                <a:chOff x="5728680" y="5016600"/>
                <a:chExt cx="1788120" cy="1724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852520" y="50166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0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728680" y="50166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7517520" y="5016600"/>
                <a:ext cx="1235880" cy="172440"/>
                <a:chOff x="7517520" y="5016600"/>
                <a:chExt cx="1235880" cy="172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640640" y="50166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517520" y="50166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065680" y="5189400"/>
                <a:ext cx="2167560" cy="172440"/>
                <a:chOff x="2065680" y="5189400"/>
                <a:chExt cx="2167560" cy="1724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89520" y="51894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Kanad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65680" y="51894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233600" y="5189400"/>
                <a:ext cx="1494720" cy="172440"/>
                <a:chOff x="4233600" y="5189400"/>
                <a:chExt cx="1494720" cy="1724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357440" y="51894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8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33600" y="51894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728680" y="5189400"/>
                <a:ext cx="1788120" cy="172440"/>
                <a:chOff x="5728680" y="5189400"/>
                <a:chExt cx="1788120" cy="1724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852520" y="51894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0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728680" y="51894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517520" y="5189400"/>
                <a:ext cx="1235880" cy="172440"/>
                <a:chOff x="7517520" y="5189400"/>
                <a:chExt cx="1235880" cy="1724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7640640" y="51894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517520" y="51894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065680" y="5362200"/>
                <a:ext cx="2167560" cy="172440"/>
                <a:chOff x="2065680" y="5362200"/>
                <a:chExt cx="2167560" cy="1724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189520" y="53622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Izrae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065680" y="53622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233600" y="5362200"/>
                <a:ext cx="1494720" cy="172440"/>
                <a:chOff x="4233600" y="5362200"/>
                <a:chExt cx="1494720" cy="1724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357440" y="53622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233600" y="53622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728680" y="5362200"/>
                <a:ext cx="1788120" cy="172440"/>
                <a:chOff x="5728680" y="5362200"/>
                <a:chExt cx="1788120" cy="1724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852520" y="53622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9.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728680" y="53622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517520" y="5362200"/>
                <a:ext cx="1235880" cy="172440"/>
                <a:chOff x="7517520" y="5362200"/>
                <a:chExt cx="1235880" cy="1724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40640" y="53622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5.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517520" y="53622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065680" y="5535000"/>
                <a:ext cx="2167560" cy="172440"/>
                <a:chOff x="2065680" y="5535000"/>
                <a:chExt cx="2167560" cy="1724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189520" y="55350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US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065680" y="55350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4233600" y="5535000"/>
                <a:ext cx="1494720" cy="172440"/>
                <a:chOff x="4233600" y="5535000"/>
                <a:chExt cx="1494720" cy="1724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357440" y="55350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233600" y="55350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5728680" y="5535000"/>
                <a:ext cx="1788120" cy="172440"/>
                <a:chOff x="5728680" y="5535000"/>
                <a:chExt cx="1788120" cy="1724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852520" y="55350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7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728680" y="55350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7517520" y="5535000"/>
                <a:ext cx="1235880" cy="172440"/>
                <a:chOff x="7517520" y="5535000"/>
                <a:chExt cx="1235880" cy="1724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640640" y="55350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.4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517520" y="55350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65680" y="5707800"/>
                <a:ext cx="2167560" cy="172800"/>
                <a:chOff x="2065680" y="5707800"/>
                <a:chExt cx="2167560" cy="1728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89520" y="5707800"/>
                  <a:ext cx="19198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Peru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65680" y="5707800"/>
                  <a:ext cx="216756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233600" y="5707800"/>
                <a:ext cx="1494720" cy="172800"/>
                <a:chOff x="4233600" y="5707800"/>
                <a:chExt cx="1494720" cy="1728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357440" y="5707800"/>
                  <a:ext cx="12470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233600" y="5707800"/>
                  <a:ext cx="14947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5728680" y="5707800"/>
                <a:ext cx="1788120" cy="172800"/>
                <a:chOff x="5728680" y="5707800"/>
                <a:chExt cx="1788120" cy="1728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852520" y="5707800"/>
                  <a:ext cx="154044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.9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728680" y="5707800"/>
                  <a:ext cx="178812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7517520" y="5707800"/>
                <a:ext cx="1235880" cy="172800"/>
                <a:chOff x="7517520" y="5707800"/>
                <a:chExt cx="1235880" cy="1728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640640" y="5707800"/>
                  <a:ext cx="98856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17520" y="5707800"/>
                  <a:ext cx="1235880" cy="17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2065680" y="5880600"/>
                <a:ext cx="2167560" cy="172440"/>
                <a:chOff x="2065680" y="5880600"/>
                <a:chExt cx="2167560" cy="1724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189520" y="58806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Panama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065680" y="58806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233600" y="5880600"/>
                <a:ext cx="1494720" cy="172440"/>
                <a:chOff x="4233600" y="5880600"/>
                <a:chExt cx="1494720" cy="1724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357440" y="58806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5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233600" y="58806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5728680" y="5880600"/>
                <a:ext cx="1788120" cy="172440"/>
                <a:chOff x="5728680" y="5880600"/>
                <a:chExt cx="1788120" cy="1724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852520" y="58806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.7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28680" y="58806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517520" y="5880600"/>
                <a:ext cx="1235880" cy="172440"/>
                <a:chOff x="7517520" y="5880600"/>
                <a:chExt cx="1235880" cy="1724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640640" y="58806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9.0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517520" y="58806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065680" y="6053400"/>
                <a:ext cx="2167560" cy="172440"/>
                <a:chOff x="2065680" y="6053400"/>
                <a:chExt cx="2167560" cy="1724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189520" y="60534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Paragvaj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065680" y="60534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4233600" y="6053400"/>
                <a:ext cx="1494720" cy="172440"/>
                <a:chOff x="4233600" y="6053400"/>
                <a:chExt cx="1494720" cy="1724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4357440" y="60534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986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233600" y="60534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5728680" y="6053400"/>
                <a:ext cx="1788120" cy="172440"/>
                <a:chOff x="5728680" y="6053400"/>
                <a:chExt cx="1788120" cy="1724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852520" y="60534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6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28680" y="60534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7517520" y="6053400"/>
                <a:ext cx="1235880" cy="172440"/>
                <a:chOff x="7517520" y="6053400"/>
                <a:chExt cx="1235880" cy="1724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7640640" y="60534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.1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517520" y="60534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065680" y="6226200"/>
                <a:ext cx="2167560" cy="172440"/>
                <a:chOff x="2065680" y="6226200"/>
                <a:chExt cx="2167560" cy="1724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189520" y="6226200"/>
                  <a:ext cx="191988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Meksik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065680" y="6226200"/>
                  <a:ext cx="216756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233600" y="6226200"/>
                <a:ext cx="1494720" cy="172440"/>
                <a:chOff x="4233600" y="6226200"/>
                <a:chExt cx="1494720" cy="1724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357440" y="6226200"/>
                  <a:ext cx="12470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188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233600" y="6226200"/>
                  <a:ext cx="14947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5728680" y="6226200"/>
                <a:ext cx="1788120" cy="172440"/>
                <a:chOff x="5728680" y="6226200"/>
                <a:chExt cx="1788120" cy="172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852520" y="6226200"/>
                  <a:ext cx="154044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.2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728680" y="6226200"/>
                  <a:ext cx="178812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517520" y="6226200"/>
                <a:ext cx="1235880" cy="172440"/>
                <a:chOff x="7517520" y="6226200"/>
                <a:chExt cx="1235880" cy="172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7640640" y="6226200"/>
                  <a:ext cx="988560" cy="17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YU-Times-New-Roman"/>
                      <a:ea typeface="Times New Roman"/>
                    </a:rPr>
                    <a:t>4.3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517520" y="6226200"/>
                  <a:ext cx="1235880" cy="17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" name=""/>
            <p:cNvSpPr/>
            <p:nvPr/>
          </p:nvSpPr>
          <p:spPr>
            <a:xfrm>
              <a:off x="2057400" y="1905120"/>
              <a:ext cx="6705360" cy="4495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990720" y="121932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YU-Times-New-Roman"/>
                <a:ea typeface="Times New Roman"/>
              </a:rPr>
              <a:t>Nestandardizovane  stope mortaliteta od karcinoma `eluca u nekim zemljama u svet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7:18:10Z</dcterms:created>
  <dc:creator>bb</dc:creator>
  <dc:description/>
  <dc:language>en-US</dc:language>
  <cp:lastModifiedBy>bb</cp:lastModifiedBy>
  <dcterms:modified xsi:type="dcterms:W3CDTF">2006-11-14T06:54:05Z</dcterms:modified>
  <cp:revision>12</cp:revision>
  <dc:subject/>
  <dc:title>EPIDEMIOLOŠKI METOD RADA</dc:title>
</cp:coreProperties>
</file>