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929-D842-4035-BBAD-4A65C6E3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387-A15A-4340-9513-3A8D06A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B56-A01D-4759-B9D6-CDC8547B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882-FE3F-43A6-83B3-AED66E9A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2CAA3-E240-4B97-833F-67CE1ED4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30722-5D5F-47D7-854A-30A1302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D6DF-898D-4709-A31E-8DE7C05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E59FD-3A1D-4BA8-A11F-DDF8AA09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812EA-DA09-44F1-98A6-0E87602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D1AE-B3AD-4709-A484-3487F6B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20833-E4B3-4EF7-B7CA-38ED8AF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C1F-054E-4002-B3DE-0A5C37C5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F867-3347-4CC8-A46B-78C4391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0528A-044B-4562-A1A3-65B2D26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C54E-C298-45FB-9BE3-0EF8A78D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DE93-7988-4DE9-927D-2A3DEF9A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F1C0-3C27-4712-B74F-2FEC1920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FA1-1102-4752-9C87-C9A2D15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53B-7CF3-4874-863C-1C3F7E1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739-9FEE-43B3-A625-6C955F2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ABA-1B2C-4702-8EF1-BC692C1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4DF-C62D-45DC-9A6D-1D16064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D66-0196-4BCB-9244-BF6368D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BE9-0CA5-4F95-A987-8057F49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1DD9-31B4-49CA-A3EC-164EBDB42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021D-1A14-4AA2-8B89-319E872C49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Prevencija poremećaja zdravlja i unapređenje zdravl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dicinski fakultet Ni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arna prevencija obuhvata postupke koji se preduzimaju pre pojav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kundarna prevencija-mere koje se primenjuju radi što ranijeg otkrivanja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rcijarna prevencija–merama se snižava učestalost komplikacija i umir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Zdravstvene aktivnosti u okviru primarne prevenci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tvrđivanje individualnog rizika ili identifikacija nav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cena rizika treba da bude praćena praktičnim savetima i aktivno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bor odgovarajućeg načina za promenu navika, način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a detekcija asimptomatskih s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datne dijagnostičke i terapetske proced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Masovne zarazne i 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masovne nezarazne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Ciljevi preven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begavanje  ili maksimalno smanjenje izloženosti pojedinaca i zajednice poznatim uzrocim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difikacija procesa razvoja bolesti, otkrivanjem oblelih u ranom predkliničkom stadijum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Mere interven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dravstvena politika, na osnovu koje se donose odgovarajući propisi kojima se ograničavaju poznati faktori rizika (pušenje, zaštita na radu, životne namirnice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dravstveno vaspitanje usmereno na promenu štetnih i usvajanje zdravih navika i stilova živ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dentifikacija zdravstvenih rizika i aplikaci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ano otkrivanje i leče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vencija poremećaja zdravlja, bolesti, povreda i prevremene smr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vencija je opšti cilj medicine, kako nauke tako i stru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Profilak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 je specifična zaštita koja podrazume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štitu od određene bolesti (imunoprofilaksa, seroprofilaksa, hemi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vek se preduzima pre izlaganja riziku od bolesti, uvek pre pojave bolesti, pre pojave simp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Nivoi preven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običajena podel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kund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rcij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na: koncept primordijalne preven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Primordijalna preven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nosi se na napore da se u određenu sredinu uopšte ne unese neka štetna navika, običaj ili oblik ponašanja, ili ako već postoji da se potisk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koncept je proizašao iz epidemioloških saznanja o visokoj učestalosti kardiovaskularnih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delovima sveta gde se konzumira hrana bogata zasićenim mast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re primordijalne prevencije vodi sniženju inciden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Primarna zdravstvena zašti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o stanovništ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novništvo pod rizik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novništvo sa pretkliničkim stanjem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novništvo sa manifestnim znacim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8:51:52Z</dcterms:created>
  <dc:creator>Intel</dc:creator>
  <dc:description/>
  <dc:language>en-US</dc:language>
  <cp:lastModifiedBy>Intel</cp:lastModifiedBy>
  <dcterms:modified xsi:type="dcterms:W3CDTF">2010-01-12T10:24:39Z</dcterms:modified>
  <cp:revision>4</cp:revision>
  <dc:subject/>
  <dc:title>Prevencija poremećaja zdravlja i unapređenje zdravl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