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EA7-E99D-408D-8639-0BDE0146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738-F10F-432F-ACBD-9863DE46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4F6E-2CB1-4FAF-B5DB-5CA57218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4A00-35D1-47BE-9735-9D95F810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D7D6-C8B3-43DA-A3A1-59BBB1B5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E2E-6D54-4B19-9242-E47CE6F9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B13-5CF9-430D-A884-88CCEC0E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785-B3A4-49CD-8DCA-0A8C1B69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023-48E3-43E8-B6AA-A20F13FD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45D2-FDAD-44BC-8015-982C197A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D74B-9BEC-43E1-86A5-C2871C65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AA1F-8351-4A3A-AF70-A636D95F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0A7D-32BE-441E-B057-4BA1C6403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Vakcinoprofilaksa</a:t>
            </a:r>
            <a:br>
              <a:rPr sz="4400"/>
            </a:b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Seroprofila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f. dr BiljanaKoc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rofilaksa zaraznih bole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re profilakse: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opšt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za zaštitu stanovništva od zaraznih bolesti, predstavljaju prvenstveno sanitarno-higijenske mere, radi se o komunalnim merama, i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pecifičn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mere koje su usmerene na zaštitu stanovništva od pojedinih zaraznih bole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ma efektu: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radikaln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-mere trajnog karaktera, koje rešavaju problem zaraznih bolesti, i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palijativn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me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raničenog trajanja,traju  onoliko dugo kolik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filaksa i sprov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Mere specifične profilak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Vakcinoprofilaks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eroprofilaks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Hemioprofilaks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Profilaktična dezinfekcija, dezinsekcija i deratizacij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Otkrivanje i obeskličavanje zdravih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ilaca uzročnika zaraznih bolest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Zdravstveno vaspitanje stanovništ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Vakcinoprofila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stavlja najmoćniju meru u profilak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ovne imunizacije su najbolji put za sniženje morbiditeta, eliminaciju, pa čak i eradikaciju nekih zaraznih bole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našoj zemlji su mnoge vakcine obavezne po zakon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Vakcine obavezne po za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obavezna aktivna imunizacija lica određenog uzrast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obavezna imunizacija lica eksponiranih određenim zaraznim bolesti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ktivna imunizacija lica po kliničkim indikacija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aktivna imunizacija putnika 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đunarodnom saobraćaj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Seroprofila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stavlja primenu preparata krvi (seruma ili drugih frakcija), koji sadrži antitela stvorena u nekom drugom organizmu (čoveku ili životinj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ovaj način nastaje veštački pasivni imunit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aj postupak se koristi u slučajevima kada 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rebno stvoriti brzo zaštitu ugroženih lica ili kada nema drugih moguć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rekl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erumi mogu da bud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nimalni i human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Seroprofila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asivna zaštita nastupa brzo ali je kratkotraj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ologna antitela (animalnog porekla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ju kraći život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 postoj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asnost o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filaktičkih reakcij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serumska bolest, anafilaktički šok); zaštita traje 2-3 nedelje;anamneza i intrakutani test u prevenciji rea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omologi imunoglobulini ne daju alergijske reakcije, uneta antitela traju duže (4-6 nedelja) i u slučaju potrebe,može se ponoviti aplik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munoglobulini se dobijaju iz plazme ili seruma odraslih osoba, rekonvalescenata ili iz plac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ndardni (opšti) imunoglobulini (antitela) i specifični imunoglobuluni (tetanus, besnilo, virusni hepatiti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Seroprofila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m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ko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 zaštiti stanovništva od zaraznih bolesti obavez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 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ašti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ičnim imunoglobulinima u profilaksi tetanusa, besnila i hepatitisa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ed navedenih koriste se i u profilaksi virusnih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kcija (virusnog hepatitisa A, morbila, rubeole, varičele) kod nevakcinisanih teških bolesnika, rekonvalescenata, trudnica, u dečijim kolektiv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razitologija1n</cp:lastModifiedBy>
  <dcterms:modified xsi:type="dcterms:W3CDTF">2014-05-15T10:53:3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