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D4B-FFE2-4080-BF06-4293ED27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B61-E3CE-4742-9E88-C191B35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78F-638A-4CB9-8ED8-FE0AE80F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9C4-A684-409B-AB3B-F531F05B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1BA-5F82-42F6-BFD1-9A0320FF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EC3C-3AB3-4F66-A052-7B82D3C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1014-18A8-40FB-B6C5-1531E2C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F9B-57A5-40C4-943F-9036063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DB1-0DB8-4A55-B499-FDAB883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4B2C-731E-4C70-A1DF-9C7BD23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1B0B-43AB-4B02-9E7F-74D0347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487-03D1-46E5-98C8-22E182B2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2B5A-4202-49C3-AE54-CBD359E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9826-D1CC-4C0E-8B13-C3DD134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769E-C77E-477C-B27F-0036048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539-CD75-4F3A-915D-2E4B5AEB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E00-3D51-4603-9973-60BDBA70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B0B-8C5C-4FEE-BEAA-0250CF19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C78-1710-4E3F-B690-372D229C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001-CDBB-405D-8E6B-98DC4D0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71C-9DF1-4E74-8480-9D7D9AF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E78-9F43-42BB-83F9-75D441C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A61-9633-4755-ACE0-055E0D9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C5A-C8BA-4FC8-8FEE-63E5AB1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F2D8-93CE-4F61-B310-F87BA04AFAF2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686-E2AC-4D37-89BD-75C6614BAC5D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7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7.png"/><Relationship Id="rId22" Type="http://schemas.openxmlformats.org/officeDocument/2006/relationships/image" Target="../media/image13.png"/><Relationship Id="rId23" Type="http://schemas.openxmlformats.org/officeDocument/2006/relationships/image" Target="../media/image7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zvori podataka u epidemiološkim istraživanji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Prof. Dr Branislav Petrović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aci ambulantno-polikliničkih ustano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Registrovanje prvih i ponovljenih pregleda u ustanovama primarne zdravstvene zašti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Kvalitet zavisi od razvijenosti i korišćenja zdravstvene službe, prirode bolesti, uloženog napora zdravstvenih radnika da evidentiraju i obrade ovakve podatk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aci o hospitalizaci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Precizni podaci o pacijentu, dijagnozi, terapiji i ishodu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Nedostac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Nemoguće je sagledati incidenciju zbog nepoznavanja teritorije koju bolnica “pokriva”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Podaci su beznačajni za bolesti koje se uglavnom leče ambulantno i za lakše oblike bolest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stali izv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Zavodi za zdravstveno i penzijsko osiguranje (učestalost i trajanje bolovanja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Sistematski pregled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Anketiranj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Ciljana terenska ispitivanj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GREŠKE MERE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Prof dr Branislav Petrović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11705"/>
                </a:solidFill>
                <a:latin typeface="Tahoma"/>
              </a:rPr>
              <a:t>Slučajne greške</a:t>
            </a: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 – kada ispitivač slučajno beleži veće ili manje vrednosti od realnih, ali skoro podjednako ”u plusu i u minusu”. Ovakve greške nemaju veći uticaj na rezultat ispitivanja, jer se “plus i minus potiru” pa srednja vrednost ostaje nepromenjen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11705"/>
                </a:solidFill>
                <a:latin typeface="Tahoma"/>
              </a:rPr>
              <a:t>Sistematska greška</a:t>
            </a: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 kada odstupanja od realnih vrednosti idu samo, ili pretežno,  u jednom smeru. Ova vrsta greške značajno remeti tačnost rezultat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stras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ristrasnost (eng, </a:t>
            </a:r>
            <a:r>
              <a:rPr b="0" i="1" lang="sr-Latn-CS" sz="2000" spc="-1" strike="noStrike">
                <a:solidFill>
                  <a:srgbClr val="545472"/>
                </a:solidFill>
                <a:latin typeface="Tahoma"/>
              </a:rPr>
              <a:t>bias</a:t>
            </a: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), je svaki postupak koji vodi odstupanju rezulata, odnosno zaključka o istini. Nastaje u svakoj fazi istraživanja i razlikuje se preko 50 vrsta pristrasnosti, a najvažnije su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ristrasnost izbora – loše odabran uzorak, koji nije reprezentativan po broju, strukturi ili i jedno i drugo (ispitivanje kolektivnog imuniteta opšte populacije prema gripu, a kao uzoprak su odabrani zaposleni u nekoliko preduzeć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Informativna pristrasnost – kada se iz različitih razloga pogrešno oboleli svrstaju u “kontrolnu”grupu, “izloženi” u “neizložene” i obrnu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545472"/>
                </a:solidFill>
                <a:latin typeface="Tahoma"/>
              </a:rPr>
              <a:t>Uticaj homoseksualnog ponašanja na pojavu HIVa: HIV pozitivni homoseksualci se deklarišu kao heteroseksualci, a u kontrolnoj grupi retko koji homoseksualac navodi da to jeste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druženost</a:t>
            </a:r>
            <a:br>
              <a:rPr sz="4400"/>
            </a:b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(confound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Kada je odnos uzroka i posledice  “zamagljen” trećom promenljivom koja je u vezi i sa uzrokom i sa posledico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11705"/>
                </a:solidFill>
                <a:latin typeface="Tahoma"/>
              </a:rPr>
              <a:t>Začinjena hrana                   Gojazno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11705"/>
                </a:solidFill>
                <a:latin typeface="Tahoma"/>
              </a:rPr>
              <a:t>Obilna ishran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35268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3581280"/>
            <a:ext cx="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0400" y="3581280"/>
            <a:ext cx="1752480" cy="6098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3581280"/>
            <a:ext cx="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581280"/>
            <a:ext cx="320040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11705"/>
                </a:solidFill>
                <a:latin typeface="Times New Roman"/>
              </a:rPr>
              <a:t>Začini da 35.7%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11705"/>
                </a:solidFill>
                <a:latin typeface="Times New Roman"/>
              </a:rPr>
              <a:t>Začini ne 16.7%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11705"/>
                </a:solidFill>
                <a:latin typeface="Times New Roman"/>
              </a:rPr>
              <a:t>Obilna ishrana ne, začini ne 10%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11705"/>
                </a:solidFill>
                <a:latin typeface="Times New Roman"/>
              </a:rPr>
              <a:t>Obilna ishrana ne, začini da 10%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11705"/>
                </a:solidFill>
                <a:latin typeface="Times New Roman"/>
              </a:rPr>
              <a:t>Obilna ishrana da, začini ne 50%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11705"/>
                </a:solidFill>
                <a:latin typeface="Times New Roman"/>
              </a:rPr>
              <a:t>Obilna ishrana da, začini da 50%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11705"/>
                </a:solidFill>
                <a:latin typeface="Times New Roman"/>
              </a:rPr>
              <a:t>Obilna ishrana da 50%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11705"/>
                </a:solidFill>
                <a:latin typeface="Times New Roman"/>
              </a:rPr>
              <a:t>Obilna ishrana ne 10%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572000"/>
            <a:ext cx="34290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Univarijantna: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Obilna ishrana RR=9.0 p=0.000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Začini RR=2.77 p=0.007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MULTIVARIJANTNA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OBILNA ISHRANA  RR=9.00 p=0.00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11705"/>
                </a:solidFill>
                <a:latin typeface="Times New Roman"/>
              </a:rPr>
              <a:t>ZAČINI    RR=1.00  p=1.00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300"/>
              </a:spcBef>
              <a:buSzPct val="14420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Gojazni      negojazni                           Gojazni       negojazni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3300"/>
                </a:solidFill>
                <a:latin typeface="Tahoma"/>
              </a:rPr>
              <a:t>Obilna ishrana</a:t>
            </a: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         50               50                  </a:t>
            </a:r>
            <a:r>
              <a:rPr b="0" lang="sr-Latn-CS" sz="1200" spc="-1" strike="noStrike">
                <a:solidFill>
                  <a:srgbClr val="ff3300"/>
                </a:solidFill>
                <a:latin typeface="Tahoma"/>
              </a:rPr>
              <a:t> začini </a:t>
            </a: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          50             9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Normalna ishrana      10             90                   bez začina     10             5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300"/>
              </a:spcBef>
              <a:buSzPct val="14420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RR= (50/10)/ (50/90) = </a:t>
            </a:r>
            <a:r>
              <a:rPr b="0" lang="sr-Latn-CS" sz="1200" spc="-1" strike="noStrike">
                <a:solidFill>
                  <a:srgbClr val="ff3300"/>
                </a:solidFill>
                <a:latin typeface="Tahoma"/>
              </a:rPr>
              <a:t>9.0</a:t>
            </a:r>
            <a:r>
              <a:rPr b="0" lang="sr-Latn-CS" sz="1200" spc="-1" strike="noStrike">
                <a:solidFill>
                  <a:srgbClr val="545472"/>
                </a:solidFill>
                <a:latin typeface="Tahoma"/>
              </a:rPr>
              <a:t>                                   RR = (50/10)/ (90/50) = </a:t>
            </a:r>
            <a:r>
              <a:rPr b="0" lang="sr-Latn-CS" sz="1200" spc="-1" strike="noStrike">
                <a:solidFill>
                  <a:srgbClr val="ff3300"/>
                </a:solidFill>
                <a:latin typeface="Tahoma"/>
              </a:rPr>
              <a:t>2,8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224"/>
              </a:spcBef>
              <a:buSzPct val="15992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                                                   </a:t>
            </a: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Gojazni        Negojazni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Začini + obilna ishrana                           45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Začini + normalna ishrana                       5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RR= (45/5)/ (45/45) = 9,0                                            UTICAJ OBILNE ISHRANE SA ZAČINIMA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Bez začina + obilna ishrana                     5                 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Bez začina + normalna ishrana                5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RR = (5/5)/ (5/45) = 9.0                                              UTICAJ OBILNE ISHRANE BEZ ZAČINA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Začini+ obilna ishrana                            45 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Bez začina + obilna ishrana                      5                  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66ff33"/>
                </a:solidFill>
                <a:latin typeface="Tahoma"/>
              </a:rPr>
              <a:t>RR = (45/5)/(45/5)=1                                                     UTICAJ</a:t>
            </a:r>
            <a:r>
              <a:rPr b="0" lang="sr-Latn-CS" sz="900" spc="-1" strike="noStrike">
                <a:solidFill>
                  <a:srgbClr val="66ff33"/>
                </a:solidFill>
                <a:latin typeface="Tahoma"/>
              </a:rPr>
              <a:t> ZAČINA U OBILNOJ ISHRANI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Začini +OBILNA  ishrana                       45                  45                            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BEZ Začini+normalna ishrana                 5   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RR = (45/5)/(4545) = 9        UTICAJ ZAČINJENE OBILNE ISHRANE U ODNOSU NA NEZAČINJENU NORMALNU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Bez začina  + obilna ishrana                 5                      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Začini+         normalna ishrana           5     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3300"/>
                </a:solidFill>
                <a:latin typeface="Tahoma"/>
              </a:rPr>
              <a:t>RR = (5/5)/(5/45) = 9.0    UTICAJ NEZAČINJENE OBILNE ISHRANE U ODNOSU NA ZAČINJENU NORMALNU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začina + normalna ishrana                5       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2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Bez začina + normalna ishrana         5                         45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00000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66ff33"/>
                </a:solidFill>
                <a:latin typeface="Tahoma"/>
              </a:rPr>
              <a:t>RR= (5/5)/845/45) = 1      UTICAJ ZAČINA U NORMALNOJ ISHRANI</a:t>
            </a: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SzPct val="191824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545472"/>
                </a:solidFill>
                <a:latin typeface="Tahoma"/>
              </a:rPr>
              <a:t>                  </a:t>
            </a: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aci o populaci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1. Popi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Pouzdani podaci o broju stanovnika na odredjenom području prema polu, uzrastu, prebivalištu i drugim karakteristikama obuhaćenih popisom, alu u odredjenom period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Ukoliko je izmedju dva popisa velika razlika o broju stanovnika na tom području vrši se procena broja stanovnika za posmatrane godin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na broja stanovn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Na broj stanovnika utiču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Natalietet, mortalitet i migracij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Migracija zanemarljiva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Br. Stanovnika 1991 (po popisu) + broj rodjenih tokom 1992 – broj umrlih 1992 = broj stanovnika 1992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opis 1991: 1000 stanovni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opis 2001: 900 stanovnika – smanjenje od 10%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rocena za 1992: 1000 – 10% od 1000 =990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rocena za 1993: 990-10% od 990 = 990-9.9 = 980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Procena za 1994: 980-10% od 980 = 980-9.8 = 970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rugi izvori podataka o populaci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Podaci mesnih zajednica o svojoj populacij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Birački spiskovi (za populaciju stariju od 18 godina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Podaci o broju učenika u školi, radnika u preduzeću...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Vlastiti “popis” ispitivane populacij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aci o umiranju i obolevanj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Izveštaji o uzroku smr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daci matične služb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rijave zaraznih i nezaraznih boles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Registr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daci ambulantno-polikliničkih ustanov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daci o hospitalizacij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Ostali izvor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zveštaji o uzroku smr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Validan podatak o broju umrlih, njihovom polu i uzrast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Dostupnost originalnih izveštaja je veoma teš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Obradjeni podaci, u godišnjacima, često ne odgovaraju našim potrebam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Detaljniji podaci dostupni u Zavodu za statistiku uz nadoknad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Kvalitet podataka o uzroku smrti zavisi od znanja i umešnosti lekara koji postavlja dijagnozu uzroka smr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Kod bolesti sa niskim letalitetom, a visokom incidencijom i prevalencijom, ova vrsta podataka je praktično bez koristi (npr. Kijavic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aci matične službe</a:t>
            </a:r>
            <a:br>
              <a:rPr sz="4400"/>
            </a:b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(knjige rodjenih i umrlih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Na lokalnom nivou podaci su lako dostupn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Služe za procenu broja stanovnika, izračunavanje mortaliteta, nataliteta, prirodnog priraštaja i s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Nedostaci: U matičnim knjigama evidentira se lice “prema mestu dogadjaja”, a ne prema prebivalištu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Rodjene i umrle osobe van svoga prebivališta ne evidentiraju se u svom prebivalištu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jave bole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Kod nas se obavezno prijavljuje 70 zaraznih bolesti i 11 nezarazni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545472"/>
                </a:solidFill>
                <a:latin typeface="Tahoma"/>
              </a:rPr>
              <a:t>Kvalitet podataka u prijavi, uglavnom dob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Nedostac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Ne prijavljuju se sve obolele osob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Postojanje duplikata prijav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Ne prijavljuju se sve bolest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egist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pulacioni registar malignih boles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pulacioni registar infarkta miokar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545472"/>
                </a:solidFill>
                <a:latin typeface="Tahoma"/>
              </a:rPr>
              <a:t>Populacioni registar dijabete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45472"/>
                </a:solidFill>
                <a:latin typeface="Tahoma"/>
              </a:rPr>
              <a:t>Bolnički registr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Za raznovrsne bolesti; ne obuhvataju sve obolele, već samo one koji su se lečili u toj bolnic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45472"/>
                </a:solidFill>
                <a:latin typeface="Tahoma"/>
              </a:rPr>
              <a:t>Registri kliconoša: trbušni tifus, paratifus, salmoneloze, bacilarna dizenterija, Sida, hepatitis B i C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5:35:40Z</dcterms:created>
  <dc:creator>IZJZ</dc:creator>
  <dc:description/>
  <dc:language>en-US</dc:language>
  <cp:lastModifiedBy>IZJZ</cp:lastModifiedBy>
  <dcterms:modified xsi:type="dcterms:W3CDTF">2009-07-22T08:03:09Z</dcterms:modified>
  <cp:revision>3</cp:revision>
  <dc:subject/>
  <dc:title>Izvori podataka u epidemiološkim istraživanjima</dc:title>
</cp:coreProperties>
</file>