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F5B8-E88B-4211-9883-718735295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5119-11DE-459B-85F1-3B790A853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CAA6-8608-4B55-96CB-10057E35B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2223-F3C7-4103-93EC-7F8DC09DF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4397-3894-45F3-A315-E763015DA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59E9-CBF6-4443-816C-9CFDE3725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1582-B33E-44E9-A228-C7326AB13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1299-F968-44C7-8D5E-A52782504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BBE0-627F-4096-85AD-18387A1D3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A4E5-8C6E-4E9A-A2B0-C730B4B5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B2CC-646E-4A43-9D2B-E52E2BE0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C0E4-4A94-4168-8B3E-3A800040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CF7A6-F5C2-47A5-BB04-CD1A5FCAE8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Epidemiološki upitni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of. dr Biljana Koci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b) Alternativne tvrdnje podrazumevaju niz odgovora od kojih je samo jedan tač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im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o je predložio upotrebu kondoma pri poslednjem seksualnom odnosu sa vašim regularnim partnerom (suprugom ili osobom sa kojom živite u nevenčanom braku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ja sam predložila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oj partner je predložio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dluka je bila zajednička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e znam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) Merne skale rangiraju odgovore prema intenzite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im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 toku poslednjih mesec dana, koliko često ste intravenski koristili drog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samo jednom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2-3 put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jednom nedeljno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2-3 puta nedeljno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4-6 puta nedeljno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jednom dnevno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2-3 puta dnevno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4 ili više puta na da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Grafičke skale su podvrsta mernih skala. Ispitanik grafički prikazuje svoje iskustvo ili procen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jjednostavnija grafička skala predstavljena je linijo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im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značite vertikalnom crtom na liniji intenzitet bola koji oseć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ol odsuta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_______________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eizdrživ b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204120"/>
            <a:ext cx="7848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Izbor pitanj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za epidemiološki upitnik zavisi od predmeta istraživanj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adržaj se određuje u odnosu na postavljeni cilj istraživanja. Međutim, svaki epidemiološki upitnik obuhvata neophodna pitanja grupisana na isti način, u nekoliko prirodnih celi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pšti podaci: ime i prezime, adresa stanovanja, matični broj it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emografski podaci: pol, uzrast, zanimanje, bračno stanje, obrazovanje it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daci o obolevanju: datum obolevanja, simptomi, znaci, hospitalizacija, kretanje tokom perioda zaraznosti, kontakti, posete it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daci o izloženosti: u kući, na radnom mestu, putovanju, odmoru, tokom poseta itd.; za zarazne bolesti,  u zavisnosti od pretpostavljenih izvora i puteva prenošenja, pitanja su vezana za kontakte sa osobama sa sličnom kliničkom slikom, dolazak u dodir sa životinjama, skupove, boravak u prirodi, izloženost vektorima, ishranu i vodosnabdevanje, uklanjanje otpadnih materija, navike it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Lična i porodična anamneza (uglavnom se odnosi na zarazne bolesti): ranije preležane bolesti, vakcinacije, sero- i hemioprofilaksa, imunosupresivna terapija, postojanje obolelih i/ili kliconoša među ostalim članovima porodice it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stali podaci: dodatne relevantne informacije pribavljene u okruženju ispitanika, u široj porodici, susedstvu, naselju it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Strukturisanost upitn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4582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 odnosu na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stepen strukturisanosti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intervjui se dele na nestrukturisane, delimično ili polustrkturisane i potpuno strukturisa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estrukturisan intervju ne sadrži unapred formulisana pitanja, i ima veliku primenu u kliničkoj medicini (''uzimanje anamneze''). Sadržaj i redosled pitanja zavise od odgovora koji se dobijaju od ispitanika tokom intervju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lustrukturisan (delimično strukturisan) intervju, sem formulisanih pitanja, ima i pitanja koja nisu unapred određe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estrukturisan i delimično strukturisan intervju dopuštaju interakciju sa ispitanikom, pružaju mogućnost preformulacije i pojašnjavanja pitanja, davanje dopunskih objašnjenja i dobijanje potpunijih odgovo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trukturisan intervju sadrži fiksni broj ranije utvrđenih pitanj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To je najčešće primenjivan intervju u istraživanju epidemij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nterakcija sa ispitanikom je kontrolisana,  čime se smanjuje mogućnost grešk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ednost strukturisanog intervjua predstavlja  jednostavnost obrade odgovora, što je veoma važno pri istraživanju epidemi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Načini primene upitnik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pitnik popunjava ili ispitivač (intervju) ili ispitanik (samostalno popunjavani upitnik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Intervju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je način prikupljanja podataka ličnim kontaktom sa ispitanicima, kojom prilikom ispitivač (anketar) usmeno postavlja pitanja i beleži odgovo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o pravilu se odvija u neposrednom kontaktu, licem u li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Telefonski intervju se retko koristi u našoj sredini, a ukoliko je to slučaj, njime se dobijaju dodatne, dopunske informacije koje su promakle pri prethodnom obavljenom intervjuisanj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Samostalno popunjavan upitnik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odrazumeva podelu upitnika ispitanicima koje oni sami popunjavaju u prisustvu anketara ili samostalno (ako se upitnik dostavlja poštom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 našoj sredini se retko koristi za istraživanje epidemije iz više razloga: nizak nivo pismenosti, neophodnost za  dodatnim tumačenjima pojedinih pitanja, mogućnost izostavljanja odgovora na ključna pitanj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1760" y="242280"/>
            <a:ext cx="7924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059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koliko primena upitnika nije hitna, konstruisani upitnik se proverava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predtestiranjem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alom broju ispitanik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i tome se uočavaju nedostaci, nejasnoće, razumljivost pojedinih pitanja, njihova prihvatljivost, vreme potrebno za popunjavanj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Za razliku od predtestiranja, koje je ograničeno samo na upitnik,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pilotska studija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je širi poj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na prethodi velikim istraživanjima i, pored testiranja upitnika, predstavlja proveru celokupne logistike budućeg istraživanja. To je studija u malom i sprovodi se u ambijentu i na način na koji će biti organizovano predstojeće istraživanj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pitnikom se naziva unapred formulisan skup pitanja koji se koristi za prikupljanje podatak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Epidemiološki upitnik predstavlja oruđe kojim se od ispitanika dobijaju podaci od značaja za ispitivanje određenog zdravstvenog problema ili stanj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To mogu biti i pozitivni aspekti zdravlja, ali su bolesti i povrede još uvek češći predmet izučavanja u epidemiologij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Epidemiološki upitnik se uspešno koristi kako pri istraživanju zaraznih i  nezaraznih bolesti poznatog uzroka, tako i oboljenja nedovoljno poznate ili nepoznate etiologij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snovni cilj njegove primene u ispitivanju zaraznih bolesti je otkrivanje izvora zaraze i puteva prenošenja uzročnika, kako bi se što pre preduzele odgovarajuće protivepidemijske me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Kreiranje upitn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ve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vrste upitnik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: klasičan i elektrons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lasičan upitnik štampan je ili pisan na papiru, a elektronski se nalazi na ekranu kompjuter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lektronski upitnik je lakše kreirati jer odgovarajući program (npr. 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EpiInfo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) pomaže u oblikovanju ponuđenih odgovor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pitnik idealnog obima sadrži samo neophodan broj pitanj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itanja sadržana u upitniku treba da budu jednostavna, jasna i razumljiv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i formulisanju pitanja valja izbegavati dvosmislenost ili sugerisanje odgovora, kao i suviše stručnu terminologiju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onstruisani upitnik može da sadrži dve osnovne vrste pitanja: otvorena i zatvore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059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Otvoreni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ip pitanja nema ponuđene odgovore, već ispitanik zapisuje svoj odgovor ili ga ispitivač u celini belež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vaj tip pitanja se koristi pri ispitivanju nedovoljno poznate pojave, kada postoje razlike u pojedinačnim iskustvima pa su nam potrebni što detaljniji odgovori, kada se odgovara na teška i delikatna pitanja, kada želimo saznati kako ispitanici percipiraju neku pojavu, i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ednosti otvorenih pitanja su detaljniji odgovori i lična zapažan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edostaci ovog tipa pitanja su što, s jedne strane, zahtevaju više vremena od ispitanika, i s druge strane, ispitivaču je teže da grupiše raznorodne odgovore i pripremi ih za statističku obradu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imer: Šta ste sve jeli tokom jučerašnjeg da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Zatvoren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tip pitanja podrazumeva postojanje određenog broja ponuđenih odgovora u okviru kojih ispitanik treba da se opredel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azlikuju se: 1) dihotomna, i  2) multipla pitanja (sa višestrukim izborom), koja se dalje dele na: a) liste provere ili kontrolne liste, b) alternativne tvrdnje, i c) merne ska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1) Dihotomna pitanja imaju ponuđena samo dva odgovora, dva modaliteta  (da/ne ili tačno/netačno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dlikuje ih jednostavna i laka obrad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imer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a li ste intravenski koristili drogu u poslednjih 12 meseci?     D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N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2) Multipla pitanja (pitanja sa višestrukim izborom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) Lista provere ili kontrolna lista sadrži pitanje i niz ponuđenih odgovo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imer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a li ste u toku svadbenog veselja jel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usku salatu sa majonezom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lanu tortu sa majonezom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ladoled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tortu ''Dinastija''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razitologija1n</cp:lastModifiedBy>
  <dcterms:modified xsi:type="dcterms:W3CDTF">2014-05-15T09:01:49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