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381-0AA2-4AA3-BC2A-6102E47B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F0E-251F-4542-AE30-B71EE104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FA6-1C5B-4834-9516-D8B1FA86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29B-40CA-4F80-8362-72FE671F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57D0-0CDF-4424-B7EF-EC73111D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4EEE-B9CE-4AF5-8F74-BCD6F500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1CEA-9DEE-4049-9B54-88D370F0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146D-513E-42F9-B1DD-BBDB5C90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5711-AB4E-45C0-B0F8-16B01E6B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4BC3-9E48-4088-A886-E593A1A4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089C-E485-43C2-967A-750F64AB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722-60F7-4F34-B896-355D67CC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2FC0-3B9A-4561-89EF-433C8983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B6CC-497C-4429-833C-F40B1262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154D-6E30-407D-9B4F-DE8B1282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D8AD-49C6-45DF-BDDE-A3145F6B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0B23-0416-4117-8F45-2FB53EA6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E40-0F80-4BF3-AAC7-7226107E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7ED-ADAC-4FA4-AD8E-46D180D1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124-046A-4AFA-B78C-2143DE45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9A9-9302-4B78-875B-824C53F2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B69-F91D-4061-94C7-AFE52FFE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4FD-A1AE-4FB6-AFB4-B242391A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252-7332-44E8-BC56-4EF21A2F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139F-5CCF-4C57-BBFF-550090259E70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4BE6-B6C0-4ACE-AFC7-85E0AD303684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899640" y="429264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rof. dr </a:t>
            </a:r>
            <a:r>
              <a:rPr b="0" i="1" lang="sr-Latn-CS" sz="3200" spc="-1" strike="noStrike">
                <a:solidFill>
                  <a:srgbClr val="ffff00"/>
                </a:solidFill>
                <a:latin typeface="Times New Roman"/>
              </a:rPr>
              <a:t>Zoran Veličk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01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ff00"/>
                </a:solidFill>
                <a:latin typeface="Tahoma"/>
                <a:ea typeface="Tahoma"/>
              </a:rPr>
              <a:t>EPIDEMIOLOŠKI MODELI BOLESTI</a:t>
            </a:r>
            <a:br>
              <a:rPr sz="3200"/>
            </a:br>
            <a:br>
              <a:rPr sz="1000"/>
            </a:br>
            <a:r>
              <a:rPr b="1" lang="sr-Latn-RS" sz="3200" spc="-1" strike="noStrike">
                <a:solidFill>
                  <a:srgbClr val="ffff00"/>
                </a:solidFill>
                <a:latin typeface="Tahoma"/>
                <a:ea typeface="Tahoma"/>
              </a:rPr>
              <a:t>PRIRODNI TOK I SPEKTAR BOLESTI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24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Model ekološkog trijas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 (model terazija)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          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model klackalice)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Agens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Domać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re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1619280" y="4508640"/>
            <a:ext cx="619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2556000" y="393372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659640" y="393372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4500720" y="465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Model toč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Diagram 5"/>
          <p:cNvGrpSpPr/>
          <p:nvPr/>
        </p:nvGrpSpPr>
        <p:grpSpPr>
          <a:xfrm>
            <a:off x="488880" y="1857240"/>
            <a:ext cx="6151680" cy="2829240"/>
            <a:chOff x="488880" y="1857240"/>
            <a:chExt cx="6151680" cy="2829240"/>
          </a:xfrm>
        </p:grpSpPr>
        <p:sp>
          <p:nvSpPr>
            <p:cNvPr id="222" name="_s165893"/>
            <p:cNvSpPr/>
            <p:nvPr/>
          </p:nvSpPr>
          <p:spPr>
            <a:xfrm>
              <a:off x="3297240" y="3143160"/>
              <a:ext cx="1542960" cy="1543320"/>
            </a:xfrm>
            <a:prstGeom prst="donut">
              <a:avLst>
                <a:gd name="adj" fmla="val 25000"/>
              </a:avLst>
            </a:prstGeom>
            <a:solidFill>
              <a:srgbClr val="3366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165894"/>
            <p:cNvSpPr/>
            <p:nvPr/>
          </p:nvSpPr>
          <p:spPr>
            <a:xfrm>
              <a:off x="6022800" y="2543040"/>
              <a:ext cx="617760" cy="685800"/>
            </a:xfr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Times New Roman"/>
                </a:rPr>
                <a:t>Biološka sredin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65895"/>
            <p:cNvSpPr/>
            <p:nvPr/>
          </p:nvSpPr>
          <p:spPr>
            <a:xfrm>
              <a:off x="3683160" y="3529080"/>
              <a:ext cx="771480" cy="7714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65896"/>
            <p:cNvSpPr/>
            <p:nvPr/>
          </p:nvSpPr>
          <p:spPr>
            <a:xfrm>
              <a:off x="6022800" y="1857240"/>
              <a:ext cx="617760" cy="685800"/>
            </a:xfr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Times New Roman"/>
                </a:rPr>
                <a:t>Čovek (genetski potencija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29"/>
            <p:cNvSpPr/>
            <p:nvPr/>
          </p:nvSpPr>
          <p:spPr>
            <a:xfrm>
              <a:off x="488880" y="2997360"/>
              <a:ext cx="2158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Times New Roman"/>
                </a:rPr>
                <a:t>Fizičko-himijska sredin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 flipV="1">
              <a:off x="3419280" y="3500280"/>
              <a:ext cx="29844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27"/>
            <p:cNvSpPr/>
            <p:nvPr/>
          </p:nvSpPr>
          <p:spPr>
            <a:xfrm flipV="1">
              <a:off x="4417920" y="3500280"/>
              <a:ext cx="28908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 flipV="1">
              <a:off x="4067280" y="4306680"/>
              <a:ext cx="144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Line 18"/>
          <p:cNvSpPr/>
          <p:nvPr/>
        </p:nvSpPr>
        <p:spPr>
          <a:xfrm flipH="1">
            <a:off x="1835280" y="4149720"/>
            <a:ext cx="1728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28"/>
          <p:cNvSpPr/>
          <p:nvPr/>
        </p:nvSpPr>
        <p:spPr>
          <a:xfrm flipH="1">
            <a:off x="2627280" y="3357720"/>
            <a:ext cx="1440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0"/>
          <p:cNvSpPr/>
          <p:nvPr/>
        </p:nvSpPr>
        <p:spPr>
          <a:xfrm>
            <a:off x="539640" y="378936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Socijalna sred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Model lan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4427640" y="1987560"/>
            <a:ext cx="433440" cy="43164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2987640" y="313992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9"/>
          <p:cNvSpPr/>
          <p:nvPr/>
        </p:nvSpPr>
        <p:spPr>
          <a:xfrm>
            <a:off x="3635280" y="494028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5292720" y="494028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5940360" y="3211560"/>
            <a:ext cx="433440" cy="43164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211640" y="2563920"/>
            <a:ext cx="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3"/>
          <p:cNvSpPr/>
          <p:nvPr/>
        </p:nvSpPr>
        <p:spPr>
          <a:xfrm flipH="1">
            <a:off x="3347640" y="2301840"/>
            <a:ext cx="107964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3254400" y="3584520"/>
            <a:ext cx="50472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5"/>
          <p:cNvSpPr/>
          <p:nvPr/>
        </p:nvSpPr>
        <p:spPr>
          <a:xfrm>
            <a:off x="4067280" y="5156280"/>
            <a:ext cx="122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6"/>
          <p:cNvSpPr/>
          <p:nvPr/>
        </p:nvSpPr>
        <p:spPr>
          <a:xfrm flipV="1">
            <a:off x="5592600" y="3642840"/>
            <a:ext cx="505080" cy="1297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 flipH="1" flipV="1">
            <a:off x="4859280" y="2276640"/>
            <a:ext cx="115272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2797200" y="13572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Rezervo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6389640" y="3122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ut šire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5580000" y="4869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5869080" y="500220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lazna i izlazna v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684360" y="5002200"/>
            <a:ext cx="33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ličina i virulencija k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565200" y="2874960"/>
            <a:ext cx="23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ispozicija i imunit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20952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Mreža uzročnosti ishemijske bolesti sr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4211640" y="2637000"/>
            <a:ext cx="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5580000" y="494172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4067280" y="3716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7" name="AutoShape 21"/>
          <p:cNvCxnSpPr>
            <a:stCxn id="253" idx="0"/>
            <a:endCxn id="253" idx="0"/>
          </p:cNvCxnSpPr>
          <p:nvPr/>
        </p:nvCxnSpPr>
        <p:spPr>
          <a:xfrm>
            <a:off x="4725720" y="1341000"/>
            <a:ext cx="10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58" name="Line 22"/>
          <p:cNvSpPr/>
          <p:nvPr/>
        </p:nvSpPr>
        <p:spPr>
          <a:xfrm flipH="1">
            <a:off x="3919680" y="3208320"/>
            <a:ext cx="28728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3"/>
          <p:cNvSpPr/>
          <p:nvPr/>
        </p:nvSpPr>
        <p:spPr>
          <a:xfrm>
            <a:off x="3919680" y="363996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24"/>
          <p:cNvSpPr/>
          <p:nvPr/>
        </p:nvSpPr>
        <p:spPr>
          <a:xfrm>
            <a:off x="3924360" y="4076640"/>
            <a:ext cx="7128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3995640" y="4365720"/>
            <a:ext cx="36036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26"/>
          <p:cNvSpPr/>
          <p:nvPr/>
        </p:nvSpPr>
        <p:spPr>
          <a:xfrm>
            <a:off x="4356000" y="458136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27"/>
          <p:cNvSpPr/>
          <p:nvPr/>
        </p:nvSpPr>
        <p:spPr>
          <a:xfrm flipV="1">
            <a:off x="4716360" y="4436640"/>
            <a:ext cx="360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28"/>
          <p:cNvSpPr/>
          <p:nvPr/>
        </p:nvSpPr>
        <p:spPr>
          <a:xfrm flipV="1">
            <a:off x="5076720" y="3933720"/>
            <a:ext cx="14292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0"/>
          <p:cNvSpPr/>
          <p:nvPr/>
        </p:nvSpPr>
        <p:spPr>
          <a:xfrm flipH="1" flipV="1">
            <a:off x="5148360" y="3357720"/>
            <a:ext cx="71280" cy="57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34"/>
          <p:cNvSpPr/>
          <p:nvPr/>
        </p:nvSpPr>
        <p:spPr>
          <a:xfrm flipV="1">
            <a:off x="4211640" y="3141720"/>
            <a:ext cx="57636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35"/>
          <p:cNvSpPr/>
          <p:nvPr/>
        </p:nvSpPr>
        <p:spPr>
          <a:xfrm flipH="1" flipV="1">
            <a:off x="4787640" y="3141720"/>
            <a:ext cx="36036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36"/>
          <p:cNvSpPr/>
          <p:nvPr/>
        </p:nvSpPr>
        <p:spPr>
          <a:xfrm flipV="1">
            <a:off x="4788000" y="1628280"/>
            <a:ext cx="792000" cy="151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7"/>
          <p:cNvSpPr/>
          <p:nvPr/>
        </p:nvSpPr>
        <p:spPr>
          <a:xfrm flipV="1">
            <a:off x="5148360" y="2205000"/>
            <a:ext cx="1800000" cy="115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38"/>
          <p:cNvSpPr/>
          <p:nvPr/>
        </p:nvSpPr>
        <p:spPr>
          <a:xfrm flipV="1">
            <a:off x="5195880" y="3279240"/>
            <a:ext cx="223200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5219640" y="3933720"/>
            <a:ext cx="252108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5067360" y="4437000"/>
            <a:ext cx="2016000" cy="1440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41"/>
          <p:cNvSpPr/>
          <p:nvPr/>
        </p:nvSpPr>
        <p:spPr>
          <a:xfrm>
            <a:off x="4716360" y="4581360"/>
            <a:ext cx="216000" cy="194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42"/>
          <p:cNvSpPr/>
          <p:nvPr/>
        </p:nvSpPr>
        <p:spPr>
          <a:xfrm flipH="1">
            <a:off x="3564000" y="4581360"/>
            <a:ext cx="792000" cy="172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43"/>
          <p:cNvSpPr/>
          <p:nvPr/>
        </p:nvSpPr>
        <p:spPr>
          <a:xfrm flipH="1">
            <a:off x="2050920" y="4365720"/>
            <a:ext cx="1944720" cy="1150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44"/>
          <p:cNvSpPr/>
          <p:nvPr/>
        </p:nvSpPr>
        <p:spPr>
          <a:xfrm flipH="1">
            <a:off x="1547640" y="4071960"/>
            <a:ext cx="237672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45"/>
          <p:cNvSpPr/>
          <p:nvPr/>
        </p:nvSpPr>
        <p:spPr>
          <a:xfrm flipH="1" flipV="1">
            <a:off x="1547640" y="2924280"/>
            <a:ext cx="237672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46"/>
          <p:cNvSpPr/>
          <p:nvPr/>
        </p:nvSpPr>
        <p:spPr>
          <a:xfrm flipH="1" flipV="1">
            <a:off x="3058920" y="1268280"/>
            <a:ext cx="115236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7"/>
          <p:cNvSpPr/>
          <p:nvPr/>
        </p:nvSpPr>
        <p:spPr>
          <a:xfrm flipV="1">
            <a:off x="4500720" y="1306440"/>
            <a:ext cx="0" cy="1873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48"/>
          <p:cNvSpPr/>
          <p:nvPr/>
        </p:nvSpPr>
        <p:spPr>
          <a:xfrm flipH="1" flipV="1">
            <a:off x="1945800" y="1877760"/>
            <a:ext cx="2087640" cy="15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50"/>
          <p:cNvSpPr/>
          <p:nvPr/>
        </p:nvSpPr>
        <p:spPr>
          <a:xfrm flipV="1">
            <a:off x="4086360" y="2852280"/>
            <a:ext cx="414360" cy="135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51"/>
          <p:cNvSpPr/>
          <p:nvPr/>
        </p:nvSpPr>
        <p:spPr>
          <a:xfrm>
            <a:off x="4500720" y="2852640"/>
            <a:ext cx="43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52"/>
          <p:cNvSpPr/>
          <p:nvPr/>
        </p:nvSpPr>
        <p:spPr>
          <a:xfrm>
            <a:off x="4937040" y="2847960"/>
            <a:ext cx="498600" cy="317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53"/>
          <p:cNvSpPr/>
          <p:nvPr/>
        </p:nvSpPr>
        <p:spPr>
          <a:xfrm>
            <a:off x="5435640" y="3174840"/>
            <a:ext cx="7308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54"/>
          <p:cNvSpPr/>
          <p:nvPr/>
        </p:nvSpPr>
        <p:spPr>
          <a:xfrm>
            <a:off x="5508720" y="3602160"/>
            <a:ext cx="0" cy="403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55"/>
          <p:cNvSpPr/>
          <p:nvPr/>
        </p:nvSpPr>
        <p:spPr>
          <a:xfrm flipH="1">
            <a:off x="5345280" y="4005360"/>
            <a:ext cx="163440" cy="62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56"/>
          <p:cNvSpPr/>
          <p:nvPr/>
        </p:nvSpPr>
        <p:spPr>
          <a:xfrm flipH="1">
            <a:off x="4764240" y="4638600"/>
            <a:ext cx="57600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57"/>
          <p:cNvSpPr/>
          <p:nvPr/>
        </p:nvSpPr>
        <p:spPr>
          <a:xfrm flipH="1">
            <a:off x="4197240" y="4932360"/>
            <a:ext cx="547920" cy="9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58"/>
          <p:cNvSpPr/>
          <p:nvPr/>
        </p:nvSpPr>
        <p:spPr>
          <a:xfrm flipH="1" flipV="1">
            <a:off x="3634920" y="4581000"/>
            <a:ext cx="55260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59"/>
          <p:cNvSpPr/>
          <p:nvPr/>
        </p:nvSpPr>
        <p:spPr>
          <a:xfrm flipH="1" flipV="1">
            <a:off x="3487320" y="4080960"/>
            <a:ext cx="142920" cy="505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60"/>
          <p:cNvSpPr/>
          <p:nvPr/>
        </p:nvSpPr>
        <p:spPr>
          <a:xfrm flipV="1">
            <a:off x="3487680" y="3521160"/>
            <a:ext cx="0" cy="57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61"/>
          <p:cNvSpPr/>
          <p:nvPr/>
        </p:nvSpPr>
        <p:spPr>
          <a:xfrm flipV="1">
            <a:off x="3492360" y="3218040"/>
            <a:ext cx="216000" cy="2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62"/>
          <p:cNvSpPr/>
          <p:nvPr/>
        </p:nvSpPr>
        <p:spPr>
          <a:xfrm flipV="1">
            <a:off x="3708360" y="2997000"/>
            <a:ext cx="35892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64"/>
          <p:cNvSpPr/>
          <p:nvPr/>
        </p:nvSpPr>
        <p:spPr>
          <a:xfrm flipV="1">
            <a:off x="3924360" y="2565000"/>
            <a:ext cx="57636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65"/>
          <p:cNvSpPr/>
          <p:nvPr/>
        </p:nvSpPr>
        <p:spPr>
          <a:xfrm>
            <a:off x="4500720" y="2565360"/>
            <a:ext cx="57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66"/>
          <p:cNvSpPr/>
          <p:nvPr/>
        </p:nvSpPr>
        <p:spPr>
          <a:xfrm>
            <a:off x="5076720" y="2565360"/>
            <a:ext cx="579600" cy="455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67"/>
          <p:cNvSpPr/>
          <p:nvPr/>
        </p:nvSpPr>
        <p:spPr>
          <a:xfrm>
            <a:off x="5664240" y="3038400"/>
            <a:ext cx="131760" cy="495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68"/>
          <p:cNvSpPr/>
          <p:nvPr/>
        </p:nvSpPr>
        <p:spPr>
          <a:xfrm flipH="1">
            <a:off x="5795640" y="3546360"/>
            <a:ext cx="4680" cy="520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69"/>
          <p:cNvSpPr/>
          <p:nvPr/>
        </p:nvSpPr>
        <p:spPr>
          <a:xfrm flipH="1">
            <a:off x="5580000" y="4076640"/>
            <a:ext cx="21600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70"/>
          <p:cNvSpPr/>
          <p:nvPr/>
        </p:nvSpPr>
        <p:spPr>
          <a:xfrm flipH="1">
            <a:off x="4788000" y="4797360"/>
            <a:ext cx="79200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71"/>
          <p:cNvSpPr/>
          <p:nvPr/>
        </p:nvSpPr>
        <p:spPr>
          <a:xfrm flipH="1">
            <a:off x="3995280" y="5300640"/>
            <a:ext cx="79236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72"/>
          <p:cNvSpPr/>
          <p:nvPr/>
        </p:nvSpPr>
        <p:spPr>
          <a:xfrm flipH="1">
            <a:off x="3419640" y="2708280"/>
            <a:ext cx="50472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73"/>
          <p:cNvSpPr/>
          <p:nvPr/>
        </p:nvSpPr>
        <p:spPr>
          <a:xfrm flipH="1">
            <a:off x="3133800" y="3002040"/>
            <a:ext cx="285840" cy="393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74"/>
          <p:cNvSpPr/>
          <p:nvPr/>
        </p:nvSpPr>
        <p:spPr>
          <a:xfrm>
            <a:off x="3127320" y="3405240"/>
            <a:ext cx="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75"/>
          <p:cNvSpPr/>
          <p:nvPr/>
        </p:nvSpPr>
        <p:spPr>
          <a:xfrm>
            <a:off x="3127320" y="4129200"/>
            <a:ext cx="149400" cy="668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76"/>
          <p:cNvSpPr/>
          <p:nvPr/>
        </p:nvSpPr>
        <p:spPr>
          <a:xfrm>
            <a:off x="3276720" y="4797360"/>
            <a:ext cx="71892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77"/>
          <p:cNvSpPr/>
          <p:nvPr/>
        </p:nvSpPr>
        <p:spPr>
          <a:xfrm flipV="1">
            <a:off x="3492360" y="1773000"/>
            <a:ext cx="100836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8"/>
          <p:cNvSpPr/>
          <p:nvPr/>
        </p:nvSpPr>
        <p:spPr>
          <a:xfrm>
            <a:off x="4500720" y="1773360"/>
            <a:ext cx="93492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9"/>
          <p:cNvSpPr/>
          <p:nvPr/>
        </p:nvSpPr>
        <p:spPr>
          <a:xfrm flipH="1">
            <a:off x="2776680" y="1989000"/>
            <a:ext cx="715680" cy="51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80"/>
          <p:cNvSpPr/>
          <p:nvPr/>
        </p:nvSpPr>
        <p:spPr>
          <a:xfrm flipH="1">
            <a:off x="2555640" y="2517840"/>
            <a:ext cx="215640" cy="71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81"/>
          <p:cNvSpPr/>
          <p:nvPr/>
        </p:nvSpPr>
        <p:spPr>
          <a:xfrm>
            <a:off x="2556000" y="3227400"/>
            <a:ext cx="0" cy="93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82"/>
          <p:cNvSpPr/>
          <p:nvPr/>
        </p:nvSpPr>
        <p:spPr>
          <a:xfrm>
            <a:off x="2556000" y="4149720"/>
            <a:ext cx="215640" cy="93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83"/>
          <p:cNvSpPr/>
          <p:nvPr/>
        </p:nvSpPr>
        <p:spPr>
          <a:xfrm>
            <a:off x="2771640" y="5084640"/>
            <a:ext cx="927360" cy="93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84"/>
          <p:cNvSpPr/>
          <p:nvPr/>
        </p:nvSpPr>
        <p:spPr>
          <a:xfrm flipV="1">
            <a:off x="3708360" y="5950080"/>
            <a:ext cx="116064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85"/>
          <p:cNvSpPr/>
          <p:nvPr/>
        </p:nvSpPr>
        <p:spPr>
          <a:xfrm flipV="1">
            <a:off x="4859280" y="5216400"/>
            <a:ext cx="1309680" cy="733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86"/>
          <p:cNvSpPr/>
          <p:nvPr/>
        </p:nvSpPr>
        <p:spPr>
          <a:xfrm flipV="1">
            <a:off x="6168960" y="4202280"/>
            <a:ext cx="34776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87"/>
          <p:cNvSpPr/>
          <p:nvPr/>
        </p:nvSpPr>
        <p:spPr>
          <a:xfrm>
            <a:off x="5435640" y="1916280"/>
            <a:ext cx="86508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88"/>
          <p:cNvSpPr/>
          <p:nvPr/>
        </p:nvSpPr>
        <p:spPr>
          <a:xfrm>
            <a:off x="6300720" y="2637000"/>
            <a:ext cx="216000" cy="79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89"/>
          <p:cNvSpPr/>
          <p:nvPr/>
        </p:nvSpPr>
        <p:spPr>
          <a:xfrm>
            <a:off x="6516720" y="3429000"/>
            <a:ext cx="0" cy="758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90"/>
          <p:cNvSpPr/>
          <p:nvPr/>
        </p:nvSpPr>
        <p:spPr>
          <a:xfrm>
            <a:off x="5148360" y="12016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ehanizmi zgrušavanja kr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91"/>
          <p:cNvSpPr/>
          <p:nvPr/>
        </p:nvSpPr>
        <p:spPr>
          <a:xfrm>
            <a:off x="6859440" y="18018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epoznati fak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92"/>
          <p:cNvSpPr/>
          <p:nvPr/>
        </p:nvSpPr>
        <p:spPr>
          <a:xfrm>
            <a:off x="752472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93"/>
          <p:cNvSpPr/>
          <p:nvPr/>
        </p:nvSpPr>
        <p:spPr>
          <a:xfrm>
            <a:off x="7524720" y="4221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shr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94"/>
          <p:cNvSpPr/>
          <p:nvPr/>
        </p:nvSpPr>
        <p:spPr>
          <a:xfrm>
            <a:off x="6986520" y="5661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rvni pritis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95"/>
          <p:cNvSpPr/>
          <p:nvPr/>
        </p:nvSpPr>
        <p:spPr>
          <a:xfrm>
            <a:off x="4788000" y="62420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Fizička aktiv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96"/>
          <p:cNvSpPr/>
          <p:nvPr/>
        </p:nvSpPr>
        <p:spPr>
          <a:xfrm>
            <a:off x="2484360" y="6308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nfekci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97"/>
          <p:cNvSpPr/>
          <p:nvPr/>
        </p:nvSpPr>
        <p:spPr>
          <a:xfrm>
            <a:off x="101520" y="56484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Genetska sklo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98"/>
          <p:cNvSpPr/>
          <p:nvPr/>
        </p:nvSpPr>
        <p:spPr>
          <a:xfrm>
            <a:off x="103320" y="43797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asti u kr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99"/>
          <p:cNvSpPr/>
          <p:nvPr/>
        </p:nvSpPr>
        <p:spPr>
          <a:xfrm>
            <a:off x="339840" y="2924280"/>
            <a:ext cx="12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00"/>
          <p:cNvSpPr/>
          <p:nvPr/>
        </p:nvSpPr>
        <p:spPr>
          <a:xfrm>
            <a:off x="179280" y="25178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ušen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01"/>
          <p:cNvSpPr/>
          <p:nvPr/>
        </p:nvSpPr>
        <p:spPr>
          <a:xfrm>
            <a:off x="684360" y="141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Uzra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02"/>
          <p:cNvSpPr/>
          <p:nvPr/>
        </p:nvSpPr>
        <p:spPr>
          <a:xfrm>
            <a:off x="1712880" y="765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Lekov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03"/>
          <p:cNvSpPr/>
          <p:nvPr/>
        </p:nvSpPr>
        <p:spPr>
          <a:xfrm>
            <a:off x="3381480" y="692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sihosocijaln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Lanac ifekcije</a:t>
            </a:r>
            <a:br>
              <a:rPr sz="4400"/>
            </a:br>
            <a:br>
              <a:rPr sz="1000"/>
            </a:b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Za održavanje zaraznih bolesti neophodno je da biološki agens kruži od rezervoara zaraze, preko odgovarajućih puteva do osetljivih domaćina. Uobičajeno je da se prikazuje sledećih šest karika lanca infekcije: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1. Infektivni agens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2. Rezervoar i izvor infekcije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3. Izlazno mesto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4. Putevi prenošenja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5. Ulazno mesto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6. Osetljiv domaćin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I</a:t>
            </a:r>
            <a:r>
              <a:rPr b="1" lang="sr-Latn-CS" sz="4400" spc="-1" strike="noStrike">
                <a:solidFill>
                  <a:srgbClr val="ffff00"/>
                </a:solidFill>
                <a:latin typeface="Tahoma"/>
                <a:ea typeface="Tahoma"/>
              </a:rPr>
              <a:t>nfektivni agens</a:t>
            </a:r>
            <a:br>
              <a:rPr sz="4000"/>
            </a:br>
            <a:br>
              <a:rPr sz="1000"/>
            </a:b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  <a:ea typeface="Tahoma"/>
              </a:rPr>
              <a:t>S</a:t>
            </a:r>
            <a:r>
              <a:rPr b="1" lang="sr-Latn-CS" sz="2000" spc="-1" strike="noStrike">
                <a:solidFill>
                  <a:srgbClr val="ffcc00"/>
                </a:solidFill>
                <a:latin typeface="Tahoma"/>
                <a:ea typeface="Tahoma"/>
              </a:rPr>
              <a:t>trogi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 (</a:t>
            </a:r>
            <a:r>
              <a:rPr b="1" lang="sr-Latn-CS" sz="2000" spc="-1" strike="noStrike">
                <a:solidFill>
                  <a:srgbClr val="ffcc00"/>
                </a:solidFill>
                <a:latin typeface="Tahoma"/>
                <a:ea typeface="Tahoma"/>
              </a:rPr>
              <a:t>obligantni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) </a:t>
            </a:r>
            <a:r>
              <a:rPr b="1" lang="sr-Latn-CS" sz="2000" spc="-1" strike="noStrike">
                <a:solidFill>
                  <a:srgbClr val="ffcc00"/>
                </a:solidFill>
                <a:latin typeface="Tahoma"/>
                <a:ea typeface="Tahoma"/>
              </a:rPr>
              <a:t>paraziti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 -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m.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boginje,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epid.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meningit, polne inf. (gonoreja,sifilis), besnilo itd.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  <a:ea typeface="Tahoma"/>
              </a:rPr>
              <a:t>O</a:t>
            </a:r>
            <a:r>
              <a:rPr b="1" lang="sr-Latn-CS" sz="2000" spc="-1" strike="noStrike">
                <a:solidFill>
                  <a:srgbClr val="ffcc00"/>
                </a:solidFill>
                <a:latin typeface="Tahoma"/>
                <a:ea typeface="Tahoma"/>
              </a:rPr>
              <a:t>staju neko vreme izvan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, ali se ne razmnožavaju (velike i ovče boginje, tuberkuloza, difterija, šarlah)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3. 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  <a:ea typeface="Tahoma"/>
              </a:rPr>
              <a:t>O</a:t>
            </a:r>
            <a:r>
              <a:rPr b="1" lang="sr-Latn-CS" sz="2000" spc="-1" strike="noStrike">
                <a:solidFill>
                  <a:srgbClr val="ffcc00"/>
                </a:solidFill>
                <a:latin typeface="Tahoma"/>
                <a:ea typeface="Tahoma"/>
              </a:rPr>
              <a:t>staju živi i mogu se razmnožavati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 (trb. tifus, kolera, bacilarna dizenterija)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4. </a:t>
            </a:r>
            <a:r>
              <a:rPr b="1" lang="sr-Latn-CS" sz="2000" spc="-1" strike="noStrike">
                <a:solidFill>
                  <a:srgbClr val="ffcc00"/>
                </a:solidFill>
                <a:latin typeface="Tahoma"/>
                <a:ea typeface="Tahoma"/>
              </a:rPr>
              <a:t>Često se nalaze izvan organizma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 (stafilokok, streptokok itd.)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5. </a:t>
            </a:r>
            <a:r>
              <a:rPr b="1" lang="sr-Latn-CS" sz="2000" spc="-1" strike="noStrike">
                <a:solidFill>
                  <a:srgbClr val="ffcc00"/>
                </a:solidFill>
                <a:latin typeface="Tahoma"/>
                <a:ea typeface="Tahoma"/>
              </a:rPr>
              <a:t>Prelaze u otporne oblike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 - spore (tetanus, botulizam, gasna gangrena, antra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patogenost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-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(sposobnost agensa da izazove manifestnu bolest)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32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klinički oboleli (O) /agensu izloženi osetljivi (I) = O/I</a:t>
            </a:r>
            <a:br>
              <a:rPr sz="2800"/>
            </a:br>
            <a:br>
              <a:rPr sz="2800"/>
            </a:br>
            <a:br>
              <a:rPr sz="1200"/>
            </a:b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infektivnost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-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(sposobnost prodiranja, održavanja i raznmožavanja) - lakoća kojom se bolest prenosi - kontagioznost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zaraženi (Z) / izloženi osetljivi (I) = Z/I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virulencij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-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stepen patogenosti odnosno sposobnost agensa da izazove manifestnu bolest u inficiranom domaćinu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klinički oboleli (O) / ukupni broj zaraženih (Z) = O/Z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ahoma"/>
                <a:ea typeface="Tahoma"/>
              </a:rPr>
              <a:t>Faktori virulencije</a:t>
            </a:r>
            <a:br>
              <a:rPr sz="4000"/>
            </a:br>
            <a:br>
              <a:rPr sz="2800"/>
            </a:br>
            <a:br>
              <a:rPr sz="1400"/>
            </a:br>
            <a:r>
              <a:rPr b="1" lang="sr-Latn-CS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invazivnost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- oni koji agensu omogućuju adherenciju (prijanjanja) na tkiva, prodiranja u njih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razmnožavanje i širenje 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toksičnost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- izazivaju oštećenja tkiva domaćina pod dejstvom toksin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I</a:t>
            </a: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nfektivna doza ili inokulu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9640" y="1600200"/>
          <a:ext cx="8147160" cy="4513320"/>
        </p:xfrm>
        <a:graphic>
          <a:graphicData uri="http://schemas.openxmlformats.org/drawingml/2006/table">
            <a:tbl>
              <a:tblPr/>
              <a:tblGrid>
                <a:gridCol w="403236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ffcc00"/>
                          </a:solidFill>
                          <a:latin typeface="Tahoma"/>
                          <a:ea typeface="Tahoma"/>
                        </a:rPr>
                        <a:t>Bol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ffcc00"/>
                          </a:solidFill>
                          <a:latin typeface="Tahoma"/>
                          <a:ea typeface="Tahoma"/>
                        </a:rPr>
                        <a:t>Minimalan broj k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rbušni tif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lmonelozno trovanje hran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0 – 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acilarna dizenteri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≤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riptosporidij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-2 ci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32000" y="2276280"/>
            <a:ext cx="66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Tahoma"/>
                <a:ea typeface="Tahoma"/>
              </a:rPr>
              <a:t>Proces </a:t>
            </a:r>
            <a:r>
              <a:rPr b="0" lang="sr-Latn-CS" sz="3000" spc="-1" strike="noStrike">
                <a:solidFill>
                  <a:srgbClr val="ffff00"/>
                </a:solidFill>
                <a:latin typeface="Tahoma"/>
                <a:ea typeface="Tahoma"/>
              </a:rPr>
              <a:t>pojave</a:t>
            </a:r>
            <a:r>
              <a:rPr b="0" lang="sr-Latn-CS" sz="3000" spc="-1" strike="noStrike">
                <a:solidFill>
                  <a:srgbClr val="ffffff"/>
                </a:solidFill>
                <a:latin typeface="Tahoma"/>
                <a:ea typeface="Tahoma"/>
              </a:rPr>
              <a:t> bolesti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Tahoma"/>
                <a:ea typeface="Tahoma"/>
              </a:rPr>
              <a:t>njeno </a:t>
            </a:r>
            <a:r>
              <a:rPr b="0" lang="sr-Latn-CS" sz="3000" spc="-1" strike="noStrike">
                <a:solidFill>
                  <a:srgbClr val="ffff00"/>
                </a:solidFill>
                <a:latin typeface="Tahoma"/>
                <a:ea typeface="Tahoma"/>
              </a:rPr>
              <a:t>širenje</a:t>
            </a:r>
            <a:r>
              <a:rPr b="0" lang="sr-Latn-CS" sz="30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00"/>
                </a:solidFill>
                <a:latin typeface="Tahoma"/>
                <a:ea typeface="Tahoma"/>
              </a:rPr>
              <a:t>održavanje</a:t>
            </a:r>
            <a:r>
              <a:rPr b="0" lang="sr-Latn-CS" sz="3000" spc="-1" strike="noStrike">
                <a:solidFill>
                  <a:srgbClr val="ffffff"/>
                </a:solidFill>
                <a:latin typeface="Tahoma"/>
                <a:ea typeface="Tahoma"/>
              </a:rPr>
              <a:t> 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00"/>
                </a:solidFill>
                <a:latin typeface="Tahoma"/>
                <a:ea typeface="Tahoma"/>
              </a:rPr>
              <a:t>nestajanje</a:t>
            </a:r>
            <a:r>
              <a:rPr b="0" lang="sr-Latn-CS" sz="3000" spc="-1" strike="noStrike">
                <a:solidFill>
                  <a:srgbClr val="ffffff"/>
                </a:solidFill>
                <a:latin typeface="Tahoma"/>
                <a:ea typeface="Tahoma"/>
              </a:rPr>
              <a:t> u populaciji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99cc"/>
                </a:solidFill>
                <a:latin typeface="Tahoma"/>
                <a:ea typeface="Tahoma"/>
              </a:rPr>
              <a:t>EPIDEMIJSKI PRO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942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REZERVOAR I IZVOR ZARAZE</a:t>
            </a:r>
            <a:br>
              <a:rPr sz="3200"/>
            </a:br>
            <a:br>
              <a:rPr sz="28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REZERVOAR  mesto gde živi i razmnožava se,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može se definisati i kao 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prirodno stanište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Ljud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morbili, pertusis, rubeola)</a:t>
            </a:r>
            <a:br>
              <a:rPr sz="24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Životinj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tetanus, antraks, besnilo)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Ljudi i životinj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salmonele) pacovi, miševi, živina i sl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Neživa prirod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(zemljište, bare, reke i dr.)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</a:t>
            </a:r>
            <a:r>
              <a:rPr b="0" i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Rudarska glista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Poznavanje staništa – preventivne mere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- dezinfekcija vode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- vakcinacija životi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21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REZERVOAR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r>
              <a:rPr b="1" lang="sr-CS" sz="2400" spc="-1" strike="noStrike">
                <a:solidFill>
                  <a:srgbClr val="ffcc00"/>
                </a:solidFill>
                <a:latin typeface="Tahoma"/>
                <a:ea typeface="Tahoma"/>
              </a:rPr>
              <a:t>”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IZVOR</a:t>
            </a:r>
            <a:r>
              <a:rPr b="1" lang="sr-CS" sz="2400" spc="-1" strike="noStrike">
                <a:solidFill>
                  <a:srgbClr val="ffcc00"/>
                </a:solidFill>
                <a:latin typeface="Tahoma"/>
                <a:ea typeface="Tahoma"/>
              </a:rPr>
              <a:t>”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infektivnog agensa je konkretan pojam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Poznavanje izvora zaraze ima veći značaj u praktičnom radu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Čovek kao izvor: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1. kao bolesnik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2. kao kliconoš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792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  <a:ea typeface="Tahoma"/>
              </a:rPr>
              <a:t>ČOVEK KAO IZVOR ZARAZE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: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1. kao bolesnik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2. kao kliconoš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2928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400" spc="-1" strike="noStrike">
                <a:solidFill>
                  <a:srgbClr val="ffff00"/>
                </a:solidFill>
                <a:latin typeface="Tahoma"/>
                <a:ea typeface="Tahoma"/>
              </a:rPr>
              <a:t>kao bolesnik</a:t>
            </a:r>
            <a:br>
              <a:rPr sz="6000"/>
            </a:b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a) inkubacij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b) prodromalni period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c) razvijena faza bolesti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 - tipičn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 - atipičn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- lak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- teška  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d) rekonvalescen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7581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400" spc="-1" strike="noStrike">
                <a:solidFill>
                  <a:srgbClr val="ffff00"/>
                </a:solidFill>
                <a:latin typeface="Tahoma"/>
                <a:ea typeface="Tahoma"/>
              </a:rPr>
              <a:t>kao kliconoša</a:t>
            </a:r>
            <a:br>
              <a:rPr sz="4800"/>
            </a:b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a) zdravo (asimptomatsko)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privremeno (tranzitorno)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hronično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b) inkubatorno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c) rekonvalescent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I</a:t>
            </a: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ZLAZNO MESTO</a:t>
            </a:r>
            <a:br>
              <a:rPr sz="3200"/>
            </a:br>
            <a:br>
              <a:rPr sz="10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Iz organizma domaćina infektivni agens različitim sekretom (pljuvačka, suze, mleko) ili ekskretom (stolica, mokraća, gnoj) dospeva u spoljnu sredinu.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Ovo je uslovljeno organom ili sistemom organa koji su zahvaćeni infektivnim proces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S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  <a:ea typeface="Tahoma"/>
              </a:rPr>
              <a:t>LUZNICA</a:t>
            </a:r>
            <a:br>
              <a:rPr sz="3600"/>
            </a:br>
            <a:br>
              <a:rPr sz="36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a) respiratorna (respiratorne z.b.)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b) digestivna (crevne z.b.)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c) genitalna (polne b.)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d) urinarna (infekcija mokraćnih organa)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e) konjuktive (očne z.b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K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  <a:ea typeface="Tahoma"/>
              </a:rPr>
              <a:t>OŽ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a) intaktna (kožne i druge infekcije)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b) povređena (vektorske b., ubod igle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hirurška intervencija, transfuzij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ahoma"/>
                <a:ea typeface="Tahoma"/>
              </a:rPr>
              <a:t>PUTEVI  PRENOŠENJA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- direkta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- indirekt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907920"/>
            <a:ext cx="741672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Kretanje mikroorganizma od svog</a:t>
            </a:r>
            <a:br>
              <a:rPr sz="2800"/>
            </a:br>
            <a:br>
              <a:rPr sz="1400"/>
            </a:b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28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Izvor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domaćin u kome živi)</a:t>
            </a:r>
            <a:br>
              <a:rPr sz="2400"/>
            </a:br>
            <a:br>
              <a:rPr sz="10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Kroz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sredinu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putevi prenošenja)</a:t>
            </a:r>
            <a:br>
              <a:rPr sz="2400"/>
            </a:br>
            <a:br>
              <a:rPr sz="10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Do novog organizma  (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osetljiva populacij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Latn-CS" sz="4000" spc="-1" strike="noStrike">
                <a:solidFill>
                  <a:srgbClr val="ffff00"/>
                </a:solidFill>
                <a:latin typeface="Tahoma"/>
                <a:ea typeface="Tahoma"/>
              </a:rPr>
              <a:t>DIREKTAN</a:t>
            </a:r>
            <a:br>
              <a:rPr sz="4000"/>
            </a:br>
            <a:br>
              <a:rPr sz="16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direktni kontakt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(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dodir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br>
              <a:rPr sz="2800"/>
            </a:br>
            <a:br>
              <a:rPr sz="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rukovanje – crevne, respiratorne i kožne z.b.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poljubac – inf. mononukleoza, osipne groznice i dr.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polni odnos – polno prnosive infekcije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porođaj – prolaz kroz porođajni kanal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ujed ili lizanje besne životinje)</a:t>
            </a:r>
            <a:br>
              <a:rPr sz="2400"/>
            </a:br>
            <a:br>
              <a:rPr sz="12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kapljice nazofaringealnog sekret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kontakt sa zemljište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transplacetarn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sifilis, kongenitalna  rubeola, CMV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toksoplazmoza, HBV, HCV, HIV i dr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425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INDIREKTAN</a:t>
            </a:r>
            <a:br>
              <a:rPr sz="2800"/>
            </a:br>
            <a:br>
              <a:rPr sz="16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  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predmeti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indirektni dodir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 maramice, peškiri, odeća, igračke, pribor za jelo,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medicinski instrumenti, posteljina, kvake, novac, baterije za vodu, knjige, novine i sl.)</a:t>
            </a:r>
            <a:br>
              <a:rPr sz="2400"/>
            </a:br>
            <a:br>
              <a:rPr sz="16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biološki produkt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krv, transpl. organa – sifilis, HIV, HBV, HCV, malarija, CJ bolest)</a:t>
            </a:r>
            <a:br>
              <a:rPr sz="2400"/>
            </a:br>
            <a:br>
              <a:rPr sz="16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hran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vod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vazduh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vektor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Koža:</a:t>
            </a:r>
            <a:br>
              <a:rPr sz="28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Raznih vektorskih bolesti, koje ubodom ili kontaminacijom prenose zglavkari (malarija, pegavi tifus, lajmska bolest, razne hemoragijske groznice itd.),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Bolesti koje se prenose zemljištem (tetanus, gasna gangrena, rudarska glista),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Bolesti koje se prenose vodom (leptospiroza, neki paraziti) i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Bolesti koje se prenose kontaktom (gljivične i druge infekcije kož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42372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ahoma"/>
                <a:ea typeface="Tahoma"/>
              </a:rPr>
              <a:t>ULAZNO MES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71640" y="836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Sluzokoža:</a:t>
            </a:r>
            <a:br>
              <a:rPr sz="3600"/>
            </a:br>
            <a:br>
              <a:rPr sz="16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Sluzokoža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respiratornog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trakta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Sluzokoža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digestivnog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trakta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Sluzokoža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genitourinarnog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sistema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Sluzokoža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konjuk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50920" y="1051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ffff00"/>
                </a:solidFill>
                <a:latin typeface="Tahoma"/>
                <a:ea typeface="Tahoma"/>
              </a:rPr>
              <a:t>Primeri povezanosti izlaznog mesta, puta   </a:t>
            </a:r>
            <a:r>
              <a:rPr b="1" lang="sl-SI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l-SI" sz="2400" spc="-1" strike="noStrike">
                <a:solidFill>
                  <a:srgbClr val="ffff00"/>
                </a:solidFill>
                <a:latin typeface="Tahoma"/>
                <a:ea typeface="Tahoma"/>
              </a:rPr>
              <a:t>   </a:t>
            </a:r>
            <a:r>
              <a:rPr b="1" lang="sl-SI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l-SI" sz="2400" spc="-1" strike="noStrike">
                <a:solidFill>
                  <a:srgbClr val="ffff00"/>
                </a:solidFill>
                <a:latin typeface="Tahoma"/>
                <a:ea typeface="Tahoma"/>
              </a:rPr>
              <a:t>         širenja i ulaznog me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96000" y="579276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hom, druga zapaljenja konjunk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579276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juk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48000" y="579276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ni prenos (dod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4000" y="579276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junktiva (suze, drugi sekret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96000" y="515304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filis, gonoreja, sida, hepatitis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515304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talna sluz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48000" y="515304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ksualni konta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4000" y="515304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talna sluznica (sekre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96000" y="4129200"/>
            <a:ext cx="2124000" cy="102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nojnice, gljivična oboljenja; hepatitis B,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4129200"/>
            <a:ext cx="2124000" cy="102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ž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48000" y="4129200"/>
            <a:ext cx="2124000" cy="102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ni (dodir) 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rektni prenos (igle, brizgalice isl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4129200"/>
            <a:ext cx="2124000" cy="102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ža (inficirana il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vređe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96000" y="348948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rija, pegavac, papataći groz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0" y="348948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ž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48000" y="348948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kt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4000" y="348948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ža (ubod vekto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96000" y="2332080"/>
            <a:ext cx="2124000" cy="115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zenterija, trbuš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fus, hepatitis 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vne parazito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2332080"/>
            <a:ext cx="2124000" cy="115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uznica digesti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nog trak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48000" y="2332080"/>
            <a:ext cx="2124000" cy="115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ni (dodir) i indirektni prenos </a:t>
            </a:r>
            <a:r>
              <a:rPr b="1" lang="sl-SI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hrana,voda, predme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4000" y="2332080"/>
            <a:ext cx="2124000" cy="115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uznica digestivnog trakta (stoli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96000" y="141768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iki kašalj, grip, tuberkuloza, zauš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141768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uznica respira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rnog trak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48000" y="141768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ni (kaplj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indirektni pre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ukleusi, praši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4000" y="141768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uznica respira-tornog trakta (sluz, pljuvač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96000" y="1052640"/>
            <a:ext cx="2124000" cy="36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cc00"/>
                </a:solidFill>
                <a:latin typeface="Tahoma"/>
                <a:ea typeface="Tahoma"/>
              </a:rPr>
              <a:t>Primer</a:t>
            </a:r>
            <a:r>
              <a:rPr b="1" lang="sl-SI" sz="16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1" lang="sl-SI" sz="1600" spc="-1" strike="noStrike">
                <a:solidFill>
                  <a:srgbClr val="ffcc00"/>
                </a:solidFill>
                <a:latin typeface="Tahoma"/>
                <a:ea typeface="Tahoma"/>
              </a:rPr>
              <a:t>i</a:t>
            </a:r>
            <a:r>
              <a:rPr b="1" lang="sl-SI" sz="16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1052640"/>
            <a:ext cx="2124000" cy="36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cc00"/>
                </a:solidFill>
                <a:latin typeface="Tahoma"/>
                <a:ea typeface="Tahoma"/>
              </a:rPr>
              <a:t>Ulazno m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84360" y="1052640"/>
            <a:ext cx="2124000" cy="36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cc00"/>
                </a:solidFill>
                <a:latin typeface="Tahoma"/>
                <a:ea typeface="Tahoma"/>
              </a:rPr>
              <a:t>Put šire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4000" y="1052640"/>
            <a:ext cx="2124000" cy="36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cc00"/>
                </a:solidFill>
                <a:latin typeface="Tahoma"/>
                <a:ea typeface="Tahoma"/>
              </a:rPr>
              <a:t>Izlazno m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4000" y="105264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4000" y="670716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1052640"/>
            <a:ext cx="1440" cy="565452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820000" y="1052640"/>
            <a:ext cx="1800" cy="565452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4000" y="141768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48000" y="1052640"/>
            <a:ext cx="1440" cy="565452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1052640"/>
            <a:ext cx="1440" cy="565452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6000" y="1052640"/>
            <a:ext cx="1800" cy="565452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233208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4000" y="348948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412920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4000" y="515304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4000" y="579276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84360" y="1115640"/>
            <a:ext cx="80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ahoma"/>
                <a:ea typeface="Tahoma"/>
              </a:rPr>
              <a:t>EPIDEMIOLOŠKA KLASIFIKACIJ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ahoma"/>
                <a:ea typeface="Tahoma"/>
              </a:rPr>
              <a:t>ZARAZNIH BOLE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Na osnovu glavnog ulaznog mes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respiratorne zarazne bole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crevne zarazne bole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vektorske, kožne i infekcije r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očne bole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urinogenitalne bole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11280" y="97200"/>
            <a:ext cx="7221600" cy="64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ahoma"/>
                <a:ea typeface="Tahoma"/>
              </a:rPr>
              <a:t>OSETLJIV DOMAĆ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Na verovatnoću zaražavanja utič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1. faktori dispozicija i ekspozicije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-  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 uzr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 rasna, etnička i verska pripad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 socijalno-ekonomski položa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 ishr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 psihičke i fizičke trau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 um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 druge bolesti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2. nivo kolektivnog imuniteta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rcRect l="3913" t="4864" r="3913" b="23249"/>
          <a:stretch/>
        </p:blipFill>
        <p:spPr>
          <a:xfrm>
            <a:off x="826920" y="981000"/>
            <a:ext cx="7490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08488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3300"/>
                </a:solidFill>
                <a:latin typeface="Tahoma"/>
                <a:ea typeface="Tahoma"/>
              </a:rPr>
              <a:t>Prirodni (hronološki) tok zarazne bolesti:</a:t>
            </a:r>
            <a:br>
              <a:rPr sz="3200"/>
            </a:br>
            <a:br>
              <a:rPr sz="2800"/>
            </a:br>
            <a:r>
              <a:rPr b="0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- inkubacioni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- prodromalni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- inkrementni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- period </a:t>
            </a:r>
            <a:r>
              <a:rPr b="1" i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acmis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 ili </a:t>
            </a:r>
            <a:r>
              <a:rPr b="1" i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akme</a:t>
            </a:r>
            <a:br>
              <a:rPr sz="2800"/>
            </a:br>
            <a:r>
              <a:rPr b="1" i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i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i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dekrementni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- period rekonvalescenc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Spektar bolesti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je raspon njenog mogućeg ispoljavanja, od najblažih do najtežih oblika. Taj spektar se zove i </a:t>
            </a:r>
            <a:r>
              <a:rPr b="1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gradijent infekcije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, a definiše se kao odgovor domaćina na infekciju, koji se kreće od inaparentne do fatalne bolesti (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raspon kliničkih manifestacija bolesti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)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Epidemijski proces može biti: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Jednostavan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morbili)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Komplikovan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antropozoonoz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Izloženost, inficiranost i spektar bolesti 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(odn. Gradijent infekcije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68360" y="1612800"/>
          <a:ext cx="8218440" cy="3768840"/>
        </p:xfrm>
        <a:graphic>
          <a:graphicData uri="http://schemas.openxmlformats.org/drawingml/2006/table">
            <a:tbl>
              <a:tblPr/>
              <a:tblGrid>
                <a:gridCol w="1027080"/>
                <a:gridCol w="1131840"/>
                <a:gridCol w="922320"/>
                <a:gridCol w="1028880"/>
                <a:gridCol w="1027080"/>
                <a:gridCol w="1054080"/>
                <a:gridCol w="1000080"/>
                <a:gridCol w="1027080"/>
              </a:tblGrid>
              <a:tr h="8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zlo-žen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izlož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zlož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ici-ran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inficir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icir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ktar bolesti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pa-rent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linički ispoljen (manifesta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meren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ž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ta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Na težinu kliničkog ispoljavanja utiču i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virulencija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soj odnosno biotip uzročnik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klasični tip v. kolere izaziva teži klinički oblik kolere)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uzrast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obolelih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prisustvo nekog drugog poremećaja zdravlj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grip teže podnose osobe sa neki hroničnim obolenj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Za podrobnije razumevanje gradijenta infekcije treba definisati infekciju.</a:t>
            </a:r>
            <a:br>
              <a:rPr sz="3200"/>
            </a:br>
            <a:br>
              <a:rPr sz="32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Infekcija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predstavlja prodiranje, održavanje i razmnožavanje infektivnog agensa u organizmu čoveka ili životinje. </a:t>
            </a:r>
            <a:br>
              <a:rPr sz="2400"/>
            </a:br>
            <a:br>
              <a:rPr sz="8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Ona nije što i infektivna bolest. </a:t>
            </a:r>
            <a:br>
              <a:rPr sz="2400"/>
            </a:br>
            <a:br>
              <a:rPr sz="8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Infekcija može biti inaparentna i manifestn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Inaparentna infekcij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se odlikuje odsustvom subjektivnih (simptomi) i objektivnih (znaci) manifestacija bolesti. To su stanja poznata kao latentne, bezsimptomne, zbrisane, skrivene, neprimetne, neme ili supkliničke infekcije.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Mada </a:t>
            </a:r>
            <a:r>
              <a:rPr b="1" i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prividno zdrave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takve osobe predstavljaju veliku epidemiološku opasnost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Manifestna infekcij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predstavlja uočljiv,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tj. klinički manje ili više jasno izražen oblik bolesti.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Jedna ista bolest može imati različite kliničke manifestacije bolesti.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Oni se obeležavaju kao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blag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lak),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umeren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umereno težak),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težak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i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fatalan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Gradijent infekcije u zavisnosti od uzročnika 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                               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  <a:ea typeface="Tahoma"/>
              </a:rPr>
              <a:t>Izvor: Mausner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&amp; Kramer (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17600" y="155736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8"/>
          <p:cNvSpPr/>
          <p:nvPr/>
        </p:nvSpPr>
        <p:spPr>
          <a:xfrm>
            <a:off x="1903320" y="1967040"/>
            <a:ext cx="190440" cy="3355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reeform 9"/>
          <p:cNvSpPr/>
          <p:nvPr/>
        </p:nvSpPr>
        <p:spPr>
          <a:xfrm>
            <a:off x="1903320" y="5154480"/>
            <a:ext cx="5200920" cy="168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2093760" y="1967040"/>
            <a:ext cx="5010480" cy="31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Freeform 11"/>
          <p:cNvSpPr/>
          <p:nvPr/>
        </p:nvSpPr>
        <p:spPr>
          <a:xfrm>
            <a:off x="1903320" y="1967040"/>
            <a:ext cx="19044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reeform 12"/>
          <p:cNvSpPr/>
          <p:nvPr/>
        </p:nvSpPr>
        <p:spPr>
          <a:xfrm>
            <a:off x="2903400" y="1967040"/>
            <a:ext cx="20016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reeform 13"/>
          <p:cNvSpPr/>
          <p:nvPr/>
        </p:nvSpPr>
        <p:spPr>
          <a:xfrm>
            <a:off x="3903840" y="1967040"/>
            <a:ext cx="19980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reeform 14"/>
          <p:cNvSpPr/>
          <p:nvPr/>
        </p:nvSpPr>
        <p:spPr>
          <a:xfrm>
            <a:off x="4903920" y="1967040"/>
            <a:ext cx="19980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Freeform 15"/>
          <p:cNvSpPr/>
          <p:nvPr/>
        </p:nvSpPr>
        <p:spPr>
          <a:xfrm>
            <a:off x="5904000" y="1967040"/>
            <a:ext cx="19980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reeform 16"/>
          <p:cNvSpPr/>
          <p:nvPr/>
        </p:nvSpPr>
        <p:spPr>
          <a:xfrm>
            <a:off x="6913440" y="1967040"/>
            <a:ext cx="19080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reeform 17"/>
          <p:cNvSpPr/>
          <p:nvPr/>
        </p:nvSpPr>
        <p:spPr>
          <a:xfrm>
            <a:off x="1903320" y="1967040"/>
            <a:ext cx="19044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reeform 18"/>
          <p:cNvSpPr/>
          <p:nvPr/>
        </p:nvSpPr>
        <p:spPr>
          <a:xfrm>
            <a:off x="1903320" y="5154480"/>
            <a:ext cx="5200920" cy="168480"/>
          </a:xfrm>
          <a:prstGeom prst="pie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9"/>
          <p:cNvSpPr/>
          <p:nvPr/>
        </p:nvSpPr>
        <p:spPr>
          <a:xfrm>
            <a:off x="2093760" y="1967040"/>
            <a:ext cx="5010480" cy="318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Freeform 20"/>
          <p:cNvSpPr/>
          <p:nvPr/>
        </p:nvSpPr>
        <p:spPr>
          <a:xfrm>
            <a:off x="1903320" y="4714920"/>
            <a:ext cx="542880" cy="156960"/>
          </a:xfrm>
          <a:prstGeom prst="pie">
            <a:avLst/>
          </a:prstGeom>
          <a:solidFill>
            <a:srgbClr val="34976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21"/>
          <p:cNvSpPr/>
          <p:nvPr/>
        </p:nvSpPr>
        <p:spPr>
          <a:xfrm>
            <a:off x="1903320" y="4871880"/>
            <a:ext cx="343080" cy="26208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Freeform 22"/>
          <p:cNvSpPr/>
          <p:nvPr/>
        </p:nvSpPr>
        <p:spPr>
          <a:xfrm>
            <a:off x="2246400" y="4714920"/>
            <a:ext cx="199800" cy="419040"/>
          </a:xfrm>
          <a:prstGeom prst="pie">
            <a:avLst/>
          </a:prstGeom>
          <a:solidFill>
            <a:srgbClr val="23654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Freeform 23"/>
          <p:cNvSpPr/>
          <p:nvPr/>
        </p:nvSpPr>
        <p:spPr>
          <a:xfrm>
            <a:off x="2246400" y="4714920"/>
            <a:ext cx="4857840" cy="156960"/>
          </a:xfrm>
          <a:prstGeom prst="pie">
            <a:avLst/>
          </a:prstGeom>
          <a:solidFill>
            <a:srgbClr val="b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4"/>
          <p:cNvSpPr/>
          <p:nvPr/>
        </p:nvSpPr>
        <p:spPr>
          <a:xfrm>
            <a:off x="2246400" y="4871880"/>
            <a:ext cx="4667040" cy="262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Freeform 25"/>
          <p:cNvSpPr/>
          <p:nvPr/>
        </p:nvSpPr>
        <p:spPr>
          <a:xfrm>
            <a:off x="6913440" y="4714920"/>
            <a:ext cx="190800" cy="419040"/>
          </a:xfrm>
          <a:prstGeom prst="pie">
            <a:avLst/>
          </a:pr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reeform 26"/>
          <p:cNvSpPr/>
          <p:nvPr/>
        </p:nvSpPr>
        <p:spPr>
          <a:xfrm>
            <a:off x="1903320" y="4075200"/>
            <a:ext cx="447840" cy="166680"/>
          </a:xfrm>
          <a:prstGeom prst="pie">
            <a:avLst/>
          </a:prstGeom>
          <a:solidFill>
            <a:srgbClr val="00bfb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1903320" y="4241880"/>
            <a:ext cx="247680" cy="252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28"/>
          <p:cNvSpPr/>
          <p:nvPr/>
        </p:nvSpPr>
        <p:spPr>
          <a:xfrm>
            <a:off x="2151000" y="4075200"/>
            <a:ext cx="200160" cy="41904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29"/>
          <p:cNvSpPr/>
          <p:nvPr/>
        </p:nvSpPr>
        <p:spPr>
          <a:xfrm>
            <a:off x="2151000" y="4075200"/>
            <a:ext cx="600120" cy="166680"/>
          </a:xfrm>
          <a:prstGeom prst="pie">
            <a:avLst/>
          </a:prstGeom>
          <a:solidFill>
            <a:srgbClr val="5c359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>
            <a:off x="2151000" y="4241880"/>
            <a:ext cx="399960" cy="25236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31"/>
          <p:cNvSpPr/>
          <p:nvPr/>
        </p:nvSpPr>
        <p:spPr>
          <a:xfrm>
            <a:off x="2550960" y="4075200"/>
            <a:ext cx="200160" cy="419040"/>
          </a:xfrm>
          <a:prstGeom prst="pie">
            <a:avLst/>
          </a:prstGeom>
          <a:solidFill>
            <a:srgbClr val="3e236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Freeform 32"/>
          <p:cNvSpPr/>
          <p:nvPr/>
        </p:nvSpPr>
        <p:spPr>
          <a:xfrm>
            <a:off x="2550960" y="4075200"/>
            <a:ext cx="2705400" cy="166680"/>
          </a:xfrm>
          <a:prstGeom prst="pie">
            <a:avLst/>
          </a:prstGeom>
          <a:solidFill>
            <a:srgbClr val="659db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33"/>
          <p:cNvSpPr/>
          <p:nvPr/>
        </p:nvSpPr>
        <p:spPr>
          <a:xfrm>
            <a:off x="2550960" y="4241880"/>
            <a:ext cx="2505240" cy="25236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reeform 34"/>
          <p:cNvSpPr/>
          <p:nvPr/>
        </p:nvSpPr>
        <p:spPr>
          <a:xfrm>
            <a:off x="5056200" y="4075200"/>
            <a:ext cx="200160" cy="419040"/>
          </a:xfrm>
          <a:prstGeom prst="pie">
            <a:avLst/>
          </a:prstGeom>
          <a:solidFill>
            <a:srgbClr val="43697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35"/>
          <p:cNvSpPr/>
          <p:nvPr/>
        </p:nvSpPr>
        <p:spPr>
          <a:xfrm>
            <a:off x="5056200" y="4075200"/>
            <a:ext cx="1447920" cy="166680"/>
          </a:xfrm>
          <a:prstGeom prst="pie">
            <a:avLst/>
          </a:prstGeom>
          <a:solidFill>
            <a:srgbClr val="34976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5056200" y="4241880"/>
            <a:ext cx="1257120" cy="25236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37"/>
          <p:cNvSpPr/>
          <p:nvPr/>
        </p:nvSpPr>
        <p:spPr>
          <a:xfrm>
            <a:off x="6313320" y="4075200"/>
            <a:ext cx="190800" cy="419040"/>
          </a:xfrm>
          <a:prstGeom prst="pie">
            <a:avLst/>
          </a:prstGeom>
          <a:solidFill>
            <a:srgbClr val="23654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Freeform 38"/>
          <p:cNvSpPr/>
          <p:nvPr/>
        </p:nvSpPr>
        <p:spPr>
          <a:xfrm>
            <a:off x="6313320" y="4075200"/>
            <a:ext cx="790920" cy="166680"/>
          </a:xfrm>
          <a:prstGeom prst="pie">
            <a:avLst/>
          </a:prstGeom>
          <a:solidFill>
            <a:srgbClr val="b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6313320" y="4241880"/>
            <a:ext cx="600120" cy="2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reeform 40"/>
          <p:cNvSpPr/>
          <p:nvPr/>
        </p:nvSpPr>
        <p:spPr>
          <a:xfrm>
            <a:off x="6913440" y="4075200"/>
            <a:ext cx="190800" cy="419040"/>
          </a:xfrm>
          <a:prstGeom prst="pie">
            <a:avLst/>
          </a:pr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reeform 41"/>
          <p:cNvSpPr/>
          <p:nvPr/>
        </p:nvSpPr>
        <p:spPr>
          <a:xfrm>
            <a:off x="1903320" y="3435480"/>
            <a:ext cx="2695680" cy="166680"/>
          </a:xfrm>
          <a:prstGeom prst="pie">
            <a:avLst/>
          </a:prstGeom>
          <a:solidFill>
            <a:srgbClr val="00bfb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2"/>
          <p:cNvSpPr/>
          <p:nvPr/>
        </p:nvSpPr>
        <p:spPr>
          <a:xfrm>
            <a:off x="1903320" y="3602160"/>
            <a:ext cx="2505240" cy="252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Freeform 43"/>
          <p:cNvSpPr/>
          <p:nvPr/>
        </p:nvSpPr>
        <p:spPr>
          <a:xfrm>
            <a:off x="4408560" y="3435480"/>
            <a:ext cx="190440" cy="41904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Freeform 44"/>
          <p:cNvSpPr/>
          <p:nvPr/>
        </p:nvSpPr>
        <p:spPr>
          <a:xfrm>
            <a:off x="4408560" y="3435480"/>
            <a:ext cx="1200240" cy="166680"/>
          </a:xfrm>
          <a:prstGeom prst="pie">
            <a:avLst/>
          </a:prstGeom>
          <a:solidFill>
            <a:srgbClr val="5c359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5"/>
          <p:cNvSpPr/>
          <p:nvPr/>
        </p:nvSpPr>
        <p:spPr>
          <a:xfrm>
            <a:off x="4408560" y="3602160"/>
            <a:ext cx="1000080" cy="25236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Freeform 46"/>
          <p:cNvSpPr/>
          <p:nvPr/>
        </p:nvSpPr>
        <p:spPr>
          <a:xfrm>
            <a:off x="5408640" y="3435480"/>
            <a:ext cx="200160" cy="419040"/>
          </a:xfrm>
          <a:prstGeom prst="pie">
            <a:avLst/>
          </a:prstGeom>
          <a:solidFill>
            <a:srgbClr val="3e236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Freeform 47"/>
          <p:cNvSpPr/>
          <p:nvPr/>
        </p:nvSpPr>
        <p:spPr>
          <a:xfrm>
            <a:off x="5408640" y="3435480"/>
            <a:ext cx="695160" cy="166680"/>
          </a:xfrm>
          <a:prstGeom prst="pie">
            <a:avLst/>
          </a:prstGeom>
          <a:solidFill>
            <a:srgbClr val="659db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48"/>
          <p:cNvSpPr/>
          <p:nvPr/>
        </p:nvSpPr>
        <p:spPr>
          <a:xfrm>
            <a:off x="5408640" y="3602160"/>
            <a:ext cx="495360" cy="25236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Freeform 49"/>
          <p:cNvSpPr/>
          <p:nvPr/>
        </p:nvSpPr>
        <p:spPr>
          <a:xfrm>
            <a:off x="5904000" y="3435480"/>
            <a:ext cx="199800" cy="419040"/>
          </a:xfrm>
          <a:prstGeom prst="pie">
            <a:avLst/>
          </a:prstGeom>
          <a:solidFill>
            <a:srgbClr val="43697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Freeform 50"/>
          <p:cNvSpPr/>
          <p:nvPr/>
        </p:nvSpPr>
        <p:spPr>
          <a:xfrm>
            <a:off x="5904000" y="3435480"/>
            <a:ext cx="704880" cy="166680"/>
          </a:xfrm>
          <a:prstGeom prst="pie">
            <a:avLst/>
          </a:prstGeom>
          <a:solidFill>
            <a:srgbClr val="34976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51"/>
          <p:cNvSpPr/>
          <p:nvPr/>
        </p:nvSpPr>
        <p:spPr>
          <a:xfrm>
            <a:off x="5904000" y="3602160"/>
            <a:ext cx="504720" cy="25236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Freeform 52"/>
          <p:cNvSpPr/>
          <p:nvPr/>
        </p:nvSpPr>
        <p:spPr>
          <a:xfrm>
            <a:off x="6408720" y="3435480"/>
            <a:ext cx="200160" cy="419040"/>
          </a:xfrm>
          <a:prstGeom prst="pie">
            <a:avLst/>
          </a:prstGeom>
          <a:solidFill>
            <a:srgbClr val="23654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Freeform 53"/>
          <p:cNvSpPr/>
          <p:nvPr/>
        </p:nvSpPr>
        <p:spPr>
          <a:xfrm>
            <a:off x="6408720" y="3435480"/>
            <a:ext cx="695520" cy="166680"/>
          </a:xfrm>
          <a:prstGeom prst="pie">
            <a:avLst/>
          </a:prstGeom>
          <a:solidFill>
            <a:srgbClr val="b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54"/>
          <p:cNvSpPr/>
          <p:nvPr/>
        </p:nvSpPr>
        <p:spPr>
          <a:xfrm>
            <a:off x="6408720" y="3602160"/>
            <a:ext cx="504720" cy="2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Freeform 55"/>
          <p:cNvSpPr/>
          <p:nvPr/>
        </p:nvSpPr>
        <p:spPr>
          <a:xfrm>
            <a:off x="6913440" y="3435480"/>
            <a:ext cx="190800" cy="419040"/>
          </a:xfrm>
          <a:prstGeom prst="pie">
            <a:avLst/>
          </a:pr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56"/>
          <p:cNvSpPr/>
          <p:nvPr/>
        </p:nvSpPr>
        <p:spPr>
          <a:xfrm>
            <a:off x="1903320" y="5322960"/>
            <a:ext cx="5010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57"/>
          <p:cNvSpPr/>
          <p:nvPr/>
        </p:nvSpPr>
        <p:spPr>
          <a:xfrm>
            <a:off x="1903320" y="5322960"/>
            <a:ext cx="180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58"/>
          <p:cNvSpPr/>
          <p:nvPr/>
        </p:nvSpPr>
        <p:spPr>
          <a:xfrm>
            <a:off x="2903400" y="5322960"/>
            <a:ext cx="180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59"/>
          <p:cNvSpPr/>
          <p:nvPr/>
        </p:nvSpPr>
        <p:spPr>
          <a:xfrm>
            <a:off x="3903840" y="5322960"/>
            <a:ext cx="144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60"/>
          <p:cNvSpPr/>
          <p:nvPr/>
        </p:nvSpPr>
        <p:spPr>
          <a:xfrm>
            <a:off x="4903920" y="5322960"/>
            <a:ext cx="144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61"/>
          <p:cNvSpPr/>
          <p:nvPr/>
        </p:nvSpPr>
        <p:spPr>
          <a:xfrm>
            <a:off x="5904000" y="5322960"/>
            <a:ext cx="144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62"/>
          <p:cNvSpPr/>
          <p:nvPr/>
        </p:nvSpPr>
        <p:spPr>
          <a:xfrm>
            <a:off x="6913440" y="5322960"/>
            <a:ext cx="180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63"/>
          <p:cNvSpPr/>
          <p:nvPr/>
        </p:nvSpPr>
        <p:spPr>
          <a:xfrm>
            <a:off x="1864800" y="5459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81700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65"/>
          <p:cNvSpPr/>
          <p:nvPr/>
        </p:nvSpPr>
        <p:spPr>
          <a:xfrm>
            <a:off x="381708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66"/>
          <p:cNvSpPr/>
          <p:nvPr/>
        </p:nvSpPr>
        <p:spPr>
          <a:xfrm>
            <a:off x="481752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67"/>
          <p:cNvSpPr/>
          <p:nvPr/>
        </p:nvSpPr>
        <p:spPr>
          <a:xfrm>
            <a:off x="581760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68"/>
          <p:cNvSpPr/>
          <p:nvPr/>
        </p:nvSpPr>
        <p:spPr>
          <a:xfrm>
            <a:off x="6788520" y="54594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69"/>
          <p:cNvSpPr/>
          <p:nvPr/>
        </p:nvSpPr>
        <p:spPr>
          <a:xfrm>
            <a:off x="186840" y="4869000"/>
            <a:ext cx="8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v.besni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70"/>
          <p:cNvSpPr/>
          <p:nvPr/>
        </p:nvSpPr>
        <p:spPr>
          <a:xfrm>
            <a:off x="160920" y="4221000"/>
            <a:ext cx="152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v.malih bogi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71"/>
          <p:cNvSpPr/>
          <p:nvPr/>
        </p:nvSpPr>
        <p:spPr>
          <a:xfrm>
            <a:off x="127080" y="3557520"/>
            <a:ext cx="169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bacil tuberkulo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72"/>
          <p:cNvSpPr/>
          <p:nvPr/>
        </p:nvSpPr>
        <p:spPr>
          <a:xfrm>
            <a:off x="7237440" y="3057480"/>
            <a:ext cx="1655640" cy="145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73"/>
          <p:cNvSpPr/>
          <p:nvPr/>
        </p:nvSpPr>
        <p:spPr>
          <a:xfrm>
            <a:off x="7304040" y="3151080"/>
            <a:ext cx="10476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74"/>
          <p:cNvSpPr/>
          <p:nvPr/>
        </p:nvSpPr>
        <p:spPr>
          <a:xfrm>
            <a:off x="7466400" y="3098880"/>
            <a:ext cx="106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inaparent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75"/>
          <p:cNvSpPr/>
          <p:nvPr/>
        </p:nvSpPr>
        <p:spPr>
          <a:xfrm>
            <a:off x="7304040" y="3435480"/>
            <a:ext cx="104760" cy="11412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76"/>
          <p:cNvSpPr/>
          <p:nvPr/>
        </p:nvSpPr>
        <p:spPr>
          <a:xfrm>
            <a:off x="7465680" y="3382920"/>
            <a:ext cx="37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bla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77"/>
          <p:cNvSpPr/>
          <p:nvPr/>
        </p:nvSpPr>
        <p:spPr>
          <a:xfrm>
            <a:off x="7304040" y="3718080"/>
            <a:ext cx="104760" cy="11556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78"/>
          <p:cNvSpPr/>
          <p:nvPr/>
        </p:nvSpPr>
        <p:spPr>
          <a:xfrm>
            <a:off x="7467480" y="36655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umereno tež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79"/>
          <p:cNvSpPr/>
          <p:nvPr/>
        </p:nvSpPr>
        <p:spPr>
          <a:xfrm>
            <a:off x="7304040" y="4000680"/>
            <a:ext cx="104760" cy="11556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80"/>
          <p:cNvSpPr/>
          <p:nvPr/>
        </p:nvSpPr>
        <p:spPr>
          <a:xfrm>
            <a:off x="7467840" y="3949560"/>
            <a:ext cx="132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težak nefata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81"/>
          <p:cNvSpPr/>
          <p:nvPr/>
        </p:nvSpPr>
        <p:spPr>
          <a:xfrm>
            <a:off x="7304040" y="4284720"/>
            <a:ext cx="104760" cy="114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82"/>
          <p:cNvSpPr/>
          <p:nvPr/>
        </p:nvSpPr>
        <p:spPr>
          <a:xfrm>
            <a:off x="7466400" y="423216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ta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Uobičajeni gradijent infekcij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menj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se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tokom vremen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lepra i sifilis su u prošlosti imale veoma tešku kliničku sliku).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Promene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zahvaljujući vakcinacij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male boginje kod vakcinisanih imaju blag oblik).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Različitost i u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pojedinim delovima svet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m. boginje u razvijenom svetu imaju blažu kliničku sliku i letalitet od 0.2-0.3%, tj 100 puta niže nego u zemljama u razvoju, posebno onde gde vlada neuhranjenost i nedostatak vitamina 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11280" y="333360"/>
            <a:ext cx="4824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Fenomen ledenog brega</a:t>
            </a:r>
            <a:br>
              <a:rPr sz="2400"/>
            </a:br>
            <a:br>
              <a:rPr sz="2400"/>
            </a:br>
            <a:br>
              <a:rPr sz="12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“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Fenomen ledenog breg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” označava odnos ukupnog obolevanja koji otkriva i ne otkriva zdravstvena služ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9610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13744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Naziva se i “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ajkulino peraj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” i “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uvo nilskog konj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7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8"/>
          <p:cNvSpPr/>
          <p:nvPr/>
        </p:nvSpPr>
        <p:spPr>
          <a:xfrm flipV="1">
            <a:off x="395280" y="4365720"/>
            <a:ext cx="3889440" cy="2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11280" y="4581360"/>
            <a:ext cx="3240000" cy="5432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15"/>
          <p:cNvSpPr/>
          <p:nvPr/>
        </p:nvSpPr>
        <p:spPr>
          <a:xfrm>
            <a:off x="1042920" y="5013360"/>
            <a:ext cx="3457800" cy="4651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468360" y="4797360"/>
            <a:ext cx="2879640" cy="660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17"/>
          <p:cNvSpPr/>
          <p:nvPr/>
        </p:nvSpPr>
        <p:spPr>
          <a:xfrm>
            <a:off x="755640" y="5589720"/>
            <a:ext cx="3672000" cy="6886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539640" y="5589720"/>
            <a:ext cx="3961080" cy="5950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Freeform 19"/>
          <p:cNvSpPr/>
          <p:nvPr/>
        </p:nvSpPr>
        <p:spPr>
          <a:xfrm>
            <a:off x="468360" y="4581360"/>
            <a:ext cx="3672000" cy="6321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Freeform 21"/>
          <p:cNvSpPr/>
          <p:nvPr/>
        </p:nvSpPr>
        <p:spPr>
          <a:xfrm>
            <a:off x="684360" y="4508640"/>
            <a:ext cx="3671640" cy="2602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22"/>
          <p:cNvSpPr/>
          <p:nvPr/>
        </p:nvSpPr>
        <p:spPr>
          <a:xfrm>
            <a:off x="900000" y="5013360"/>
            <a:ext cx="3024360" cy="7858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23"/>
          <p:cNvSpPr/>
          <p:nvPr/>
        </p:nvSpPr>
        <p:spPr>
          <a:xfrm>
            <a:off x="826920" y="5300640"/>
            <a:ext cx="3673800" cy="495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4788000" y="3573360"/>
            <a:ext cx="40669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Najveći broj obolelih ne biva evidentiran.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Najveći deo “podvodnog dela ledenog brega”:</a:t>
            </a:r>
            <a:br>
              <a:rPr sz="2800"/>
            </a:br>
            <a:br>
              <a:rPr sz="12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slučajevi koji nisu dospeli do lekara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(osobe sa lakšom kl. slikom ili blagom simptomatologijom koje nisu tražile pomoć)</a:t>
            </a:r>
            <a:br>
              <a:rPr sz="2800"/>
            </a:br>
            <a:br>
              <a:rPr sz="12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pregledani bolesnici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, ali im tačna dijagnoza nije postavljena ili nije zabeležen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Jednostavan epidemijski proces (morbil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1619280" y="2851200"/>
            <a:ext cx="28728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1619280" y="342756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1619280" y="4003560"/>
            <a:ext cx="2872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1619280" y="4579920"/>
            <a:ext cx="287280" cy="2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3851280" y="249084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3851280" y="306720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3851280" y="3643200"/>
            <a:ext cx="2872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3851280" y="4146480"/>
            <a:ext cx="287280" cy="2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3851280" y="479592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5580000" y="249084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5580000" y="3067200"/>
            <a:ext cx="28728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8"/>
          <p:cNvSpPr/>
          <p:nvPr/>
        </p:nvSpPr>
        <p:spPr>
          <a:xfrm>
            <a:off x="5580000" y="4146480"/>
            <a:ext cx="287280" cy="2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9"/>
          <p:cNvSpPr/>
          <p:nvPr/>
        </p:nvSpPr>
        <p:spPr>
          <a:xfrm>
            <a:off x="5580000" y="4795920"/>
            <a:ext cx="28728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7451640" y="249084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21"/>
          <p:cNvSpPr/>
          <p:nvPr/>
        </p:nvSpPr>
        <p:spPr>
          <a:xfrm>
            <a:off x="7451640" y="4003560"/>
            <a:ext cx="2872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6588000" y="29224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Osetljiva os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6443640" y="43639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Neosetljiva os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1763640" y="3141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1763640" y="37148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7"/>
          <p:cNvSpPr/>
          <p:nvPr/>
        </p:nvSpPr>
        <p:spPr>
          <a:xfrm>
            <a:off x="1763640" y="42908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 flipV="1">
            <a:off x="1908000" y="2634840"/>
            <a:ext cx="194328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9"/>
          <p:cNvSpPr/>
          <p:nvPr/>
        </p:nvSpPr>
        <p:spPr>
          <a:xfrm flipV="1">
            <a:off x="1908000" y="3211200"/>
            <a:ext cx="1943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0"/>
          <p:cNvSpPr/>
          <p:nvPr/>
        </p:nvSpPr>
        <p:spPr>
          <a:xfrm>
            <a:off x="1908000" y="3571920"/>
            <a:ext cx="1943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31"/>
          <p:cNvSpPr/>
          <p:nvPr/>
        </p:nvSpPr>
        <p:spPr>
          <a:xfrm>
            <a:off x="4140360" y="26352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>
            <a:off x="4140360" y="321156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 flipV="1">
            <a:off x="1908000" y="4290840"/>
            <a:ext cx="1943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34"/>
          <p:cNvSpPr/>
          <p:nvPr/>
        </p:nvSpPr>
        <p:spPr>
          <a:xfrm>
            <a:off x="1908000" y="4795920"/>
            <a:ext cx="19432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35"/>
          <p:cNvSpPr/>
          <p:nvPr/>
        </p:nvSpPr>
        <p:spPr>
          <a:xfrm>
            <a:off x="4140360" y="429084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36"/>
          <p:cNvSpPr/>
          <p:nvPr/>
        </p:nvSpPr>
        <p:spPr>
          <a:xfrm>
            <a:off x="4140360" y="493884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5876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cc00"/>
                </a:solidFill>
                <a:latin typeface="Arial"/>
              </a:rPr>
              <a:t>HVALA NA PAŽNJI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rcRect l="4207" t="2619" r="4607" b="10969"/>
          <a:stretch/>
        </p:blipFill>
        <p:spPr>
          <a:xfrm>
            <a:off x="2627280" y="0"/>
            <a:ext cx="374508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Komplikovan epidemijski pro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glodar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hr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Rezervo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zaraze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vektor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čovek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čov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(divlji glodar)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(put prenošenja)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v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1979640" y="3933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3203640" y="3284640"/>
            <a:ext cx="2305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5940360" y="2781360"/>
            <a:ext cx="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7307280" y="3933720"/>
            <a:ext cx="360360" cy="3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6443640" y="33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 flipV="1">
            <a:off x="8172360" y="3933360"/>
            <a:ext cx="360360" cy="3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8604360" y="3500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8820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 flipV="1">
            <a:off x="8532720" y="3499920"/>
            <a:ext cx="28728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640" y="1196640"/>
            <a:ext cx="71294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Za nastanak bolesti su odgovorni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    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odnosi koji vladaju između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agensa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  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domaćina 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sred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ahoma"/>
                <a:ea typeface="Tahoma"/>
              </a:rPr>
              <a:t>Ti odnosi se mogu šematizovano prikazati kao modeli nastanka bolesti:</a:t>
            </a:r>
            <a:br>
              <a:rPr sz="3200"/>
            </a:br>
            <a:br>
              <a:rPr sz="1000"/>
            </a:b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- Model 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ekološkog trijasa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  <a:ea typeface="Tahoma"/>
              </a:rPr>
              <a:t>(Gordonov trijas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ahoma"/>
              </a:rPr>
              <a:t>, model terazija, model klackalic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br>
              <a:rPr sz="1800"/>
            </a:br>
            <a:br>
              <a:rPr sz="18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- Model 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lanca</a:t>
            </a:r>
            <a:br>
              <a:rPr sz="3200"/>
            </a:br>
            <a:br>
              <a:rPr sz="1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- Model 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točka</a:t>
            </a:r>
            <a:br>
              <a:rPr sz="3200"/>
            </a:br>
            <a:br>
              <a:rPr sz="1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- Model 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mreže uzro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2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Model ekološkog trijas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 (Gordonov trijas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Sred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Agens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Domać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3933720"/>
            <a:ext cx="2592360" cy="15130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06:17:37Z</dcterms:created>
  <dc:creator>Z V</dc:creator>
  <dc:description/>
  <dc:language>en-US</dc:language>
  <cp:lastModifiedBy>zoran velickovic</cp:lastModifiedBy>
  <dcterms:modified xsi:type="dcterms:W3CDTF">2013-12-27T07:16:47Z</dcterms:modified>
  <cp:revision>166</cp:revision>
  <dc:subject/>
  <dc:title>EPIDEMIOLOGIJA ZARAZNIH BOLESTI</dc:title>
</cp:coreProperties>
</file>