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BF8-0426-4C4D-806C-5A35C0CF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E50-07DF-4F83-87C7-382DA3B0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BD4-D0CE-49D8-BAA0-B3155A31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8F2-61F5-4B6B-9376-A52E07B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FEC6-40F9-4880-824A-E6C0C3DD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FE82-26D7-423A-BC8D-06B4E57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2899-541F-4B4F-BBA7-8E64FC6E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A63A-EFE3-4B12-9892-601B5FB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34E9-261D-4650-9DED-9DD2E2F7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8531-0BAC-4282-A365-8947EFE8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E0C3-B80C-4162-A514-3250BDA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609-9357-4399-89E4-EA7D0D72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9B6-9A1C-4E8F-A9E1-02C5A77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878B-CDCB-44B6-B9D3-664700C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0CE-2CE9-43FF-8945-31CC6C53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31AA-E672-410B-AB19-57C22C5B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A71C-29A1-4F0C-AC43-FC2E09FC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9CB-E856-42B6-B62B-F3ECFE46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1C6-C3F8-4B50-8362-CDAF12F6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58E-3928-4CB9-B223-3D08E384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528-608A-47A5-B273-9622CAF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99C-A0DB-4ED8-BA50-F6FD2B0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F52-3E42-48D5-BE3F-5F81B182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E81-67B7-4FDB-987C-80CD9603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482A-34E5-4AE2-9C82-D3A3F268F4C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884A-C6FE-41BA-AE5B-34F2A037FCB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02920" y="4005000"/>
            <a:ext cx="5256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Prof. dr </a:t>
            </a:r>
            <a:r>
              <a:rPr b="1" i="1" lang="sr-Latn-CS" sz="3000" spc="-1" strike="noStrike">
                <a:solidFill>
                  <a:srgbClr val="ffff00"/>
                </a:solidFill>
                <a:latin typeface="Times New Roman"/>
              </a:rPr>
              <a:t>Zoran Veličkovi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49040" y="1701360"/>
            <a:ext cx="889308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ahoma"/>
                <a:ea typeface="Tahoma"/>
              </a:rPr>
              <a:t>EPIDEMIOLOGIJA ZARAZNIH BOLES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2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odel ekološkog trijas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 model terazija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model klackal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gens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omać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r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1619280" y="4508640"/>
            <a:ext cx="619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2556000" y="393372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659640" y="393372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4500720" y="465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Model toč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Diagram 5"/>
          <p:cNvGrpSpPr/>
          <p:nvPr/>
        </p:nvGrpSpPr>
        <p:grpSpPr>
          <a:xfrm>
            <a:off x="488880" y="1857240"/>
            <a:ext cx="6151680" cy="2829240"/>
            <a:chOff x="488880" y="1857240"/>
            <a:chExt cx="6151680" cy="2829240"/>
          </a:xfrm>
        </p:grpSpPr>
        <p:sp>
          <p:nvSpPr>
            <p:cNvPr id="222" name="_s1028"/>
            <p:cNvSpPr/>
            <p:nvPr/>
          </p:nvSpPr>
          <p:spPr>
            <a:xfrm>
              <a:off x="3297240" y="3143160"/>
              <a:ext cx="1542960" cy="1543320"/>
            </a:xfrm>
            <a:prstGeom prst="donut">
              <a:avLst>
                <a:gd name="adj" fmla="val 25000"/>
              </a:avLst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6022800" y="25430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Biološ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>
              <a:off x="3683160" y="3529080"/>
              <a:ext cx="771480" cy="7714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6022800" y="18572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Čovek (genetski potencija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488880" y="2997360"/>
              <a:ext cx="215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Fizičko-himijs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 flipV="1">
              <a:off x="3419280" y="3500280"/>
              <a:ext cx="29844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7"/>
            <p:cNvSpPr/>
            <p:nvPr/>
          </p:nvSpPr>
          <p:spPr>
            <a:xfrm flipV="1">
              <a:off x="4417920" y="3500280"/>
              <a:ext cx="28908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V="1">
              <a:off x="4067280" y="4306680"/>
              <a:ext cx="144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Line 18"/>
          <p:cNvSpPr/>
          <p:nvPr/>
        </p:nvSpPr>
        <p:spPr>
          <a:xfrm flipH="1">
            <a:off x="1835280" y="414972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 flipH="1">
            <a:off x="2627280" y="335772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539640" y="378936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ocijalna sred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Model lan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4427640" y="1987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2987640" y="313992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363528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529272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5940360" y="3211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211640" y="25639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 flipH="1">
            <a:off x="3347640" y="2301840"/>
            <a:ext cx="1079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3254400" y="3584520"/>
            <a:ext cx="50472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4067280" y="5156280"/>
            <a:ext cx="122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5592600" y="3642840"/>
            <a:ext cx="505080" cy="129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 flipV="1">
            <a:off x="4859280" y="2276640"/>
            <a:ext cx="115272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797200" y="1357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389640" y="3122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ut šir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5580000" y="4869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5869080" y="50022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lazna i izlazna v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684360" y="50022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ličina i virulencija k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565200" y="287496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ispozicija i imunit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095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reža uzročnosti ishemijske bolesti sr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4211640" y="2637000"/>
            <a:ext cx="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5580000" y="4941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406728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AutoShape 21"/>
          <p:cNvCxnSpPr>
            <a:stCxn id="253" idx="0"/>
            <a:endCxn id="253" idx="0"/>
          </p:cNvCxnSpPr>
          <p:nvPr/>
        </p:nvCxnSpPr>
        <p:spPr>
          <a:xfrm>
            <a:off x="4725720" y="1341000"/>
            <a:ext cx="10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58" name="Line 22"/>
          <p:cNvSpPr/>
          <p:nvPr/>
        </p:nvSpPr>
        <p:spPr>
          <a:xfrm flipH="1">
            <a:off x="3919680" y="3208320"/>
            <a:ext cx="28728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3919680" y="363996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3924360" y="4076640"/>
            <a:ext cx="7128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3995640" y="4365720"/>
            <a:ext cx="360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4356000" y="458136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27"/>
          <p:cNvSpPr/>
          <p:nvPr/>
        </p:nvSpPr>
        <p:spPr>
          <a:xfrm flipV="1">
            <a:off x="4716360" y="4436640"/>
            <a:ext cx="360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V="1">
            <a:off x="5076720" y="3933720"/>
            <a:ext cx="1429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0"/>
          <p:cNvSpPr/>
          <p:nvPr/>
        </p:nvSpPr>
        <p:spPr>
          <a:xfrm flipH="1" flipV="1">
            <a:off x="5148360" y="3357720"/>
            <a:ext cx="7128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 flipV="1">
            <a:off x="4211640" y="3141720"/>
            <a:ext cx="57636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 flipH="1" flipV="1">
            <a:off x="4787640" y="3141720"/>
            <a:ext cx="36036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 flipV="1">
            <a:off x="4788000" y="1628280"/>
            <a:ext cx="792000" cy="15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 flipV="1">
            <a:off x="5148360" y="2205000"/>
            <a:ext cx="1800000" cy="115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8"/>
          <p:cNvSpPr/>
          <p:nvPr/>
        </p:nvSpPr>
        <p:spPr>
          <a:xfrm flipV="1">
            <a:off x="5195880" y="3279240"/>
            <a:ext cx="22320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5219640" y="3933720"/>
            <a:ext cx="252108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5067360" y="4437000"/>
            <a:ext cx="201600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716360" y="4581360"/>
            <a:ext cx="216000" cy="194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2"/>
          <p:cNvSpPr/>
          <p:nvPr/>
        </p:nvSpPr>
        <p:spPr>
          <a:xfrm flipH="1">
            <a:off x="3564000" y="4581360"/>
            <a:ext cx="792000" cy="17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3"/>
          <p:cNvSpPr/>
          <p:nvPr/>
        </p:nvSpPr>
        <p:spPr>
          <a:xfrm flipH="1">
            <a:off x="2050920" y="4365720"/>
            <a:ext cx="1944720" cy="115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4"/>
          <p:cNvSpPr/>
          <p:nvPr/>
        </p:nvSpPr>
        <p:spPr>
          <a:xfrm flipH="1">
            <a:off x="1547640" y="4071960"/>
            <a:ext cx="237672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5"/>
          <p:cNvSpPr/>
          <p:nvPr/>
        </p:nvSpPr>
        <p:spPr>
          <a:xfrm flipH="1" flipV="1">
            <a:off x="1547640" y="2924280"/>
            <a:ext cx="237672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6"/>
          <p:cNvSpPr/>
          <p:nvPr/>
        </p:nvSpPr>
        <p:spPr>
          <a:xfrm flipH="1" flipV="1">
            <a:off x="3058920" y="1268280"/>
            <a:ext cx="115236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7"/>
          <p:cNvSpPr/>
          <p:nvPr/>
        </p:nvSpPr>
        <p:spPr>
          <a:xfrm flipV="1">
            <a:off x="4500720" y="1306440"/>
            <a:ext cx="0" cy="1873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8"/>
          <p:cNvSpPr/>
          <p:nvPr/>
        </p:nvSpPr>
        <p:spPr>
          <a:xfrm flipH="1" flipV="1">
            <a:off x="1945800" y="1877760"/>
            <a:ext cx="2087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50"/>
          <p:cNvSpPr/>
          <p:nvPr/>
        </p:nvSpPr>
        <p:spPr>
          <a:xfrm flipV="1">
            <a:off x="4086360" y="2852280"/>
            <a:ext cx="414360" cy="13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4500720" y="285264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4937040" y="2847960"/>
            <a:ext cx="498600" cy="31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53"/>
          <p:cNvSpPr/>
          <p:nvPr/>
        </p:nvSpPr>
        <p:spPr>
          <a:xfrm>
            <a:off x="5435640" y="3174840"/>
            <a:ext cx="7308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08720" y="3602160"/>
            <a:ext cx="0" cy="40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55"/>
          <p:cNvSpPr/>
          <p:nvPr/>
        </p:nvSpPr>
        <p:spPr>
          <a:xfrm flipH="1">
            <a:off x="5345280" y="4005360"/>
            <a:ext cx="16344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56"/>
          <p:cNvSpPr/>
          <p:nvPr/>
        </p:nvSpPr>
        <p:spPr>
          <a:xfrm flipH="1">
            <a:off x="4764240" y="4638600"/>
            <a:ext cx="57600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57"/>
          <p:cNvSpPr/>
          <p:nvPr/>
        </p:nvSpPr>
        <p:spPr>
          <a:xfrm flipH="1">
            <a:off x="4197240" y="4932360"/>
            <a:ext cx="547920" cy="9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58"/>
          <p:cNvSpPr/>
          <p:nvPr/>
        </p:nvSpPr>
        <p:spPr>
          <a:xfrm flipH="1" flipV="1">
            <a:off x="3634920" y="4581000"/>
            <a:ext cx="5526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59"/>
          <p:cNvSpPr/>
          <p:nvPr/>
        </p:nvSpPr>
        <p:spPr>
          <a:xfrm flipH="1" flipV="1">
            <a:off x="3487320" y="4080960"/>
            <a:ext cx="142920" cy="50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60"/>
          <p:cNvSpPr/>
          <p:nvPr/>
        </p:nvSpPr>
        <p:spPr>
          <a:xfrm flipV="1">
            <a:off x="3487680" y="352116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61"/>
          <p:cNvSpPr/>
          <p:nvPr/>
        </p:nvSpPr>
        <p:spPr>
          <a:xfrm flipV="1">
            <a:off x="3492360" y="3218040"/>
            <a:ext cx="21600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2"/>
          <p:cNvSpPr/>
          <p:nvPr/>
        </p:nvSpPr>
        <p:spPr>
          <a:xfrm flipV="1">
            <a:off x="3708360" y="2997000"/>
            <a:ext cx="35892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64"/>
          <p:cNvSpPr/>
          <p:nvPr/>
        </p:nvSpPr>
        <p:spPr>
          <a:xfrm flipV="1">
            <a:off x="3924360" y="2565000"/>
            <a:ext cx="576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65"/>
          <p:cNvSpPr/>
          <p:nvPr/>
        </p:nvSpPr>
        <p:spPr>
          <a:xfrm>
            <a:off x="4500720" y="2565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6"/>
          <p:cNvSpPr/>
          <p:nvPr/>
        </p:nvSpPr>
        <p:spPr>
          <a:xfrm>
            <a:off x="5076720" y="2565360"/>
            <a:ext cx="579600" cy="45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67"/>
          <p:cNvSpPr/>
          <p:nvPr/>
        </p:nvSpPr>
        <p:spPr>
          <a:xfrm>
            <a:off x="5664240" y="3038400"/>
            <a:ext cx="131760" cy="495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68"/>
          <p:cNvSpPr/>
          <p:nvPr/>
        </p:nvSpPr>
        <p:spPr>
          <a:xfrm flipH="1">
            <a:off x="5795640" y="3546360"/>
            <a:ext cx="4680" cy="52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69"/>
          <p:cNvSpPr/>
          <p:nvPr/>
        </p:nvSpPr>
        <p:spPr>
          <a:xfrm flipH="1">
            <a:off x="5580000" y="4076640"/>
            <a:ext cx="21600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70"/>
          <p:cNvSpPr/>
          <p:nvPr/>
        </p:nvSpPr>
        <p:spPr>
          <a:xfrm flipH="1">
            <a:off x="4788000" y="4797360"/>
            <a:ext cx="79200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71"/>
          <p:cNvSpPr/>
          <p:nvPr/>
        </p:nvSpPr>
        <p:spPr>
          <a:xfrm flipH="1">
            <a:off x="3995280" y="5300640"/>
            <a:ext cx="79236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2"/>
          <p:cNvSpPr/>
          <p:nvPr/>
        </p:nvSpPr>
        <p:spPr>
          <a:xfrm flipH="1">
            <a:off x="3419640" y="2708280"/>
            <a:ext cx="50472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73"/>
          <p:cNvSpPr/>
          <p:nvPr/>
        </p:nvSpPr>
        <p:spPr>
          <a:xfrm flipH="1">
            <a:off x="3133800" y="3002040"/>
            <a:ext cx="285840" cy="393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74"/>
          <p:cNvSpPr/>
          <p:nvPr/>
        </p:nvSpPr>
        <p:spPr>
          <a:xfrm>
            <a:off x="3127320" y="340524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75"/>
          <p:cNvSpPr/>
          <p:nvPr/>
        </p:nvSpPr>
        <p:spPr>
          <a:xfrm>
            <a:off x="3127320" y="4129200"/>
            <a:ext cx="149400" cy="668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76"/>
          <p:cNvSpPr/>
          <p:nvPr/>
        </p:nvSpPr>
        <p:spPr>
          <a:xfrm>
            <a:off x="3276720" y="4797360"/>
            <a:ext cx="71892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77"/>
          <p:cNvSpPr/>
          <p:nvPr/>
        </p:nvSpPr>
        <p:spPr>
          <a:xfrm flipV="1">
            <a:off x="3492360" y="1773000"/>
            <a:ext cx="1008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8"/>
          <p:cNvSpPr/>
          <p:nvPr/>
        </p:nvSpPr>
        <p:spPr>
          <a:xfrm>
            <a:off x="4500720" y="1773360"/>
            <a:ext cx="934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9"/>
          <p:cNvSpPr/>
          <p:nvPr/>
        </p:nvSpPr>
        <p:spPr>
          <a:xfrm flipH="1">
            <a:off x="2776680" y="1989000"/>
            <a:ext cx="715680" cy="51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80"/>
          <p:cNvSpPr/>
          <p:nvPr/>
        </p:nvSpPr>
        <p:spPr>
          <a:xfrm flipH="1">
            <a:off x="2555640" y="2517840"/>
            <a:ext cx="215640" cy="71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81"/>
          <p:cNvSpPr/>
          <p:nvPr/>
        </p:nvSpPr>
        <p:spPr>
          <a:xfrm>
            <a:off x="2556000" y="3227400"/>
            <a:ext cx="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82"/>
          <p:cNvSpPr/>
          <p:nvPr/>
        </p:nvSpPr>
        <p:spPr>
          <a:xfrm>
            <a:off x="2556000" y="4149720"/>
            <a:ext cx="215640" cy="93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83"/>
          <p:cNvSpPr/>
          <p:nvPr/>
        </p:nvSpPr>
        <p:spPr>
          <a:xfrm>
            <a:off x="2771640" y="5084640"/>
            <a:ext cx="92736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84"/>
          <p:cNvSpPr/>
          <p:nvPr/>
        </p:nvSpPr>
        <p:spPr>
          <a:xfrm flipV="1">
            <a:off x="3708360" y="5950080"/>
            <a:ext cx="11606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85"/>
          <p:cNvSpPr/>
          <p:nvPr/>
        </p:nvSpPr>
        <p:spPr>
          <a:xfrm flipV="1">
            <a:off x="4859280" y="5216400"/>
            <a:ext cx="130968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86"/>
          <p:cNvSpPr/>
          <p:nvPr/>
        </p:nvSpPr>
        <p:spPr>
          <a:xfrm flipV="1">
            <a:off x="6168960" y="4202280"/>
            <a:ext cx="34776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87"/>
          <p:cNvSpPr/>
          <p:nvPr/>
        </p:nvSpPr>
        <p:spPr>
          <a:xfrm>
            <a:off x="5435640" y="1916280"/>
            <a:ext cx="8650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88"/>
          <p:cNvSpPr/>
          <p:nvPr/>
        </p:nvSpPr>
        <p:spPr>
          <a:xfrm>
            <a:off x="6300720" y="2637000"/>
            <a:ext cx="216000" cy="79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6516720" y="3429000"/>
            <a:ext cx="0" cy="758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0"/>
          <p:cNvSpPr/>
          <p:nvPr/>
        </p:nvSpPr>
        <p:spPr>
          <a:xfrm>
            <a:off x="5148360" y="12016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ehanizmi zgrušavanja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91"/>
          <p:cNvSpPr/>
          <p:nvPr/>
        </p:nvSpPr>
        <p:spPr>
          <a:xfrm>
            <a:off x="6859440" y="18018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epoznati fak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2"/>
          <p:cNvSpPr/>
          <p:nvPr/>
        </p:nvSpPr>
        <p:spPr>
          <a:xfrm>
            <a:off x="752472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7524720" y="4221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shr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94"/>
          <p:cNvSpPr/>
          <p:nvPr/>
        </p:nvSpPr>
        <p:spPr>
          <a:xfrm>
            <a:off x="6986520" y="5661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rvni priti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95"/>
          <p:cNvSpPr/>
          <p:nvPr/>
        </p:nvSpPr>
        <p:spPr>
          <a:xfrm>
            <a:off x="4788000" y="62420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Fizička ak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96"/>
          <p:cNvSpPr/>
          <p:nvPr/>
        </p:nvSpPr>
        <p:spPr>
          <a:xfrm>
            <a:off x="2484360" y="63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nfek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97"/>
          <p:cNvSpPr/>
          <p:nvPr/>
        </p:nvSpPr>
        <p:spPr>
          <a:xfrm>
            <a:off x="101520" y="56484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enetska sklo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98"/>
          <p:cNvSpPr/>
          <p:nvPr/>
        </p:nvSpPr>
        <p:spPr>
          <a:xfrm>
            <a:off x="103320" y="4379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asti u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99"/>
          <p:cNvSpPr/>
          <p:nvPr/>
        </p:nvSpPr>
        <p:spPr>
          <a:xfrm>
            <a:off x="339840" y="2924280"/>
            <a:ext cx="12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00"/>
          <p:cNvSpPr/>
          <p:nvPr/>
        </p:nvSpPr>
        <p:spPr>
          <a:xfrm>
            <a:off x="179280" y="25178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uše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01"/>
          <p:cNvSpPr/>
          <p:nvPr/>
        </p:nvSpPr>
        <p:spPr>
          <a:xfrm>
            <a:off x="684360" y="14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zr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02"/>
          <p:cNvSpPr/>
          <p:nvPr/>
        </p:nvSpPr>
        <p:spPr>
          <a:xfrm>
            <a:off x="1712880" y="76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ekov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03"/>
          <p:cNvSpPr/>
          <p:nvPr/>
        </p:nvSpPr>
        <p:spPr>
          <a:xfrm>
            <a:off x="3381480" y="692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sihosocijaln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A</a:t>
            </a: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gens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biološk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virusi, bakterije, rikecije, gljivice, protozoe 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višećelijski paraziti)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fizičk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mehanički, toplotni, jonizujući, ostali - sniženi il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sr-Latn-R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ovišeni atmosfersk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ritisak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– visinska ili kesonska bolest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hemijsk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metabolički ili endogeni, egzogeni hemijski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utritivni)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sihološk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retnje, ucene, poniženja, mobing)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fiziološka stan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ubertet, menstruacija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44704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D</a:t>
            </a: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omaćin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nasleđe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 uzrast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 pol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 prethodna bolest (stanje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 rasna, nacionalna i verska pripadnost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 bračno stanje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 obrazovni nivo, zanimanje i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socijalno – ekonomski položaj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 način života i ponašanj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Životna sredina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buhvata sveukupnost spoljnih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činilaca žive i nežive prirode koji deluju na određenu jedinku ili ekološku zajednicu</a:t>
            </a:r>
            <a:br>
              <a:rPr sz="36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abiotska ili geofizička sredin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obuhvata sve ono što čini neživu prirodu)</a:t>
            </a: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biotska ili biološko – socijalna sredin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redstavljaju živa bića i odnosi koje ona međusobno uslovljavaju)</a:t>
            </a: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ekosistem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čine sva živa bića uz činioce nežive prir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Infektivni agen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3200"/>
            </a:br>
            <a:br>
              <a:rPr sz="8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strogi (obligantni) parazit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m. boginje, epid. meningit,  polne inf. (gonoreja, sifilis), besnilo itd.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ostaju neko vreme izvan, ali se ne razmnožavaju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velike i ovče boginje, tuberkuloza, difterija, šarlah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ostaju živi i mogu se razmnožavat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trb. tifus, kolera, bacilarna dizenterija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često se nalaze izvan organizm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stafilokok, streptokok itd.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5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prelaze u otporne oblik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spore (tetanus, botulizam, gasna gangrena, antraks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patogeno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 (sposobnost agensa da izazove manifestnu bolest)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klinički oboleli (O) /agensu izloženi osetljivi (I) = O/I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infektivno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sposobnost prodiranja, održavanja i raznmožavanja) – lakoća kojom se bolest prenosi – kontagioznost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zaraženi (Z) / izloženi osetljivi (I) = Z/I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virulenc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– stepen patogenosti odnosno sposobnost agensa da izazove manifestnu bolest u inficiranom domaćinu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klinički oboleli (O) / ukupni broj zaraženih (Z) = O/Z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Faktori virulencije</a:t>
            </a:r>
            <a:br>
              <a:rPr sz="3200"/>
            </a:br>
            <a:br>
              <a:rPr sz="1000"/>
            </a:b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invazivno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oni koji agensu omogućuju adherenciju (prijanjanja) na tkiva, prodiranja u njih, razmnožavanje i širenje 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toksično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– izazivaju oštećenja tkiva domaćina pod dejstvom toksin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32000" y="1413000"/>
            <a:ext cx="662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99cc"/>
                </a:solidFill>
                <a:latin typeface="Tahoma"/>
                <a:ea typeface="Tahoma"/>
              </a:rPr>
              <a:t>EPIDEMIJSKI PRO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Proces </a:t>
            </a: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pojav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 bolesti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njeno </a:t>
            </a: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širenj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održavanj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 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nestajanj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 u populaciji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EPIDEMIOLOGIJA ZARAZNIH BOLES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I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nfektivna doza ili inokulum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39640" y="1600200"/>
          <a:ext cx="8147160" cy="4513320"/>
        </p:xfrm>
        <a:graphic>
          <a:graphicData uri="http://schemas.openxmlformats.org/drawingml/2006/table">
            <a:tbl>
              <a:tblPr/>
              <a:tblGrid>
                <a:gridCol w="403236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Bol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Minimalan broj kl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rbušni tif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lmonelozno trovanje hran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 – 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cilarna dizenter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≤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riptosporidij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-2 ci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8013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Prirodni (hronološki) tok zarazne bolesti:</a:t>
            </a:r>
            <a:br>
              <a:rPr sz="3200"/>
            </a:br>
            <a:br>
              <a:rPr sz="2800"/>
            </a:br>
            <a:r>
              <a:rPr b="0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- inkubacio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- prodromal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- inkrement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- period </a:t>
            </a:r>
            <a:r>
              <a:rPr b="1" i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acmis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 ili </a:t>
            </a:r>
            <a:r>
              <a:rPr b="1" i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akme</a:t>
            </a:r>
            <a:br>
              <a:rPr sz="3200"/>
            </a:br>
            <a:r>
              <a:rPr b="1" i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i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i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dekrement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- period rekonvalescen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Spektar bolesti</a:t>
            </a:r>
            <a:r>
              <a:rPr b="0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je raspon njenog mogućeg ispoljavanja, od najblažih do najtežih oblika. Taj spektar se zove i </a:t>
            </a: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gradijent infekcije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, a definiše se kao odgovor domaćina na infekciju, koji se kreće od inaparentne do fatalne bolesti (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raspon kliničkih manifestacija bolest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)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Izloženost, inficiranost i spektar bolesti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(odn. Gradijent infekcije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68360" y="1612800"/>
          <a:ext cx="8218440" cy="3770280"/>
        </p:xfrm>
        <a:graphic>
          <a:graphicData uri="http://schemas.openxmlformats.org/drawingml/2006/table">
            <a:tbl>
              <a:tblPr/>
              <a:tblGrid>
                <a:gridCol w="1027080"/>
                <a:gridCol w="1131840"/>
                <a:gridCol w="922320"/>
                <a:gridCol w="1028880"/>
                <a:gridCol w="1027080"/>
                <a:gridCol w="1054080"/>
                <a:gridCol w="1000080"/>
                <a:gridCol w="1027080"/>
              </a:tblGrid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zlo-že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izlož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zlož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-ra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ktar bolesti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pa-rent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linički ispoljen (manifesta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eren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ž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ta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Na težinu kliničkog ispoljavanja utiču i:</a:t>
            </a:r>
            <a:br>
              <a:rPr sz="36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virulencij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soj odnosno biotip uzročnik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klasični tip   v. kolere izaziva teži klinički oblik kolere)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uzrast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obolelih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prisustvo nekog drugog poremećaja zdravlj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grip teže podnose osobe sa nekim hroničnim obolenj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Za podrobnije razumevanje gradijenta infekcije treba definisati infekciju.</a:t>
            </a:r>
            <a:br>
              <a:rPr sz="2400"/>
            </a:br>
            <a:br>
              <a:rPr sz="2400"/>
            </a:b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Infekcija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redstavlja prodiranje, održavanje i razmnožavanje infektivnog agensa u organizmu čoveka ili životinje.</a:t>
            </a:r>
            <a:br>
              <a:rPr sz="900"/>
            </a:br>
            <a:r>
              <a:rPr b="1" lang="sr-Latn-CS" sz="9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9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Ona nije što i infektivna bolest. </a:t>
            </a:r>
            <a:br>
              <a:rPr sz="2400"/>
            </a:br>
            <a:br>
              <a:rPr sz="9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Infekcija može biti inaparentna i manifestn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2800"/>
            </a:b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Inaparentna infekcij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se odlikuje odsustvom subjektivnih (simptomi) i objektivnih (znaci) manifestacija bolesti. To su stanja poznata kao latentne, bezsimptomne, zbrisane, skrivene, neprimetne, neme ili supkliničke infekcije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Mada </a:t>
            </a:r>
            <a:r>
              <a:rPr b="1" i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prividno zdrave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takve osobe predstavljaju veliku epidemiološku opasnost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Manifestna infek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predstavlja uočljiv, tj. klinički manje ili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više jasno izražen oblik bolesti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Jedna ista bolest može imati različite kliničke manifestacije bolesti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Oni se obeležavaju kao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blag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lak),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umere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umereno težak),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težak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i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fatala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Gradijent infekcije u zavisnosti od uzročnika 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                 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Izvor: Mausner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&amp; Krame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395280" y="155736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Freeform 8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9"/>
          <p:cNvSpPr/>
          <p:nvPr/>
        </p:nvSpPr>
        <p:spPr>
          <a:xfrm>
            <a:off x="1903320" y="5154480"/>
            <a:ext cx="5200920" cy="168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reeform 11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reeform 12"/>
          <p:cNvSpPr/>
          <p:nvPr/>
        </p:nvSpPr>
        <p:spPr>
          <a:xfrm>
            <a:off x="2903400" y="1967040"/>
            <a:ext cx="20016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Freeform 13"/>
          <p:cNvSpPr/>
          <p:nvPr/>
        </p:nvSpPr>
        <p:spPr>
          <a:xfrm>
            <a:off x="390384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14"/>
          <p:cNvSpPr/>
          <p:nvPr/>
        </p:nvSpPr>
        <p:spPr>
          <a:xfrm>
            <a:off x="490392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590400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6913440" y="1967040"/>
            <a:ext cx="190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1903320" y="5154480"/>
            <a:ext cx="5200920" cy="168480"/>
          </a:xfrm>
          <a:prstGeom prst="pi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reeform 20"/>
          <p:cNvSpPr/>
          <p:nvPr/>
        </p:nvSpPr>
        <p:spPr>
          <a:xfrm>
            <a:off x="1903320" y="4714920"/>
            <a:ext cx="542880" cy="15696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1903320" y="4871880"/>
            <a:ext cx="343080" cy="26208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22"/>
          <p:cNvSpPr/>
          <p:nvPr/>
        </p:nvSpPr>
        <p:spPr>
          <a:xfrm>
            <a:off x="2246400" y="4714920"/>
            <a:ext cx="19980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23"/>
          <p:cNvSpPr/>
          <p:nvPr/>
        </p:nvSpPr>
        <p:spPr>
          <a:xfrm>
            <a:off x="2246400" y="4714920"/>
            <a:ext cx="4857840" cy="15696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2246400" y="4871880"/>
            <a:ext cx="466704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25"/>
          <p:cNvSpPr/>
          <p:nvPr/>
        </p:nvSpPr>
        <p:spPr>
          <a:xfrm>
            <a:off x="6913440" y="471492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Freeform 26"/>
          <p:cNvSpPr/>
          <p:nvPr/>
        </p:nvSpPr>
        <p:spPr>
          <a:xfrm>
            <a:off x="1903320" y="4075200"/>
            <a:ext cx="447840" cy="166680"/>
          </a:xfrm>
          <a:prstGeom prst="pie">
            <a:avLst/>
          </a:pr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1903320" y="4241880"/>
            <a:ext cx="24768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8"/>
          <p:cNvSpPr/>
          <p:nvPr/>
        </p:nvSpPr>
        <p:spPr>
          <a:xfrm>
            <a:off x="2151000" y="4075200"/>
            <a:ext cx="200160" cy="41904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29"/>
          <p:cNvSpPr/>
          <p:nvPr/>
        </p:nvSpPr>
        <p:spPr>
          <a:xfrm>
            <a:off x="2151000" y="4075200"/>
            <a:ext cx="600120" cy="166680"/>
          </a:xfrm>
          <a:prstGeom prst="pie">
            <a:avLst/>
          </a:pr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2151000" y="4241880"/>
            <a:ext cx="39996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31"/>
          <p:cNvSpPr/>
          <p:nvPr/>
        </p:nvSpPr>
        <p:spPr>
          <a:xfrm>
            <a:off x="2550960" y="4075200"/>
            <a:ext cx="200160" cy="419040"/>
          </a:xfrm>
          <a:prstGeom prst="pie">
            <a:avLst/>
          </a:pr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32"/>
          <p:cNvSpPr/>
          <p:nvPr/>
        </p:nvSpPr>
        <p:spPr>
          <a:xfrm>
            <a:off x="2550960" y="4075200"/>
            <a:ext cx="2705400" cy="166680"/>
          </a:xfrm>
          <a:prstGeom prst="pie">
            <a:avLst/>
          </a:pr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33"/>
          <p:cNvSpPr/>
          <p:nvPr/>
        </p:nvSpPr>
        <p:spPr>
          <a:xfrm>
            <a:off x="2550960" y="4241880"/>
            <a:ext cx="250524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34"/>
          <p:cNvSpPr/>
          <p:nvPr/>
        </p:nvSpPr>
        <p:spPr>
          <a:xfrm>
            <a:off x="5056200" y="4075200"/>
            <a:ext cx="200160" cy="419040"/>
          </a:xfrm>
          <a:prstGeom prst="pie">
            <a:avLst/>
          </a:pr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35"/>
          <p:cNvSpPr/>
          <p:nvPr/>
        </p:nvSpPr>
        <p:spPr>
          <a:xfrm>
            <a:off x="5056200" y="4075200"/>
            <a:ext cx="1447920" cy="16668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36"/>
          <p:cNvSpPr/>
          <p:nvPr/>
        </p:nvSpPr>
        <p:spPr>
          <a:xfrm>
            <a:off x="5056200" y="4241880"/>
            <a:ext cx="12571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Freeform 37"/>
          <p:cNvSpPr/>
          <p:nvPr/>
        </p:nvSpPr>
        <p:spPr>
          <a:xfrm>
            <a:off x="6313320" y="4075200"/>
            <a:ext cx="19080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38"/>
          <p:cNvSpPr/>
          <p:nvPr/>
        </p:nvSpPr>
        <p:spPr>
          <a:xfrm>
            <a:off x="6313320" y="4075200"/>
            <a:ext cx="790920" cy="16668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9"/>
          <p:cNvSpPr/>
          <p:nvPr/>
        </p:nvSpPr>
        <p:spPr>
          <a:xfrm>
            <a:off x="6313320" y="4241880"/>
            <a:ext cx="6001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40"/>
          <p:cNvSpPr/>
          <p:nvPr/>
        </p:nvSpPr>
        <p:spPr>
          <a:xfrm>
            <a:off x="6913440" y="407520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41"/>
          <p:cNvSpPr/>
          <p:nvPr/>
        </p:nvSpPr>
        <p:spPr>
          <a:xfrm>
            <a:off x="1903320" y="3435480"/>
            <a:ext cx="2695680" cy="166680"/>
          </a:xfrm>
          <a:prstGeom prst="pie">
            <a:avLst/>
          </a:pr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2"/>
          <p:cNvSpPr/>
          <p:nvPr/>
        </p:nvSpPr>
        <p:spPr>
          <a:xfrm>
            <a:off x="1903320" y="3602160"/>
            <a:ext cx="250524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Freeform 43"/>
          <p:cNvSpPr/>
          <p:nvPr/>
        </p:nvSpPr>
        <p:spPr>
          <a:xfrm>
            <a:off x="4408560" y="3435480"/>
            <a:ext cx="190440" cy="41904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reeform 44"/>
          <p:cNvSpPr/>
          <p:nvPr/>
        </p:nvSpPr>
        <p:spPr>
          <a:xfrm>
            <a:off x="4408560" y="3435480"/>
            <a:ext cx="1200240" cy="166680"/>
          </a:xfrm>
          <a:prstGeom prst="pie">
            <a:avLst/>
          </a:pr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45"/>
          <p:cNvSpPr/>
          <p:nvPr/>
        </p:nvSpPr>
        <p:spPr>
          <a:xfrm>
            <a:off x="4408560" y="3602160"/>
            <a:ext cx="100008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46"/>
          <p:cNvSpPr/>
          <p:nvPr/>
        </p:nvSpPr>
        <p:spPr>
          <a:xfrm>
            <a:off x="5408640" y="3435480"/>
            <a:ext cx="200160" cy="419040"/>
          </a:xfrm>
          <a:prstGeom prst="pie">
            <a:avLst/>
          </a:pr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47"/>
          <p:cNvSpPr/>
          <p:nvPr/>
        </p:nvSpPr>
        <p:spPr>
          <a:xfrm>
            <a:off x="5408640" y="3435480"/>
            <a:ext cx="695160" cy="166680"/>
          </a:xfrm>
          <a:prstGeom prst="pie">
            <a:avLst/>
          </a:pr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5408640" y="3602160"/>
            <a:ext cx="49536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49"/>
          <p:cNvSpPr/>
          <p:nvPr/>
        </p:nvSpPr>
        <p:spPr>
          <a:xfrm>
            <a:off x="5904000" y="3435480"/>
            <a:ext cx="199800" cy="419040"/>
          </a:xfrm>
          <a:prstGeom prst="pie">
            <a:avLst/>
          </a:pr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50"/>
          <p:cNvSpPr/>
          <p:nvPr/>
        </p:nvSpPr>
        <p:spPr>
          <a:xfrm>
            <a:off x="5904000" y="3435480"/>
            <a:ext cx="704880" cy="16668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51"/>
          <p:cNvSpPr/>
          <p:nvPr/>
        </p:nvSpPr>
        <p:spPr>
          <a:xfrm>
            <a:off x="5904000" y="3602160"/>
            <a:ext cx="5047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reeform 52"/>
          <p:cNvSpPr/>
          <p:nvPr/>
        </p:nvSpPr>
        <p:spPr>
          <a:xfrm>
            <a:off x="6408720" y="3435480"/>
            <a:ext cx="20016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53"/>
          <p:cNvSpPr/>
          <p:nvPr/>
        </p:nvSpPr>
        <p:spPr>
          <a:xfrm>
            <a:off x="6408720" y="3435480"/>
            <a:ext cx="695520" cy="16668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54"/>
          <p:cNvSpPr/>
          <p:nvPr/>
        </p:nvSpPr>
        <p:spPr>
          <a:xfrm>
            <a:off x="6408720" y="3602160"/>
            <a:ext cx="5047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55"/>
          <p:cNvSpPr/>
          <p:nvPr/>
        </p:nvSpPr>
        <p:spPr>
          <a:xfrm>
            <a:off x="6913440" y="343548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1903320" y="5322960"/>
            <a:ext cx="5010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190332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290340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390384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490392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590400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691344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63"/>
          <p:cNvSpPr/>
          <p:nvPr/>
        </p:nvSpPr>
        <p:spPr>
          <a:xfrm>
            <a:off x="1864800" y="545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4"/>
          <p:cNvSpPr/>
          <p:nvPr/>
        </p:nvSpPr>
        <p:spPr>
          <a:xfrm>
            <a:off x="28170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5"/>
          <p:cNvSpPr/>
          <p:nvPr/>
        </p:nvSpPr>
        <p:spPr>
          <a:xfrm>
            <a:off x="381708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66"/>
          <p:cNvSpPr/>
          <p:nvPr/>
        </p:nvSpPr>
        <p:spPr>
          <a:xfrm>
            <a:off x="481752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67"/>
          <p:cNvSpPr/>
          <p:nvPr/>
        </p:nvSpPr>
        <p:spPr>
          <a:xfrm>
            <a:off x="58176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8"/>
          <p:cNvSpPr/>
          <p:nvPr/>
        </p:nvSpPr>
        <p:spPr>
          <a:xfrm>
            <a:off x="6788520" y="54594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9"/>
          <p:cNvSpPr/>
          <p:nvPr/>
        </p:nvSpPr>
        <p:spPr>
          <a:xfrm>
            <a:off x="186840" y="4869000"/>
            <a:ext cx="8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besni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70"/>
          <p:cNvSpPr/>
          <p:nvPr/>
        </p:nvSpPr>
        <p:spPr>
          <a:xfrm>
            <a:off x="160920" y="4221000"/>
            <a:ext cx="15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malih bogi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1"/>
          <p:cNvSpPr/>
          <p:nvPr/>
        </p:nvSpPr>
        <p:spPr>
          <a:xfrm>
            <a:off x="127080" y="3557520"/>
            <a:ext cx="169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bacil tuberkul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2"/>
          <p:cNvSpPr/>
          <p:nvPr/>
        </p:nvSpPr>
        <p:spPr>
          <a:xfrm>
            <a:off x="7237440" y="3057480"/>
            <a:ext cx="1655640" cy="145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3"/>
          <p:cNvSpPr/>
          <p:nvPr/>
        </p:nvSpPr>
        <p:spPr>
          <a:xfrm>
            <a:off x="7304040" y="3151080"/>
            <a:ext cx="10476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4"/>
          <p:cNvSpPr/>
          <p:nvPr/>
        </p:nvSpPr>
        <p:spPr>
          <a:xfrm>
            <a:off x="7466400" y="309888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inaparen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5"/>
          <p:cNvSpPr/>
          <p:nvPr/>
        </p:nvSpPr>
        <p:spPr>
          <a:xfrm>
            <a:off x="7304040" y="3435480"/>
            <a:ext cx="104760" cy="1141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76"/>
          <p:cNvSpPr/>
          <p:nvPr/>
        </p:nvSpPr>
        <p:spPr>
          <a:xfrm>
            <a:off x="7465680" y="33829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bla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77"/>
          <p:cNvSpPr/>
          <p:nvPr/>
        </p:nvSpPr>
        <p:spPr>
          <a:xfrm>
            <a:off x="7304040" y="3718080"/>
            <a:ext cx="104760" cy="1155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8"/>
          <p:cNvSpPr/>
          <p:nvPr/>
        </p:nvSpPr>
        <p:spPr>
          <a:xfrm>
            <a:off x="7467480" y="36655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umereno tež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7304040" y="4000680"/>
            <a:ext cx="104760" cy="1155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80"/>
          <p:cNvSpPr/>
          <p:nvPr/>
        </p:nvSpPr>
        <p:spPr>
          <a:xfrm>
            <a:off x="7467840" y="3949560"/>
            <a:ext cx="132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težak ne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81"/>
          <p:cNvSpPr/>
          <p:nvPr/>
        </p:nvSpPr>
        <p:spPr>
          <a:xfrm>
            <a:off x="7304040" y="4284720"/>
            <a:ext cx="10476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82"/>
          <p:cNvSpPr/>
          <p:nvPr/>
        </p:nvSpPr>
        <p:spPr>
          <a:xfrm>
            <a:off x="7466400" y="423216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Uobičajeni gradijent infekcije 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menj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se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tokom vremen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lepra i sifilis su u prošlosti imale veoma tešku kliničku sliku)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Promene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zahvaljujući vakcinacij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male boginje kod vakcinisanih imaju blag oblik)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Različitost i u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pojedinim delovima svet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m. boginje u razvijenom svetu imaju blažu kliničku sliku i letalitet od 0.2-0.3%, tj 100 puta niže nego u zemljama u razvoju, posebno onde gde vlada neuhranjenost i nedostatak vitamina 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756108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Kretanje mikroorganizma od svog</a:t>
            </a:r>
            <a:br>
              <a:rPr sz="2800"/>
            </a:b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Izvor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domaćin u kome živi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Kroz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sredinu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putevi prenošenja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Do novog organizma  (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osetljiva popula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11280" y="1628640"/>
            <a:ext cx="482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Fenomen ledenog brega</a:t>
            </a:r>
            <a:br>
              <a:rPr sz="2400"/>
            </a:br>
            <a:br>
              <a:rPr sz="12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Fenomen ledenog breg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označava odnos ukupnog obolevanja koji otkriva i ne otkriva zdravstvena služ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961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13744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aziva se i 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ajkulino pera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i 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uvo nilskog kon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 flipV="1">
            <a:off x="395280" y="4365720"/>
            <a:ext cx="388944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4"/>
          <p:cNvSpPr/>
          <p:nvPr/>
        </p:nvSpPr>
        <p:spPr>
          <a:xfrm>
            <a:off x="611280" y="4581360"/>
            <a:ext cx="3240000" cy="543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1042920" y="5013360"/>
            <a:ext cx="3457800" cy="4651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16"/>
          <p:cNvSpPr/>
          <p:nvPr/>
        </p:nvSpPr>
        <p:spPr>
          <a:xfrm>
            <a:off x="468360" y="4797360"/>
            <a:ext cx="2879640" cy="660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17"/>
          <p:cNvSpPr/>
          <p:nvPr/>
        </p:nvSpPr>
        <p:spPr>
          <a:xfrm>
            <a:off x="755640" y="5589720"/>
            <a:ext cx="3672000" cy="688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39640" y="5589720"/>
            <a:ext cx="3961080" cy="5950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19"/>
          <p:cNvSpPr/>
          <p:nvPr/>
        </p:nvSpPr>
        <p:spPr>
          <a:xfrm>
            <a:off x="468360" y="4581360"/>
            <a:ext cx="3672000" cy="6321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21"/>
          <p:cNvSpPr/>
          <p:nvPr/>
        </p:nvSpPr>
        <p:spPr>
          <a:xfrm>
            <a:off x="684360" y="4508640"/>
            <a:ext cx="3671640" cy="2602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22"/>
          <p:cNvSpPr/>
          <p:nvPr/>
        </p:nvSpPr>
        <p:spPr>
          <a:xfrm>
            <a:off x="900000" y="5013360"/>
            <a:ext cx="3024360" cy="785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23"/>
          <p:cNvSpPr/>
          <p:nvPr/>
        </p:nvSpPr>
        <p:spPr>
          <a:xfrm>
            <a:off x="826920" y="5300640"/>
            <a:ext cx="3673800" cy="495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4066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ajveći broj obolelih ne biva evidentiran.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ajveći deo “podvodnog dela ledenog brega”: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slučajevi koji nisu dospeli do lekar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osobe sa lakšom kl. slikom ili blagom simptomatologijom koje nisu tražile pomoć)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regledani bolesnic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, ali im tačna dijagnoza nije postavljena ili nije zabeleže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rcRect l="3913" t="4864" r="3913" b="23249"/>
          <a:stretch/>
        </p:blipFill>
        <p:spPr>
          <a:xfrm>
            <a:off x="826920" y="981000"/>
            <a:ext cx="7490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KARAKTERISTIKE EPIDEMIJA 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Z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ARA</a:t>
            </a: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Z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NIH BOLESTI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EPIDEMIJA zarazne bolesti jeste porast broja obolelih od zarazne bolesti veći od uobičajenog u određenoj populaciji i određenom vremenu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Epidemiolo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š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ka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 klasifikacija zaraznih bolesti se zasniva na ulaznom mestu infekcije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Epidemijsko javljanje može biti: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epidemija zajedničkog izvora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progr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e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sivne (propagirajuće) epidemije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eđutim, u našoj praksi je uobičajeno da se epidemije dele podrobnije na osnovu glavnog puta prenošenja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98440" y="345960"/>
          <a:ext cx="8640720" cy="6135840"/>
        </p:xfrm>
        <a:graphic>
          <a:graphicData uri="http://schemas.openxmlformats.org/drawingml/2006/table">
            <a:tbl>
              <a:tblPr/>
              <a:tblGrid>
                <a:gridCol w="2676600"/>
                <a:gridCol w="2446200"/>
                <a:gridCol w="3517920"/>
              </a:tblGrid>
              <a:tr h="132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Epidemiološka klasifikac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zaraznih bolesti (prema ulaznom mest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Tip epidem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Podela epidemija prema putu širen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jedničkog izv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drične (indirektan prenos vod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jedničkog izv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imentarne (indirektan prenos hran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tne (direktan prenos dodirom, tj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ljavim rukama i indirektni prenos prek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met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 ili zajedničkog izvora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gene (indirektan prenos vazduhom, tj. nukleosima i prašin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pljične (direktni prenos kapljica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žne i druge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aktne (direktni prenos dodir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ktors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ktorske (indirektan prenos vektori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ne, urinarne, oč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aktne (direktan prenos dodirom, indirektan prenos instrumenti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KONTAKTNE EPIDEMIJE</a:t>
            </a:r>
            <a:br>
              <a:rPr sz="3600"/>
            </a:br>
            <a:br>
              <a:rPr sz="1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1. Nema eksplozivnosti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2. Ukupan broj obolelih, po pravilu nije veliki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3.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Slučajevi oboljenja su međusobno povezani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rodbinskom ili poslovnim vezam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4. Е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idemija dugo traj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5. 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ko se epidemija prikaže grafički,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 epidemijska krivulja je plitka i razvučen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6.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Inkubacija obično odgovara trajanju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 prosečne inkubacije za tu boles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7. Е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idemija je lokalizovana na kuću, zaselak,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 deo naselja i sl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8.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Kontaktne epidemije nisu vezane za sezonu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9.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Kontaktne epidemije su uvek monotip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8920" y="291600"/>
            <a:ext cx="849636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HIDRIČNE EPIDEMIJ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1. Promena organoleptičkih svojstava vod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2. Prisustvo indikatora fekalnog zagađenja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3. Nalaz patogenih uzročnika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4. Pojava vodene bolesti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5. Produžena inkubacija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6. Eksplozivnos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7. Kontrolne gru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8. U hidričnoj epidemiji obolevaju samo osobe koje su 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konzumirale zagađenu vodu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9. Trajanje hidrične epidemije se poklapa sa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vremenom maksimalne inkubacije za dotičnu boles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10. Kontaktni rep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11. Hidrične epidemije, po pravilu, nemaju sezonski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karakter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12. Epidemije hidričnog porekla su najčešće politip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EPIDEMIJE ALIMENTARNOG POREKLA</a:t>
            </a:r>
            <a:br>
              <a:rPr sz="2800"/>
            </a:br>
            <a:br>
              <a:rPr sz="16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. Eksplozivnos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. Dramatičnos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. Kratka inkubacij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4. Kratko trajanje epidemij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5. Kontrolne grup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6. Monotipnos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7. Nalaz istog uzročnik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8. Nema kontaktnog rep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9. Sudsko-medicinski značaj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Epidemijski proces može biti: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3200"/>
            </a:br>
            <a:br>
              <a:rPr sz="32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Jednostavan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morbili)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Komplikovan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antropozoono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EPIDEMIJE  KAPLJIČNOG POREKLA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1. Brzina prenošenja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2. Eksplozivnost epidemij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3. Nagli porast i brzi pa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4. Veliki broj zdravih kliconoša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5. Sezonski karakte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6. Periodičnost ili cikličnost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7. Dečji karakte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8. Koncentrično šire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VEKTORSKE EPIDEMIJE</a:t>
            </a:r>
            <a:br>
              <a:rPr sz="3600"/>
            </a:br>
            <a:br>
              <a:rPr sz="3600"/>
            </a:br>
            <a:br>
              <a:rPr sz="16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Epidemije bolesti prenetih hematofagnim artropodama imaju izrazito sezonski karakter koji zavisi od: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- biološkog ciklusa vektora (ritam ishrane, hibernacija i sl.)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- aktivnosti čoveka (sezona poljskih radova, kampovanje itd.)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- ekoloških uslova (kišne ili sušne godine, toplija ili hladnija leta i dr.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VEKTORSKE EPIDEMIJE</a:t>
            </a:r>
            <a:br>
              <a:rPr sz="3600"/>
            </a:br>
            <a:br>
              <a:rPr sz="3600"/>
            </a:br>
            <a:br>
              <a:rPr sz="16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Komarci, krpelji i muve su najaktivniji u toplim mesecima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Vaši koje borave u naborima odeće (nejpovoljniji su hladni meseci).</a:t>
            </a:r>
            <a:br>
              <a:rPr sz="2400"/>
            </a:br>
            <a:br>
              <a:rPr sz="10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ovećanje populacije vektora je u direktnoj vezi sa povoljnim klimatskim uslovima.</a:t>
            </a:r>
            <a:br>
              <a:rPr sz="2400"/>
            </a:br>
            <a:br>
              <a:rPr sz="10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Malarija (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“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kraljica tropskih bolesti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  <a:ea typeface="Tahoma"/>
              </a:rPr>
              <a:t>”)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u velikom delu svet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.</a:t>
            </a:r>
            <a:br>
              <a:rPr sz="2400"/>
            </a:br>
            <a:br>
              <a:rPr sz="10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U zemljama Evrope najčešće transmisivne bolesti su lajmska i krpeljski meningoencefal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876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cc00"/>
                </a:solidFill>
                <a:latin typeface="Arial"/>
              </a:rPr>
              <a:t>HVALA NA PAŽNJI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rcRect l="4207" t="2619" r="4607" b="10969"/>
          <a:stretch/>
        </p:blipFill>
        <p:spPr>
          <a:xfrm>
            <a:off x="2627280" y="0"/>
            <a:ext cx="374508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Jednostavan epidemijski proces (morbil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619280" y="2851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1619280" y="342756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161928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1619280" y="457992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5128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3851280" y="306720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851280" y="364320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385128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3851280" y="479592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558000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580000" y="3067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558000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5580000" y="479592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745164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745164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6588000" y="29224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6443640" y="4363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Ne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763640" y="31384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1763640" y="37148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1763640" y="42908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 flipV="1">
            <a:off x="1908000" y="2634840"/>
            <a:ext cx="194328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 flipV="1">
            <a:off x="1908000" y="3211200"/>
            <a:ext cx="1943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1908000" y="3571920"/>
            <a:ext cx="194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4140360" y="26352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>
            <a:off x="4140360" y="32115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 flipV="1">
            <a:off x="1908000" y="429084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1908000" y="4795920"/>
            <a:ext cx="1943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4140360" y="429084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6"/>
          <p:cNvSpPr/>
          <p:nvPr/>
        </p:nvSpPr>
        <p:spPr>
          <a:xfrm>
            <a:off x="4140360" y="493884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ahoma"/>
                <a:ea typeface="Tahoma"/>
              </a:rPr>
              <a:t>Komplikovan epidemijski pro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gloda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hr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zaraze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vekto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divlji glodar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put prenošenja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1979640" y="3933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203640" y="328464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5940360" y="278136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7307280" y="393372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6443640" y="33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V="1">
            <a:off x="8172360" y="393336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8604360" y="3500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8820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V="1">
            <a:off x="8532720" y="3499920"/>
            <a:ext cx="28728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a nastanak bolesti su odgovorni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odnosi koji vladaju između:</a:t>
            </a:r>
            <a:br>
              <a:rPr sz="36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agens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domaćin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800"/>
            </a:br>
            <a:br>
              <a:rPr sz="1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Ti odnosi se mogu šematizovano prikazati kao modeli nastanka bolesti:</a:t>
            </a:r>
            <a:br>
              <a:rPr sz="3200"/>
            </a:br>
            <a:br>
              <a:rPr sz="1000"/>
            </a:b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ekološkog trijasa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  <a:ea typeface="Tahoma"/>
              </a:rPr>
              <a:t>(Gordonov trijas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, model terazija, model klackalic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br>
              <a:rPr sz="1800"/>
            </a:br>
            <a:br>
              <a:rPr sz="18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lanca</a:t>
            </a:r>
            <a:br>
              <a:rPr sz="3200"/>
            </a:br>
            <a:br>
              <a:rPr sz="1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točka</a:t>
            </a:r>
            <a:br>
              <a:rPr sz="3200"/>
            </a:br>
            <a:br>
              <a:rPr sz="1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mreže uzro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002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odel ekološkog trijas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(Gordonov trijas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Sred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Agens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Domać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3933720"/>
            <a:ext cx="2592360" cy="15130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6:17:37Z</dcterms:created>
  <dc:creator>Z V</dc:creator>
  <dc:description/>
  <dc:language>en-US</dc:language>
  <cp:lastModifiedBy>zoran velickovic</cp:lastModifiedBy>
  <dcterms:modified xsi:type="dcterms:W3CDTF">2013-12-27T06:56:59Z</dcterms:modified>
  <cp:revision>128</cp:revision>
  <dc:subject/>
  <dc:title>EPIDEMIOLOGIJA ZARAZNIH BOLESTI</dc:title>
</cp:coreProperties>
</file>