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AD3-6345-4A28-94E4-0E498C3B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E5B-163A-4B03-AC14-E922B49A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12B-AC40-4EF7-9578-C05EC3EA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E31-81A2-4D29-ACCA-35F09F4C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B3B8-DE85-4BFC-A8DF-78EA1657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7112-B62F-497B-9C2B-5CB63959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8B49-827A-479F-84CB-8EF07AC7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D50B-5009-45D4-983F-52ED62BD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AF82-C057-42C2-83FB-9320B119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A2AD-72FB-4217-9693-FA796A00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9F65-2E01-42F6-B22E-A457C4E6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814-E72E-4959-9A20-24A1F04E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EDFF-AC39-4A8F-BE07-1D7070F4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6002-CFE2-493E-9EBF-8162110F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92E0-5CA3-44EB-B478-B4C23AFC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C321-13F7-4948-B410-166F222D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3EB0-D216-4643-B716-FBFDB43B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F58-C508-4304-96C7-91481AE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916-FD66-4355-BC6C-0990C0B4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21F-5360-4BE4-889D-A7B36066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979-9BB3-4B3C-ABE3-6A030487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A51-CD19-4993-9A0E-79E1278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ACA-597C-4E15-818F-3EDB86B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69B-FC12-47C8-BE00-A18CB6F5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E151-C3B0-41B1-8C11-F00BCF01A193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56D-B826-481A-A3D5-AB5537AA2F7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9DF2-CB52-483A-B8B1-A53BB2BD164B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68B3-08AE-494E-8F6F-1B228858DFA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zročnost u epidemiologij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Branislav Petrović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1D80-D757-446D-BB15-4C0D91307E7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5D99C8-2B10-4869-9299-57568C9C859F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94920" y="533160"/>
            <a:ext cx="7086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Neophodan uzrok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– obavezno prethodi bolesti </a:t>
            </a:r>
            <a:r>
              <a:rPr b="1" i="1" lang="sl-SI" sz="1800" spc="-1" strike="noStrike">
                <a:solidFill>
                  <a:srgbClr val="ff0066"/>
                </a:solidFill>
                <a:latin typeface="Tahoma"/>
              </a:rPr>
              <a:t>(nema obolevanja od ptičjeg gripa ako nema virusa ptičjeg grip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Tahoma"/>
              </a:rPr>
              <a:t>Dovoljan uzrok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– skup, obično, nekoliko faktora koji obavezno dovode do pojave bolesti ili stanja. U dovoljan uzrok uvek je uključen i neophodan uzrok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00"/>
                </a:solidFill>
                <a:latin typeface="Tahoma"/>
              </a:rPr>
              <a:t>Neophodan uzrok = bolest (virus morbila kod neimunizovane dece uvek izaziva morbi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cc99"/>
                </a:solidFill>
                <a:latin typeface="Tahoma"/>
              </a:rPr>
              <a:t>Neophodan uzrok + ? = Bolest (Bacil TBC + socijalni faktori = tuberkuloz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66"/>
                </a:solidFill>
                <a:latin typeface="Tahoma"/>
              </a:rPr>
              <a:t>Neophodan uzrok = Bol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66"/>
                </a:solidFill>
                <a:latin typeface="Tahoma"/>
              </a:rPr>
              <a:t>Drugi uzroci = Bolest ( Bolest je izazvana većim brojem neophodnih uzroka: uvećanu slezinu izazivaju i kala-azar i leukemije, kompresije</a:t>
            </a: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sl-SI" sz="2000" spc="-1" strike="noStrike">
                <a:solidFill>
                  <a:srgbClr val="ff0066"/>
                </a:solidFill>
                <a:latin typeface="Tahoma"/>
              </a:rPr>
              <a:t>stomačnih ven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cc"/>
                </a:solidFill>
                <a:latin typeface="Tahoma"/>
              </a:rPr>
              <a:t>Nije neophodan uzrok + ? +? = bolest  (hipertenzija ne izaziva obavezno koronarnu bolest srca, ali udružena sa hiuperlipidemijom, stresom, šećernom bolešću i drugim faktorima dovodi do koronarne bole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2B8-BAFE-4720-A33B-1ABEA62B590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57AF9-D1A5-4D8D-821A-94F74B3B5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10663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Kriterijumi uzročne povezanosti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Jedan od glavnih ciljeva u epidemiologiji je </a:t>
            </a:r>
            <a:r>
              <a:rPr b="0" lang="sl-SI" sz="2400" spc="-1" strike="noStrike">
                <a:solidFill>
                  <a:srgbClr val="ffcc66"/>
                </a:solidFill>
                <a:latin typeface="Tahoma"/>
              </a:rPr>
              <a:t>UTVRDJIVANJE UZROČNIH VE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zročnost je najlakše utvrditi u eksperimentu (pod uslovom da se ne nanosi šteta ljudima) – eksperimenti vezani za preventivne m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zročnost u nastanku bolesti se utvrdjuje neeksperimentalnim studijama (deskriptivnim i analitički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D3C-EF37-4DDD-8AA1-B2E4BF5287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090B7-CB4C-45C5-AB4F-009A10BB7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HILOVI POSTULATI UZROČNO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Konzistentnost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– do istog nalaza dolazi veći broj istraživač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Jačina povezanosti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– Što je veća razlika u obolevanju izmedju izloženih osoba i neizloženih to je veća jačina povezanosti (pušači 60 puta češće boluju od raka pluća nego nepušač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Specifično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– Jedan jedini faktor dovodi do jedne bolesti (virus besnila izaziva samo besnilo). Najmanje pouzdano – proliv izazivaju mnogi uzročnici i fakto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8BB-E10F-4775-AA91-87E1BC019F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77A72-5ED1-4258-82FF-B68B59F102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18960" y="838080"/>
            <a:ext cx="7086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Odnos do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z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e i efekta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što je pretpostavljeni uzrok duže prisutan i što je stepen izloženosti intenzivniji verovatnoća efekta je veća (rizik za pojavu apopleksije je srazmeran visini krvnog pritiska i dužini hipertenzije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Vremenski sled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 – Pretpostavljeni uzrok mora da prethodi posledici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Biološka prihvatljivost (koherentnost)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 – Uzročna povezanost je u skladu sa postojećim biomedicinskim shvatanjim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Eksperiment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 – potvrda je moguća samo ako se radi o preventivnim meram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Analogija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 – ako neki agens izaziva bolest, pretpostavka je da slični agens izaziva tu istu bolest (olovo oštećuje bubrege, a pošto je kadmijum sličan olovu i on može oštetiti bubrege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481-9060-48FD-BE61-83BE4B3CB35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33F00-136F-4BF1-809C-D4A1EF1A23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Definicij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00"/>
                </a:solidFill>
                <a:latin typeface="Tahoma"/>
              </a:rPr>
              <a:t>Uzrok  (Agens)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– to je činilac koji je neophodan za pojavu odredjenog ishoda (bolest, povreda). Medjutim, njegovo delovanje nije uvek dovoljno samo po sebiv, već su potrebni i dodatni uslov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Uzrok za oboljenje male boginje je virus malih boginja, ali da bi oboljenje nastalo potrebno je da su prisutne sve karike lanca infekcij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00"/>
                </a:solidFill>
                <a:latin typeface="Tahoma"/>
              </a:rPr>
              <a:t>Faktor rizik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– povećava verovatnoću nastanka odredjene posledice (bolesti), ali nema odlučujuću i ekskluzivnu ulogu u nastanku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Faktor rizika za nastanak raka pluća je pušenje, ali pušenje ne dovodi uvek do nastanka raka pluć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3F4-6D2E-48CD-91C6-0D2D9C1455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EEC4E-F4F4-4B38-AFD0-C4FCD6AD3907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Uzrok - Age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bično se koristi u epidemiologiji zaraznih bolesti, bolesti zavisnosti i povre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Virus gripa izaziva gr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Alkohol izaziva alkoholiz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Mehanička sila izaziva povre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CFA-AC8C-4DDF-8E3D-97A403C0C7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AAD1A-2EDF-4813-93FE-53DF1C28DC52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1970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Faktor rizik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Koristi se u epidemiologiji nezaraznih bolesti, čiji su “uzroci” mnogobrojni i koji deluju zajedno (istovremeno ili sukcesivn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Pušenje, gojaznost i hipertenzija su faktori rizika za nastanak moždanog udara, ali on nastaje i kod mršavih, nepušača i onih koji imaju normalan pritis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CE5-2D6F-4049-9EF2-47A1CA3CDF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B3F4A-74BD-4BC3-ABD4-49918795D2AA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Vrste (tipovi) povezano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dnose se na uzročno-posledičnu povezan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Na rok koncertu toplotni udar više dobijaju uniformisani čuvari, policajci i drugo osoblje koje održava red, a manje razgolićeni slušaoci. Dakle, preobučenost ima za posledicu pojavu toplotnog uda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Osobe koje bosonoge hodaju oko javnog bazena češće dobijaju gljivična oboljenja od onih koji nose papuče. Dakle, hodanje bos ima za posledicu pojavu gljivičnih oboljenja staopal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 PRAKSI JE OVE VEZE TEŽE OTKRIRI, ALI PRINCIP JE I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9C4-B336-463F-B90B-7514AF3BEA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7C9E8-3A6C-4871-9D47-9E4AE4A54279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POVEZAN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 Ne postoji povezanost – dve pojave nisu ni u kakvoj vezi, svaka ima različite uzroke, učestalost i tre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66"/>
                </a:solidFill>
                <a:latin typeface="Tahoma"/>
              </a:rPr>
              <a:t>Stepen ateroskleroze ne zavisi od boje očiju ili dužine brko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034-9D17-4F83-9ADA-2BFA4FD317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7BFE6-A6DD-4F3B-9211-9045CDE8D1BA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II Postoji statistička povezan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66"/>
                </a:solidFill>
                <a:latin typeface="Tahoma"/>
              </a:rPr>
              <a:t>A. Povezanost je neuzročn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- postoji statistički značajna veza, ali ona nije naučno i logično relevantna, već je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66"/>
                </a:solidFill>
                <a:latin typeface="Tahoma"/>
              </a:rPr>
              <a:t>Slučajn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(Za vreme propagandne aktivnosti jedne partije povećan je broj porodjaja; ove dve pojave nisu u uzročnoj vezi već slučaj puke – koincidencije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66"/>
                </a:solidFill>
                <a:latin typeface="Tahoma"/>
              </a:rPr>
              <a:t>Sekundarn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– dve pojave nisu u istoj vezi, ali su obe posledica nekog trećeg dogadjaja </a:t>
            </a: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( Tamo gde se češće javljaju promrzline češće su i depresije; dakle ove dve pojave su u medjusobnoj uzročnoj vezi, što je pogrešno: i depresije i promrzline su posledica hladnog, vlažnog i tmurnog vreme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DF7-5625-4900-B13C-728118AA2A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0020F-1DB7-4716-839A-DD8C76E9E635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Uzročna povezan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Indirekt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Prelom kosti dovodi do atrofije mišića, ali ne direktno već zbog stavljanja gipsa (imobilizacije) i neaktivnosti ekstremit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Direkt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Ujed pčele izaiva otok i svrab, a ruptura aorte dovodi do trenutne smr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4F0-ED49-4673-A898-41197660CB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75FA9-A2AC-46AC-941E-2842FA0E94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Neophodni i dovoljni uzro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Princip višeuzročnosti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– jedna bolest (stanje) uvek je posledica dejstava više faktora a ne samo jednog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sva nevakcinisana deca izložena virusu velikih boginja ne obol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čovek se nije utopio samo zbog toga što je neplivač, već i zbog toga što plaža nije bila obezbedjena, spasioci su bili daleko, voda je napravila vrtlog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DCF-1A56-4989-A3A7-2A1BA71F741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8CE88-2186-4583-9EBC-FA1FA5E413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tel</cp:lastModifiedBy>
  <dcterms:modified xsi:type="dcterms:W3CDTF">2009-01-28T12:57:22Z</dcterms:modified>
  <cp:revision>4</cp:revision>
  <dc:subject/>
  <dc:title>PowerPoint Presentation</dc:title>
</cp:coreProperties>
</file>