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113D-4356-4FAA-B985-1312E2EA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3AA5-069B-4E32-9080-24C99AAF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6BF3-5D86-4B44-B64E-B2C2B99A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A1F8-525B-47C3-B0A7-28883ED43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4F685-E85E-4ABA-B0D0-DA468714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B3B28-E968-4051-A6E7-79D3E0CB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27170-BD02-48E6-9E6B-2BACCC1D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44746-9CBC-411E-B1BC-4563F6B1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84517-07D7-4734-B05E-470D9EE0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82875-2129-43D5-9D7A-5B4BDDD8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D4610-C3A7-4C0B-9328-531A7737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11DC-E9D4-4A35-ADCD-CDEF4DA6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14866-5413-424A-9298-FC9EE5DA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B8261-D259-4336-9E0B-09B78EEF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592F0-1CE3-469D-AFEE-0D99D256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0F6D1-C2BB-4FDE-9DD3-2557AE0F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DE9E1-E207-49D6-801D-9A99F379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544C-B5EC-43EF-BEFC-907C9B40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9094-6048-4467-8B17-4E29E30D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A2CB-2514-49C9-A261-6C9698E8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66D2-6EA2-4116-AB86-36EB0972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2AEE-3CD3-49AE-B3BD-E0AAE488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1409-1272-4B1A-B790-B917EF69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D6EE-E112-4DB2-9B0B-9F5F9F58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6303-E63B-432D-819E-D510421B09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D162-2169-46D7-9F82-D136990B0A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EPIDEMIOLO</a:t>
            </a:r>
            <a:r>
              <a:rPr b="1" lang="sr-Latn-CS" sz="4000" spc="-1" strike="noStrike">
                <a:solidFill>
                  <a:srgbClr val="ffcc00"/>
                </a:solidFill>
                <a:latin typeface="Tahoma"/>
              </a:rPr>
              <a:t>ŠKI TRIJAS</a:t>
            </a:r>
            <a:br>
              <a:rPr sz="4000"/>
            </a:br>
            <a:r>
              <a:rPr b="1" lang="sr-Latn-CS" sz="4000" spc="-1" strike="noStrike">
                <a:solidFill>
                  <a:srgbClr val="ffcc00"/>
                </a:solidFill>
                <a:latin typeface="Tahoma"/>
              </a:rPr>
              <a:t>LANAC INFEKCIJE</a:t>
            </a:r>
            <a:br>
              <a:rPr sz="4000"/>
            </a:br>
            <a:r>
              <a:rPr b="1" lang="sr-Latn-CS" sz="4000" spc="-1" strike="noStrike">
                <a:solidFill>
                  <a:srgbClr val="ffcc00"/>
                </a:solidFill>
                <a:latin typeface="Tahoma"/>
              </a:rPr>
              <a:t>PROTIVEPIDEMIJSKE ME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Prof</a:t>
            </a:r>
            <a:r>
              <a:rPr b="0" lang="sr-Latn-CS" sz="4000" spc="-1" strike="noStrike">
                <a:solidFill>
                  <a:srgbClr val="ffcc00"/>
                </a:solidFill>
                <a:latin typeface="Tahoma"/>
              </a:rPr>
              <a:t>. dr Biljana Kocić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PUTEVI PRENOŠE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ffcc00"/>
                </a:solidFill>
                <a:uFillTx/>
                <a:latin typeface="Tahoma"/>
              </a:rPr>
              <a:t>DIREKTNI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 (neposredn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Direktni kontakt (dodi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Kapljice nazofaringealnog sekre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Kontakt sa zemljiš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Transplacentar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ffcc00"/>
                </a:solidFill>
                <a:uFillTx/>
                <a:latin typeface="Tahoma"/>
              </a:rPr>
              <a:t>INDIREKTNI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prenos prek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Predmeta (indirektni dodi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Bioloških produk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hr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vo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vazdu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vek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DIREKTNI pren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Diretan kontak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R i osetljive osobe (rukovanje, ljubljenje, polni odnos, mas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a; ujed, ogrebotina, lizan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Kapljice nazofaringealnog sekret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(glasni govor, kašljanje, kijanje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najefikasnije prenošenje; rubeola, varičela, morbili i dr., bolesti civilizacije, u poras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Zemljište: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edak put; direktno i indirektno zagađenje; tetanus, antraks, gasna gangrena, jaja helminata i njihove larve, crevne zaraze (Salmonele, Šigele, Cl. Perf) i TBC; endemska gušavost i nefropatija, karijes; značaj u vanrednim situacij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Transplacentarni prenos: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nfekacije (sifilis, CMV, HBV, HCV, HIV) i oštećenja, embriopatija (prvi trimesta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INDIREKTNI</a:t>
            </a: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 pren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Predmeti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agađeni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(indirektan kontakt),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 (maramice, odeća, peškiri, pribor za jelo, medicinski pribor, posteljina, kvake, i dr.); otpornost u spoljnoj sredini i mala infektivna doza; kontaktne epidemije: nema eksplozivnosti, ukupan broj obolelih nije veliki, međusobna povezanost slučajeva, u kući ili delu naselja, dugo trajanje, plitka i razvuče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rivulja, prosečna inkubacija, nema sezonosti, monotipij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Biološki produkt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(krv i derivati, tkiva, organi),  efikasan put, sifilis, HIV, HCV, HBV, malarija, besnilo i d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Hran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je idealna spoljna sredina za preživljavanje i razmnožavanje uzročnika (crevne, zoonoze, respiratorne); primarna i sekundarna kontaminacija; lučenje toksina; mleko i mlečni proizvodi, meso, jaja, ribe, školjke; biljna hrana;otrovi, pesticidi, insekticidi, konzervan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revne infekcije, crevne invazivne bolesti, alimentarne intoksikacije, alimentarne toksiinfekci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limentarne epidemije: eksplozivnost, dramatičnost, kratka inkubacija, izolacija uzročnika, utvrđivanje izvora, monotipija, kratko trajanje, kontaktni rep izostaje kod intoksikacija i toksiinfekcija, kontrolne grupe, sudsko-medicinski značaj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Vod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je nepovoljna sredina; veća zagađenja uz druge povoljne faktore: agensi opstaju, čak se i razmnožavaj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entralno snabdevanje nosi rizik za hidrične epidemije ali i lokalni vodni objek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nogobrojni razlozi: kontaminacija izvorišta, crpna stanica nizvodno od ispusta kanalizacije, prodor otpadnih voda u kaptažu, prekidi u radu vodovoda i negativni pritisak u cevima, namerno zagađenje vode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enos uzročnika crevnih zaraznih bolesti ali i hemijskih i radioaktivnih agenas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Glavne karakteristike hidričnih epidemij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omene organoleptičkih svojstava vode, indikatori fekalnog zagađenja u vodi (bakterijski i hemijski), nalaz patogenih uzročnika, vodena bolest, produžena inkubacija, eksplozivnost, kontrolne grupe, kontaktni rep, odojčad ne oboleva, traje koliko i maksimalna inkubacija bolesti, nema sezonski karakter, politip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Vazduh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nije povoljna sredina, velika uloga u prenošenju uzročnika respiratornih antroponoza i zoonoz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Uzroci: konglomeracija ljudi, zatvorene prostorije, slabo vetre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enos kapljičnim jezgrima (Velsovi nukleusi: otporniji i značajni za hospitalne infekcije) i prašinom (sekundarni aerosol: TBC, difterija, antraks, bruceloza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Karakteristike kapljičnih epidemija</a:t>
            </a: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: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velika brzina prenošenja,eksplozivnost, nagli porast i brzi pad, veliki broj zdravih kliconoša, sezonski karakter, periodičnost i cikličnost, dečji karakter, koncentrično šire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Vektori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rtropode, zglavkari, u klasi insekata (komarci, muve, buve i vaši) i klasi pauka (krpelji i grin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Mehanička ulog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(muva-crevne bolesti), gde uzročnik ne prolazi ni kroz jedan stadijum svog razvoja, 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biološka ulog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(uzročnik prolazi kroz deo ciklusa razvoja ili se razmnožava, vektor postaje zarazan, čak transovarijalno prenošenje);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inokulacij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(komarci anofeles-malarija, kuleks-filarijaza, flebotomus-lajšmanijaza, papatači groznica; krpelji-lajmska i meningoencefalitis) ili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kontaminacija pegavac-vaši tel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Donor, uzročnik, vektor, recep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ahoma"/>
              </a:rPr>
              <a:t>Ulazno mesto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 (vrata),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mesto prodora mikroorganizma u domaćina; koža (povređena) i sluzokož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Glavno i sporedno (uobičajeno mesto prodora?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Jedno (tetanus) ili viš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tularemij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Uzročnici ostaju na nivou ulaznog mesta ili idu dalje u organizam, čak tropiz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Obeležavanje ulaznog mesta (TBC, sifilis, tularemija) ili ne (HBV, HCV, HIV, polio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Koža: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vektorske bolesti (malarija, lajmska), zemljištem (tetanus, gasna gangrena), vodom (leptospire paraziti), kontaktom (gljivičn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Tahoma"/>
              </a:rPr>
              <a:t>EPIDEMIJSKI PRO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Javljanje, održavanje i nestajanje bolesti u humanoj populacij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Rasprostranjenost infektivnog procesa u ljudskoj zajedni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Kontinuitet epidemijskog proce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Intenzitet i slože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Sluzokože</a:t>
            </a: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espiratornog trakta: glavno (morbili, streptokok, stafilokok, rubeola) i sporedno (kuga, antraks Q grozni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Digestivnog trakta: glavno (tifus, polio, dizenterija) i sporedno (antraks, bruceloz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idljive sluzokože (genitourinarni sistem i konjuktiv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ffcc00"/>
                </a:solidFill>
                <a:uFillTx/>
                <a:latin typeface="Tahoma"/>
              </a:rPr>
              <a:t>Epidemiološka klasifikacija zaraznih bolest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(na osnovu ulaznog mesta): respiratorne, crevne, vektorske, kožne, infekcije rana, očne, urogenitalne i ne klasifikovane (HBV, HCV, H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Tahoma"/>
              </a:rPr>
              <a:t>OSETLJIV DOMAĆ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erovatnića zaražavanja i obolevanja domaćina: dispozicija, ekspozicija i nivo kolektivnog imunite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ffcc00"/>
                </a:solidFill>
                <a:uFillTx/>
                <a:latin typeface="Tahoma"/>
              </a:rPr>
              <a:t>FAKTORI DISPOZICIJE I EKSPOZICI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Uzrast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(vrsta i težina bolesti) (deca, odrasli, star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Pol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(zoonoze, genitourinarn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Rasna, etička i verska pripadnost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(sida, trihineloz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Zanimanj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(zoonoze, HB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Socijalno-ekonomski položaj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(način života, stanovanje, higijena), Mt odojčadi, respiratorne, crevne, šuga, vašljiv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Ishran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(kvantitativan i kvalitativan deficit, dojenje-zaštita 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izik, vit 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Psihičke i fizičke traum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(recidiv malarije, epidemijski meningitis, TBC osteomijelitis, paralitički poli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Umor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(epidemije meningitisa u vojnika, klinički manifestni polio u de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Druge bolest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(male boginje, veliki kašalj, nazeb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KOLEKTIVNI IMUNIT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Otpornost grupe ili zajedn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načajan za pojavu epidemi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spitivanje stepena K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omenjljivost broja imunih u populaciji (smanjenje ili povećan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Ocena stepena KI (serološki, kožne probe-difterija, šarlah, TBC, bruceloza, tularemija, epidemiološko ispitivan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MERE ZA SPREČAVANJE POJAVE</a:t>
            </a:r>
            <a:r>
              <a:rPr b="0" lang="sr-Latn-CS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ZARAZNIH BOLESTI</a:t>
            </a:r>
            <a:br>
              <a:rPr sz="2400"/>
            </a:b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(Profilaktičke mere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sr-Latn-CS" sz="2400" spc="-1" strike="noStrike" u="sng">
                <a:solidFill>
                  <a:srgbClr val="ffcc00"/>
                </a:solidFill>
                <a:uFillTx/>
                <a:latin typeface="Tahoma"/>
              </a:rPr>
              <a:t>Profilaktičke mer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su one mere koje se preduzimaju u cilju sprečavanja pojave obolevanja od ma koje zarazne bolest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ofilaktičk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er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-opš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ofilaktičk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-specifične (posebne) profilaktičke m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Opšt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profilaktičke mere su uglavnom sanitarno-higijenske mere, čijim se sprovođenjem sprečava nastanak više bolesti, odnosno grupe bolesti.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Specifičn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profilaktičke mere su strogo specifične mere koje su usmerene na sprečavanje određenih zaraznih bolest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ffffff"/>
                </a:solidFill>
                <a:uFillTx/>
                <a:latin typeface="Tahoma"/>
              </a:rPr>
              <a:t>Ove mere mogu se grupisati u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ere istraživ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ere profilak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ere suzbijanja (protivepidemijske me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odstranjivanje (eliminacija, likvidacij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skorenjivanje (eradikacij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ffcc00"/>
                </a:solidFill>
                <a:uFillTx/>
                <a:latin typeface="Tahoma"/>
              </a:rPr>
              <a:t>Mere istraživanj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sprovode se u cilju ispitivanja osobina agensa, domaćina i sredine za pojavu neke zarazne bolesti, kao i  faktora bitnih za održavanje ili čestu pojavu te bolesti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ffcc00"/>
                </a:solidFill>
                <a:uFillTx/>
                <a:latin typeface="Tahoma"/>
              </a:rPr>
              <a:t>Mere profilaks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preduzimaju se u cilju zaštite stanovništva od pojave makar i jednog slučaja obolenja od određene zarazne bolest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ajznačajnije mere specifične profilakse su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munoprofilaks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vakcinoprofilaksa I seroprofilaks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hemioprofilak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ofilaktička dezinfekcija, dezinsekcija i deratiz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otkrivanje i obeskličavanje nosilaca uzročnika zaraznih bole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dravstveno vaspitanje stanovništ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MERE ZA SUZBIJANJE ZARAZNIH BOLESTI</a:t>
            </a:r>
            <a:br>
              <a:rPr sz="2400"/>
            </a:b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(Protivepidemijske me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provode se pri pojavi jednog ili više slučajeva zaraznih bolest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ilj sprovođenja ovih mera je da se spreči dalje širenje zarazne bolesti na osetljive osobe iz okoli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o su strogo specifične medicinske me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U ove mere ubrajaju se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ijavljivanje i obaveštava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epidemiološko ispitiva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dijagnostikovanje zaraznih bole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laboratorijsko ispitivanje uzročn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zolacija, bolničko ili kućno lečenje i prevo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arantin i zdravstveni nadz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epidemiološki nadz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munizacija i hemioprofilaksa po epidemiološkim indikacijam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dezinfekcija, dezinsekcija i deratizacija po epidemiološkim indikacijam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ahoma"/>
              </a:rPr>
              <a:t>MODELI BOLESTI i njihov značaj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Tahoma"/>
              </a:rPr>
              <a:t>Gordonov trijas (agens, domaćin i sredin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Tahoma"/>
              </a:rPr>
              <a:t>Model vage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ili </a:t>
            </a:r>
            <a:r>
              <a:rPr b="0" lang="sr-Latn-CS" sz="2800" spc="-1" strike="noStrike">
                <a:solidFill>
                  <a:srgbClr val="ffcc00"/>
                </a:solidFill>
                <a:latin typeface="Tahoma"/>
              </a:rPr>
              <a:t>ekološki trijas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(ravnoteža-dinamički ekvilibriju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Tahoma"/>
              </a:rPr>
              <a:t>Model točka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(domaćin, biološka, fizička i socijalna sredin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Tahoma"/>
              </a:rPr>
              <a:t>Lanac infekcije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(infektivni agens, rezervoar i izvor zaraze, izlazno mesto, putevi prenošenja, ulazno mesto i osetljiv domać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Tahoma"/>
              </a:rPr>
              <a:t>Mreža uzročnosti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(višeuzročnost i interakc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INFEKTIVNI AG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ivi uzročnici zaraznih bole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Bakterije, virusi, rikecije, gljivice, protozo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rogi (obligatni) paraziti:male boginje, sifilis, besnilo i d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ive i van domaćina, ali se ne razmnožavaju: velike i ovčje boginje, TBC i d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an domaćina u povoljnim uslovima mogu se razmnožavati: kolera, bacilarna dizenterija id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Često su van domaćina: stafilokok, streptok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nareobi čije su spore redovno u prirodi: tetanus, botulizam, antrakas, gasna gangrena; gliste, veliki metilj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ahoma"/>
              </a:rPr>
              <a:t>LANAC INFEKCIJ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Patogenost: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sposobnost agensa da izazove manifestnu bolest u osetljivoj populaciji izloženoj njegovom dejstv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O/I</a:t>
            </a: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=klinički oboleli/agensu izloženi osetljiv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Infektivnost</a:t>
            </a: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: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sposobnost agensa da prodre u organizam domaćina, da se održava i razmnožava u njemu, tj. lakoća kojom se bolest prenosi, sinonim 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kontagiozn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Z/I</a:t>
            </a: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=zaraženi/izloženi osetljiv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Virulencija: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stepen patogenosti, sposobnost da izazove manifestnu bolest u inficiranom domaćin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O/Z</a:t>
            </a: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=klinički oboleli/ukupan broj zaraženi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Invazivnost</a:t>
            </a: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: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adherencija, prodiranje, razmnožavanje i širenje agensa u domaćin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Toksičnost: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oštećenje tkiva domaćina pod dejstvom toksina; promenljiva osobina u oba sm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Infektivna doza (inokulum):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minimalna količina agensa koja je neophodna da izazove oboljenje (kolera, Q groznic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ahoma"/>
              </a:rPr>
              <a:t>REZERVOAR I IZVOR ZARA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Rezervoar: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rirodno stanište infektivnog agensa (živi i razmnožava s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Izvor zaraze je uži poj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Ljudi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kao R i I: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antropono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Životinje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kao R i I: zooantroponoze (profesionalna izloženo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Neživa priroda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kao R: zemlja, vo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Aktuelnost u različitim stadijumima bole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nkubacija (male bogin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odromalni stadij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azvijena faza bolesti (tipično, atipično, latentno-skriveno, unaparentno-besimptomno, teške form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ekovalescen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Kliconoštvo (nosilaštvo):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prisustvo u domaćinu, bez vidljivih manifestacija bole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dravo (asimptomatsko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nkubatorno i rekovalescent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ivremeno (tranzitorno) i hronično, čak doživot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Epidemiološki značaj: R i I, endemizacija, prijavljivanje i kartoteke, kontr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nalogija kod životinj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IZLAZNO MES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z domaćina sekretima (pljuvačka, suze, mleko) i ekskretima (stolic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mokraća, gnoj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1. KOŽ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(intaktna, povređen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2. SLUZO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</a:t>
            </a: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OŽ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(respiratorna, digestivna, genitalna, urinarna, konjuktivaln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07:27:15Z</dcterms:created>
  <dc:creator>Intel</dc:creator>
  <dc:description/>
  <dc:language>en-US</dc:language>
  <cp:lastModifiedBy>parazitologija1n</cp:lastModifiedBy>
  <dcterms:modified xsi:type="dcterms:W3CDTF">2014-05-15T09:01:00Z</dcterms:modified>
  <cp:revision>72</cp:revision>
  <dc:subject/>
  <dc:title>MEĐUNARODNI ZDRAVSTVENI PRAVILNI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